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C658D-6DBF-4ECE-80A5-E958D045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310A7-8A48-4BED-873B-B92DAC9B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E1B05-5A5D-4465-83E6-9A811F23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EC95F-A96C-4D3A-8445-2626D9E0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4DF6E-6FF3-48AD-B024-7B75E5BB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5212F-56EB-49A7-86B4-6B1FF8F9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F2DA9-46FD-462F-AB77-34EE7AD8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9BE7C-6ACC-4E66-BC32-292F57B80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5B14D-1C68-49FF-85A2-E405CE610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4FBA1-8999-4FBF-AC61-26FDAB94D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2AE54-04B4-4A25-8592-6193B03D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19B4E-E3F0-49FF-98CB-F48F6120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77AB2-3EEE-4D98-A706-AC98B3CA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3968C-2E0D-42E8-95D1-8F3662D2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D1522-2B94-432D-B5A9-FD4B0401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BC773-E597-440D-A8E3-F6C4CCEB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7D24F-0F5A-4D7B-AD93-56B3B2CF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B4655-54F2-4080-8F1F-0C9FCB9C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DBAD7-F8DF-4FE1-84BF-8C9EC70E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53445-AD9F-4558-9AFC-88ECA26F3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18979-7D54-4629-AF6D-21F5CDD74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5B05CE-3DF7-49A0-A73C-EAAABFEA0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9CCE7-8AF8-432D-AEB0-EA6EC5CE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441A32-925C-4717-9042-67F512D3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CB0B6-E47C-4821-AC63-2F820D78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E33962-C77C-4951-8CE5-0E279B11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08150F-1DF6-49EB-9BD8-F0A6EE84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FC605B-3A39-48C3-BE5E-08B16627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CBCF8-DD1B-424E-8B81-30C626AB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01D93F-9923-4124-8758-925A5834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7EF8-EA5B-40B8-8980-848283F21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54AAB7-7136-4E7F-973F-A5EE4D6C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289E5B-BDC4-4DB1-B3C5-B5D24BE80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BE90D-CD58-4788-B254-077BE3898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6CDD5A-08AA-4610-BDDD-2AD5648D2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3D96BF-2947-450C-A65B-A99A6775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B80D69-6AF4-481D-9C08-D77CA3DA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8ED9A5-12E4-41EE-823E-AE874CC0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AAB991-85CD-476D-BDC9-1937122E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41078B-7A11-4EEB-BC41-062C2D1B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043D92-D83A-493B-A3CB-3A2F6154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4394-4809-4E9E-A1D3-11283178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BEDAE8-E61D-4630-B7CF-6A1A3D9B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EA0468-7367-483D-9D9A-B1BDC907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69D840-6996-4838-865E-24FEAEF9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C5FECE-0C9C-4A7F-A5C2-97C3544D3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B5475E-CA53-49FF-B28B-8DF3BA8B8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95F50-5EEB-4E3B-B228-6A492F25B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270FF-EF7D-4A47-A62C-9A53BDB0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91EFC-ED76-4775-90B7-2E0767BC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BB16B-46DB-4FC2-AAB1-2D13D867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C75E0-AF89-4F3B-8051-EC6FD490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530A-D267-4117-ABE0-F0BC7984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601D5-C427-4053-AAFF-25938D87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FA5E2-60BE-49DA-B9DF-7ED3D650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F478A-2833-4644-AA4C-93C5F3A1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C7694-89C3-4009-A51B-B465D070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8E158-134D-42E9-9834-F72FCCDC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3E7486-D02F-4206-ACFE-E5520CE95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DDC30-3FED-44DA-806F-22E77CBE5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46593D-55EC-4341-9072-42EFE64EA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F1C05F-9B48-476C-8537-058E862C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9A0A20-86CC-4C27-8E8A-89BD5575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FAD4-91A9-45D6-A70E-386467B0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0201D2-9F23-4DCF-BC74-45488F1E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E50CD2-6CD6-4FA9-9566-46D75D6A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BA90A6-7CF1-43B4-BB38-9F17CCC1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D0EF13-BF86-4478-991A-C34D427F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916951-5337-4593-913F-086E0359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A56975-7A87-4018-8FD5-53708B09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3C515B-E03C-471B-AFC9-1F6EF80E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D0897F-673D-4C19-A1E0-95891CC60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976722-62B9-453D-AAB9-732AA121D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A1AC-DA4B-4DF3-9568-87140D00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04CF-75D5-40E0-ADA2-ECFD2A65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8EFA-DA8E-4BEA-81A5-4A58943A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F89D-C2A4-41E9-8069-B73F66F3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9706-127C-48C4-AACC-FA4C6070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5A98-5DC3-4F0D-94F2-ADDDE737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8539-6A16-4EC8-AD21-4C839E5A1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C03E-36ED-4364-BD61-50B757C7C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22E0-BF45-425C-9D04-B99808E17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543F-B0DB-4251-8557-708D0CE4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8373-822A-4EB3-A13B-E332DFBC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4E7F-F741-4897-8F0C-D6A052DD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BA7C-C73E-46C9-9B8A-01B3ECDC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2691-3C0A-4C2F-91FF-4706435C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A4CD-C638-477E-AD7C-72A1D18E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54BFB-D49A-4915-8646-EFEB2420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4E8B-BC60-4F42-B840-00D4A98B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1123-6FD1-4F8E-98D6-3F7D8610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A2BC-9031-4430-A21D-31B05E496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DAC0-C5F9-43BC-9826-A34B72E33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6597C-5932-45F3-9CDD-1D3DB64FD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1BCA9-5256-4D41-8E95-F56B36D6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5F21A-3FB9-48A5-9387-C1E638C7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51245-EDCF-4190-9E6A-EF2229F9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86E6C-8193-4934-A0E5-7AD085EB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4B0D6-408B-4DA1-A834-A5304075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C15A5-014C-40AC-B978-CC4B862F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C2D10-8355-4E6F-9170-AF51ED6A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1FD42-2A8B-41B1-947E-32C9F928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3699F-8211-42D8-AD74-BC9BE271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BC086-AB01-4DF2-A687-2945F6AD8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7EDE9-FF74-4F00-B5D4-B36084516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6B347-CB5E-4C80-9B7E-055CDDB1C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42E48-1BAA-4E67-A96C-1C5BB1BF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B0B82-749C-4871-882F-EB71CF8F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53201-ADEF-4549-B459-418F11CD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38B9A-3CD7-4320-9969-A0F5D9E3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C5A22-7746-49E5-93B3-208B2DB6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7B5EA-EEDC-449C-9177-9F55213A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35A4C-46C7-4BEE-B4CE-D418016D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B796B-C18B-41EF-AD98-415EE4CF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4B349-4E7D-41FC-8BD7-441D48EC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C3937-A0DF-443E-95F6-9D2085D05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FA2DE-7999-40C0-BD38-38DE4F250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D969F-3E37-4BED-BC59-116DF1495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131AD-73F2-4C24-AD2B-C6C2B7CA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F9926-D79D-4EB9-B950-236AB899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CFC4B-990E-4EAF-9F33-AE2D9D94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AF5DD-63E9-40D8-A387-227E6F5B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694C8-67F3-4587-89E7-84D99C84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4FAA5-B92F-4529-B8D6-E38829F5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DC7F1-4712-4995-B834-405F59DD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FB752-3388-494C-B42C-155C7BBE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13D4F-042D-438E-A0C4-963E78CC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49EC5-9B8D-46FE-B2C1-055E70AE1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DEF23-C6A9-4C40-8F63-C0B1CCA38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6D2B0-6EC6-486C-8054-E2FE6FDBC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E3C97-2780-42EE-841A-9B06A24A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BBDE2-9CB0-4DA5-B244-07871EAD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D7A11-1F22-4135-A571-1C95353E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C819F-6BBC-41B9-8EFF-A4271754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C3344-8637-4569-B0E9-40334E12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7D119-D55F-4162-8F02-7462CAFA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D1CC8-AB87-44AB-A437-1002D19C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15300-D200-47B6-A8E8-D24B210D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7E11B-49E0-4574-B73C-16E9EA6C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A4D4F-4B43-4DD5-9AF5-12E0C633A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AFA9B-5806-43DF-9941-EFC56DF4A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E4CC3-F949-4046-9DA1-0B26DC1C7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A6EEC-CFBD-474F-872A-E3AF9815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A2984-FE32-40A4-A4AB-89F90F1E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457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523520"/>
            <a:ext cx="731520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690840" indent="-26568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06272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48788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7CE3-7596-4E90-8EDF-43AF5A8C4A4B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118E-52E8-4477-92E5-D2BE1A64B03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071B-6ED1-4A53-AA9E-85888AD62AD4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01BE-088C-4C68-817A-4FBA4B2454D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0330-21C7-4805-A91A-44B3D948793E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2E4D-F6D3-4ABB-9C7B-C78810FF908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DE01-468C-42A8-83EB-F51DBE1E3584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07E7-A71D-4AA7-832C-AF34C2B9CF3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14B1-B04E-4F14-AC86-5495D9F6DACF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5D34-96FE-47E5-8AD6-1DF09829CB6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0F0B-1464-43CF-9E12-FC54F5586E7A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0857-DA99-4CF7-A6CA-3483176D0E1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320" y="457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066680" y="1523520"/>
            <a:ext cx="731520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690840" indent="-26568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06272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48788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56F7-234E-4A38-A316-A07F83BBDD25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232E-8132-408A-AF2F-6F6FF885753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D823-9BAD-4F64-9485-C00D8655C79E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1C3F-D67C-49C4-959E-5B5E27F21D0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7BF4-C5E5-4824-94ED-07F1BBE3C077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A98B-0F7E-457E-9BD0-B1E01020CAB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C9AA-D346-47AA-BE8E-D4E1FEAC58A5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A5AB-4333-4DB9-BB2E-7E6631B0DC7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F053-CE7F-4016-AD0C-8CC64C3E74BB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0CAF-C729-413C-AC95-484793A955B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5F25-072A-435D-AF23-7ADEAF9F4EBA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BF18-96F5-4AE2-B707-E0B9BAF77A1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106668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Microsoft Sans Serif"/>
                <a:ea typeface="宋体"/>
              </a:rPr>
              <a:t>单击此处添加副标题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Microsoft Sans Serif"/>
              </a:rPr>
              <a:t>数据线</a:t>
            </a:r>
            <a:r>
              <a:rPr b="0" lang="zh-CN" sz="3600" spc="-1" strike="noStrike">
                <a:solidFill>
                  <a:srgbClr val="ffffff"/>
                </a:solidFill>
                <a:latin typeface="Microsoft Sans Serif"/>
              </a:rPr>
              <a:t>usbppt</a:t>
            </a:r>
            <a:r>
              <a:rPr b="0" lang="zh-CN" sz="3600" spc="-1" strike="noStrike">
                <a:solidFill>
                  <a:srgbClr val="ffffff"/>
                </a:solidFill>
                <a:latin typeface="Microsoft Sans Serif"/>
              </a:rPr>
              <a:t>演示模板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990720" y="1069920"/>
            <a:ext cx="723888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d4d4d"/>
                </a:solidFill>
                <a:latin typeface="Microsoft Sans Serif"/>
                <a:ea typeface="宋体"/>
              </a:rPr>
              <a:t>单击此处添加内容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title"/>
          </p:nvPr>
        </p:nvSpPr>
        <p:spPr>
          <a:xfrm>
            <a:off x="76320" y="216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981080" y="73800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9343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d4d4d"/>
                </a:solidFill>
                <a:latin typeface="Microsoft Sans Serif"/>
                <a:ea typeface="宋体"/>
              </a:rPr>
              <a:t>单击此处添加内容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57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20:13:27Z</dcterms:created>
  <dc:creator>SmileTemplates.com</dc:creator>
  <dc:description/>
  <dc:language>en-US</dc:language>
  <cp:lastModifiedBy>a</cp:lastModifiedBy>
  <dcterms:modified xsi:type="dcterms:W3CDTF">2014-12-21T03:40:42Z</dcterms:modified>
  <cp:revision>21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