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12099-AB27-44A0-855F-58FABF17B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B86C39-899A-4BF3-B424-B85267AE7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E7D9-33E7-46A5-AF05-3F8C4513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12EF0-88DF-473D-96A0-C180125E5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7125-277E-48E0-9A7E-60880C9E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9E94F-6B8C-408D-AB65-A2792A78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DF210-C564-40CE-97EE-537A37F4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05921-C963-4315-8A3A-02338E7A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1352-7C9D-43F1-8EFF-08D50E3E7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52239-1BBE-4366-BCB0-DEF10900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E3D85-B2C8-480C-95D0-6D591709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35C44-3F40-43DE-AD35-45BC44356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FE96-80CD-4713-A107-2BD5553AFAA3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3"/>
          <a:stretch/>
        </p:blipFill>
        <p:spPr>
          <a:xfrm rot="6300000">
            <a:off x="147600" y="6487200"/>
            <a:ext cx="203400" cy="420840"/>
          </a:xfrm>
          <a:prstGeom prst="rect">
            <a:avLst/>
          </a:prstGeom>
          <a:ln w="0">
            <a:noFill/>
          </a:ln>
        </p:spPr>
      </p:pic>
      <p:pic>
        <p:nvPicPr>
          <p:cNvPr id="5" name="Picture 7" descr=""/>
          <p:cNvPicPr/>
          <p:nvPr/>
        </p:nvPicPr>
        <p:blipFill>
          <a:blip r:embed="rId4"/>
          <a:stretch/>
        </p:blipFill>
        <p:spPr>
          <a:xfrm rot="2400000">
            <a:off x="498600" y="6423120"/>
            <a:ext cx="244440" cy="3744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"/>
          <p:cNvPicPr/>
          <p:nvPr/>
        </p:nvPicPr>
        <p:blipFill>
          <a:blip r:embed="rId5"/>
          <a:stretch/>
        </p:blipFill>
        <p:spPr>
          <a:xfrm rot="3060000">
            <a:off x="593640" y="6616440"/>
            <a:ext cx="209520" cy="1713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9" descr=""/>
          <p:cNvPicPr/>
          <p:nvPr/>
        </p:nvPicPr>
        <p:blipFill>
          <a:blip r:embed="rId6"/>
          <a:stretch/>
        </p:blipFill>
        <p:spPr>
          <a:xfrm rot="5760000">
            <a:off x="36360" y="6668640"/>
            <a:ext cx="228600" cy="1908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dt" idx="3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深蓝花纹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a</cp:lastModifiedBy>
  <dcterms:modified xsi:type="dcterms:W3CDTF">2014-12-31T04:44:47Z</dcterms:modified>
  <cp:revision>32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