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809-2AD4-4FE3-BAEB-47BEACA8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963-CDFB-4A43-BFB3-4522A15E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E5C-3353-4D7F-8D77-0BBFB1D8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298-F03C-44F3-8E41-EF7FBD62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000-A087-4486-8805-CA5D8E43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F1E-FEEE-46EA-A72B-6DB6697E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C71-C068-4BD7-BF6D-ADB50A7D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4FA-43AF-4196-BB12-263B583F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9FF-D1C2-4E55-9B04-A5B14AE7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9A6-BBDC-48B1-847E-8F34838A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0D4-934D-43DB-99D0-289D3E92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BC6-8419-4274-9240-C432B4F6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84AE-9792-4332-AA12-EEB22E138B1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4304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深蓝卡通圣诞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420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单击此处添加内容</a:t>
            </a: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1:34:34Z</dcterms:created>
  <dc:creator>Admin</dc:creator>
  <dc:description/>
  <dc:language>en-US</dc:language>
  <cp:lastModifiedBy>a</cp:lastModifiedBy>
  <dcterms:modified xsi:type="dcterms:W3CDTF">2014-12-26T05:17:02Z</dcterms:modified>
  <cp:revision>2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