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44C-403C-4CB1-AA74-E20A08FD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DA9-0551-4A00-B504-BE3E4EF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2C8-79C0-4A6E-95A2-5626CFDD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FFF-110F-4097-BE94-839CDDA0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5320-FE54-4D82-B7BE-73E0189A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60A3-2973-492D-8F36-4E597E2C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60B6-D2B2-45BB-A089-7388ECEE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0E24-71C7-4A9E-9526-ABF81B6C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A608-F8F7-48FB-AA37-C35D16E6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06CB-3DF0-4E6F-8B41-BB970985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A970-8062-424E-AC4B-725551D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399-C475-4CB2-9E0E-53583864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C062-94AA-4C2A-B4E0-AB87F6E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84C8-25C8-4005-B88A-75EA4560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9209-1F24-4CE1-B6AA-2B59E281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7B66-C1A4-4E9B-AB72-A5F14396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9BF0-6970-4C6E-B465-05D1529A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71B7-10CE-43C1-87A5-D28D798F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4BEF-DBB1-4C02-804D-55ABAF2B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E927-B33E-4D7E-A27E-AD0F7F86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1AD6-1966-4501-B3EC-0CCE434C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66F9-60B0-4C25-BD0D-AD8A9C9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490-5E35-4164-A105-564A9E14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6D21-46A3-43D7-B995-91FAD53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0CC7-F54A-4B52-B324-63FE9B5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F51B-FE07-41C3-8144-EC5A2359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FFB4-0025-4C2C-B726-0DCEED1C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882C-58F3-495D-A96B-F5757F9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D589-90E5-44A3-8A94-952A3C85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E36E-EDED-4406-B050-BEFD735E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384-89DF-43E9-9DDF-192307C4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176-BE98-46F5-B9D8-8DF5240A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B96-944B-4915-8FDC-6EE934BB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DAD-7FDE-4B24-803D-DA59403C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BFF-F5C5-40E7-A1B2-B6A07F0F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EB6-A228-4B17-9F0C-4BC9625D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8120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8120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446-DF1E-45B1-B29A-A178E2E9A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8120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EC5-20F9-4601-99AB-5F39FFE38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9CDA-AB56-4992-8234-77E8C1BC391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528E-0F41-4E77-B4AA-2CBE087BCC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绿色地球地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81200" y="2743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8120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GB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GB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GB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Geetesh Bajaj</dc:creator>
  <dc:description/>
  <dc:language>en-US</dc:language>
  <cp:lastModifiedBy>a</cp:lastModifiedBy>
  <dcterms:modified xsi:type="dcterms:W3CDTF">2014-12-26T05:20:16Z</dcterms:modified>
  <cp:revision>45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