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50A3B-4C0B-4AE7-AC7D-7EAEC450F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D75D7-18E5-44BB-BC1C-EFCBD85A9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7634B-E917-4256-B390-6829F8BCE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8CA67-FE7C-4AAC-A132-C0AD7019D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F732C-4379-4B08-BB74-420541A42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3F09F-80D3-4A34-B374-0A5DE4B1F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2BC37-BF09-4AD6-9B61-1BE561B18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5D493-A123-46FD-9CC4-CAFE847C5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34044-2928-434E-B190-5D2BB0616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A3470-9B0F-436E-8EE4-9AFAB4A3E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429CD-E35C-4E9C-B864-F9DEAA9DF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A162A-8BE9-4B0C-B13D-6085E8B92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29F61-49F9-4952-A4EE-504222476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21D4D-35DA-4885-8C0E-DB4C30972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68ED3-4EDF-4A2D-AB45-0880D5765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56074-92AD-4004-94F4-9BBDE93B6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1FC04-FA7B-4119-ACD9-E9ADD0FF2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A8C39-EEFF-4029-97EE-F98E3C3E9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38975-8C06-4B88-BF6E-A0587257A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84B24-9BFC-40B3-A16D-FCD1D9D15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5AF63-3582-437C-A00D-EAA8D963C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ABBD1-FC8D-4CC7-9E0E-486FF6DDA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DEDA1-E98A-4BA8-96B2-2DD625DEE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B0B65-E5D6-4CBA-B392-9B89907CA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246A1-B039-4947-88E9-E1E71BC6BFA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10A7C-67EC-43EC-AA3B-72668A0D90F8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115EA-7B87-445E-800D-6491607A6DC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9640" y="3860640"/>
            <a:ext cx="7772400" cy="103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水墨中国画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模板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539640" y="5013360"/>
            <a:ext cx="6400800" cy="96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27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8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1T15:20:24Z</dcterms:created>
  <dc:creator>Administrator</dc:creator>
  <dc:description/>
  <dc:language>en-US</dc:language>
  <cp:lastModifiedBy>a</cp:lastModifiedBy>
  <dcterms:modified xsi:type="dcterms:W3CDTF">2014-12-26T05:20:34Z</dcterms:modified>
  <cp:revision>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