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87B-6BDD-4DD4-9EEE-0F5FB68E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63F-99B3-4511-8D55-2E7EBA16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837-B165-4C60-B62B-FDB25202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61A-53F7-4DAB-AB99-41630CE6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EC7-0CC8-441B-9DBA-FF54169E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216-21EE-4927-93CD-83EF5929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7C8-4399-4A9F-B8F6-9D1AF9E9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4DD-C0C7-497A-9C75-F4A0729D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5CF-6084-4D8E-B1FF-6907CFA2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218-F7DF-4C89-852F-675404F4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0F9-979F-4BD7-B23E-EDD699E6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8D1-EAC4-41D0-AD5D-F83D1764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59F9-85A3-4877-BB40-80ECE696E1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265-17F4-4737-A825-3B0C9B5517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4280" y="4357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商务未来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3284280"/>
            <a:ext cx="77612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it helps software users and provi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8920" y="3860280"/>
            <a:ext cx="75708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een recording software to save your time and cost to create software video tutorials, presentations, online software training and visual online he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0" y="1143000"/>
            <a:ext cx="568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451f"/>
                </a:solidFill>
                <a:latin typeface="Tahoma"/>
              </a:rPr>
              <a:t>How DemoCreator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2071800"/>
            <a:ext cx="640080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ord the actions taken on the ap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 Record mouse movements and keystro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cord narrations as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dd balloons, highlights and animations to enhance the video tuto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ublish to Flash movie, auto-running CD/EXE, LMS and email with AICC/SCROM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68000" y="3357360"/>
            <a:ext cx="54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3:21:24Z</dcterms:created>
  <dc:creator/>
  <dc:description/>
  <dc:language>en-US</dc:language>
  <cp:lastModifiedBy>a</cp:lastModifiedBy>
  <dcterms:modified xsi:type="dcterms:W3CDTF">2014-12-15T17:42:47Z</dcterms:modified>
  <cp:revision>2</cp:revision>
  <dc:subject/>
  <dc:title>Wondershare DemoCreat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