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671-31F1-4A1D-ACED-A03F423F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9A3-FD24-45E4-A9C7-4D26D936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C790-0903-4E68-AA0D-420E2EE2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D17-BE44-466C-A285-1EEDC976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560-6F2A-4D8D-859C-B95D3E6E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3F14-B6ED-4FEF-8885-315A486E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45E-4DF9-450C-8BEA-3A93F3F1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1D1-89AB-448B-ACAA-A3A05BB6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383-789C-4FD2-9388-83DF3E72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CF9-0072-4DAC-B742-F6E1BDCA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419E-D996-4333-9864-B50F5C47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2F5C-43F6-4A6B-9BFA-3F167289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6A6B-D533-4EFF-B485-91906C84F5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商务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9"/>
          <p:cNvSpPr/>
          <p:nvPr/>
        </p:nvSpPr>
        <p:spPr>
          <a:xfrm>
            <a:off x="3997440" y="6093000"/>
            <a:ext cx="496728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00000" y="11984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111111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637080" y="3141720"/>
            <a:ext cx="55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7000" y="6426360"/>
            <a:ext cx="9349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619280" y="1998720"/>
            <a:ext cx="7561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4-12-26T05:16:21Z</dcterms:modified>
  <cp:revision>61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