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34A-B6FF-4DEA-911C-5A78AF48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39E-7797-4B59-A945-21935167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69B-659C-4840-9D46-F2EBCA7C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C6A-DB3C-4F70-AEB6-8D6CD63F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3DB-B769-4AE7-914D-38FFFE89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6C8-A907-4D4E-B223-11831D1F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45D-DE8B-49CD-ABAC-AF8A8032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E92-43F9-42D7-99CC-C680A93E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559-411D-438A-8690-E7C459FE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C8E-9C9E-438A-8F69-B2C54502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7BB-4A27-4A91-83B5-0A4CB7F2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6F2-07EE-43A3-A1B9-FD53FC4B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 rot="5400000">
            <a:off x="3880080" y="-3385080"/>
            <a:ext cx="1363680" cy="8442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f5b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4FD1-332B-4167-9AD9-DBC1F2B979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156A-0C41-48C5-AA50-F0313EAC24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79532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f5b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树叶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模板完整版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80960" y="3819600"/>
            <a:ext cx="64008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51:42Z</dcterms:created>
  <dc:creator>Administrator</dc:creator>
  <dc:description/>
  <dc:language>en-US</dc:language>
  <cp:lastModifiedBy>a</cp:lastModifiedBy>
  <dcterms:modified xsi:type="dcterms:W3CDTF">2014-12-26T05:25:41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8814409991</vt:lpwstr>
  </property>
</Properties>
</file>