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784-5A1F-476D-ADE6-C3BBBAE0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523-7ABE-4CA3-A373-4A392A95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B3AEC-CD97-44EE-AFC1-9E12E91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07A92-1F0C-4B9B-AC33-B4477D8F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B92B3-9A5C-4142-8D4E-1206FFFF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50CCB-0E4E-42E8-8CAA-6521A21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9F90-8A88-4D0F-8B3D-3E96FAF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E065D-6A99-45B4-9107-49C5B7C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8F149-36C1-4AAD-BBFE-D7B7F45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2813F-D608-466E-86B1-63F5591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20F87-8DC0-4086-8C56-0C74D58D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10045-12F0-4A9E-90A6-44BA380C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ED7-D0FE-48A5-B057-17BD2D2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0684F-9601-4092-8CAE-F8670B48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0351C-D2FA-4B4A-9170-070BCFA0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8E952-D3A9-43CE-9014-3D6EA4F7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661B5-3CFD-4FAC-A4A1-E9D01070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2A0D5-A244-4C2C-9588-B99FA529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7F281-BE7F-4367-9A69-F447BA44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B2221-F529-4A80-B113-E9697C4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A8568-6FB0-4E78-A27F-BD7DCBE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10AEF-B5C2-4807-8D5C-F5BBAE3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7159C-EDA0-49F7-BAA2-9FFAB1B5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526-93AC-4EDA-BC1E-B18588F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BC188-B33B-4128-B0EB-E08AA9D6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3B7E-0BA6-4ED3-8B5E-EF31BC29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CB1A5-9844-4677-92E2-B1DA114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792C1-796F-42B0-8D2D-1403CA29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6DF1-D643-4AB4-80C0-F7BF4D94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F64D4-C9FA-48EB-9B29-4B3834B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E44EB-F3FD-4685-AD87-8D92E1F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07E0B-BDF6-4626-AA7D-5544AB51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3F1FD-2EE3-41F8-BCDE-B6AFD9D9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3BF1B-BC2E-413A-9157-F5751E2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036D-7DF8-4173-BAF9-EC5D5FA3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9ABDD-7F28-46A3-AB1E-BD83992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6EABF-D273-4ADF-B173-0D55000A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23067-EE01-43F6-B6EF-9A0442D0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1418A-33F6-4D95-ADB7-69E97CFE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58ABB-6F46-420C-BE68-3E059BB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58BFE-26E6-43CC-A190-814DE746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BCFAE-764E-443A-9DF6-0B9A9A99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A4F4E-D303-4904-9F0D-8553BD2B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F478C-648A-480C-92CE-99C2839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916F5-22A5-4776-9182-6685E4A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6792-6DD8-4913-AFA6-62B769CA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64022-E60D-42BA-9C69-2C429960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7E31A-4816-4C8E-B49F-A0B8512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50BBA-7A68-4F11-A7AB-07F3EE0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D510E-A4E3-4D16-8985-4D5EA7D8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F6D6B-735E-4A13-A860-E8C9281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4F51B-FC63-4A23-B15E-6B26B879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4925B-85B1-4C1E-AAE1-766742F9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D55D2-8BAD-4009-9AD6-FBAE8FE5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10D5F-42C5-4302-B089-C3D2DA70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85B53-F84B-4825-8099-B5A89D0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3415-E08C-4ED0-BD57-9A4E21B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A314F-19FC-43FB-A47F-74900605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863FD-1D29-40BF-AE88-A37EC33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6C2DC-270D-4380-B269-5A0CBB7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C6B7A-E392-4D30-9AC5-DAE1212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90028-6F02-477B-9A80-88654CA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65D98-9FE8-4078-AA5E-182E57FF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DC71B-C3FB-4411-9D72-7E3E3576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C5C38-828C-43D6-A1E9-825E02D6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9F469-649E-40CE-B132-8174DB22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16B2F-571F-4EF9-A557-4A491C6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9FDC-9E22-4C95-AED4-0E04780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FA6BD-CDDF-4663-8693-6F0F6480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0291D-EA17-4F0D-9AFD-FC18C39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3B58D-2A55-487B-8C48-F7863A15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22D0A-BE90-45BB-9015-7CF7E3BB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297BC-97BC-4569-8B8B-2196D54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93906-FEA2-44FC-9889-AD8C37A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A98C5-8CCD-45E4-910F-B889014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109BE-591F-466C-AAF4-389E0023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E6D96-3268-4AD4-9111-36899F9A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93C-1DF4-45D0-B8EF-5B9D83C8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A927-85F6-4D2F-8A81-612DDFF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541A-76EF-4B59-AA32-BD460F8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4F8-6628-4F5A-B285-A9682D3F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52C1-E327-485B-AA7D-B3CAD12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2F75-F6C5-4F48-A720-8FA54CDD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C748-590C-4386-ABFB-A486DFFB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154C-BF49-4B1F-A867-88A8AF71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A9C-2884-4EFE-A8F9-88A8F545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A08B-0303-4E36-AB98-72B777F9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32DA-C765-4142-A7B5-F16FBCEE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7214-EF00-4B8A-B3F8-E685ACE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9C13-01D5-466F-B566-A81CA18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5B1D8-5916-44E7-AD3F-E591342B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9AA-4830-41D7-9940-729D0E4E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059A-39B2-4307-9A2E-D8E088E1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A0CA-6EF8-4FC0-8A07-F3A1F18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A6F6-B0F5-4746-B667-73D1E31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2579-5A4E-4BDF-A427-5C0CD98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04A9-DD5A-4C59-BC4F-BE0F5D56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B894-0ED0-4E95-AB59-664DA381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E2C1-F0C0-491E-AFF5-EA6B175D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1376-6AE4-4B26-901B-70011E2C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52A8-47CE-445F-A117-85302FE1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732E-D1F8-4040-A0B0-23154D5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364-7863-4725-A846-B8CE29EC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F584-489D-46D1-BDAB-9550CDED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6A6C-F86E-4A6B-AE99-2756288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46B7-8E84-4456-9C9F-A70E1EEC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4583-C013-4E76-BF5B-198E911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BBDC-D0CB-4547-8654-769D2FC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60D5-8F44-4E52-B9FA-2670ACCF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5B09-DDEB-44B0-A4FA-66B174B8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E05F-9F5B-42B8-B043-11CB7C11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86BC-8268-4E77-A850-1AAFFD55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ECCE-EF6F-4727-916C-62590070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091-FFA0-4026-B162-9B1C6B6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81F4-8526-47F0-821D-6C5D5C7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98CE-7937-4CDD-B906-1E258B13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4F98-AAA8-4384-9875-B850BD7F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25EA-375C-4939-B660-85FEDFD2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E1B18-408C-4A70-9387-6DD948C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80B1-8868-4170-ACC3-739EB6D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35220-34BA-4C0E-8927-3602818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9EF8-969B-4F6D-A7AD-1D7D6E3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FFE9D-19F1-41C5-AAF7-76C0EAE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32F9-F166-42FF-BC7B-03A108B0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D5E-709B-49FC-821F-F9CB3A6C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C999-CBE0-4368-8E6F-5063991A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4E29-DC99-4AFF-AE40-F8AA46C4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D4F6-2A31-489E-95F3-A3A4AE90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CA0CA-6ECE-4CF6-8F5E-35FCA655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5A37B-26CE-451D-8D09-F8D1B47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70DB1-0266-46DF-AB19-12327B75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447B-E7BF-40A8-A7F2-C703C80F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6657-7248-465B-939C-22D796CF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247E9-E9DD-4EFE-84A7-019E14D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ADFC-1E68-4CEF-A001-007D88C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E43-428C-4EA0-83A8-8C7BE943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1156-9D28-4AC8-A202-7B45F79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45CD-907D-408B-9144-DD57ABFB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0267-EC31-4696-B33A-7FC9420D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3B92-096F-4C12-B942-31A9AA54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47427-AFD8-4BBA-94C7-C514D08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475A-F686-42DB-ADEA-80937373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46F6-BB29-4BB2-9D24-A15914E1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C865C-23C9-4ACB-8AAE-E052CA1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8D16-724F-41DA-A036-A84F135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31C4-433C-45A7-B434-E48547C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8B2-B9B5-49D9-9143-79FEF3CD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45493-9299-4EFD-9D0B-90707F8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F95C8-7F6B-4446-93C1-E534F7C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916A-DE2B-41DC-A1AC-A3BFFBB0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B993D-6AE7-4EF9-8A2E-8DBB0489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9431-AED8-4640-8A44-4A670C72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3AB9-FC48-4835-8A0A-CBE512EC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1582-208C-46E8-931F-F4A780C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EA903-AE2A-4F70-BD6B-6220D345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BC2E3-CBD4-435B-806C-E728CB71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174D-2477-453B-A976-49A8A30D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EB4-1C23-43F4-A22D-95C2000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3084-5584-4FC6-AE56-74CCE22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77420-695A-4784-8C64-36E0985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B171-EF7B-4A9A-9C75-63F7FFCE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7935D-733E-4EF4-B8D4-9B73F5A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C19F8-C03D-4F3A-AC7C-0E6B9E52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CA888-FEC1-4DB1-831E-E114E5A6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83207-9A33-4C62-A7B5-96CA6A75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BAA37-796D-43A2-913C-6B93946A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F20C8-6A5F-4A84-B5A7-5C6D0958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0C213-301F-4B74-ABAB-670F5D9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a8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6d1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4DD-F2C8-41B6-A1DD-9EA512008FC1}" type="slidenum">
              <a:rPr b="0" lang="ko-KR" sz="14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cap="rnd" w="28440">
            <a:solidFill>
              <a:srgbClr val="c9ca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BA4E-6431-4A0E-B44D-FCC45DE200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483E-D9E2-4655-9CC8-ECE74F0F2F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BBC0-5D20-4E0F-8414-FB79DAB1DF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BCFF-06C0-4F31-8962-570D4C528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22F3-D423-445E-9F4F-DB969A6539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8AA3-D966-44AB-A159-5AD0DD67C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5946-3BE7-4196-9142-873EEAAAAF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A861-3B90-4E32-A881-BB9145DF1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511-5D04-4923-A50E-61F39B3F68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CC63-4C34-4882-9D89-E630C6C6E9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AC36-CC8E-419C-ACB8-2FAA07BF8B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E399-BAD9-4BA9-84E9-ABD99BD689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2743200" y="1600200"/>
            <a:ext cx="3505320" cy="3352680"/>
          </a:xfrm>
          <a:prstGeom prst="ellipse">
            <a:avLst/>
          </a:prstGeom>
          <a:noFill/>
          <a:ln cap="rnd" w="38160">
            <a:solidFill>
              <a:srgbClr val="c9ca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Oval 8"/>
          <p:cNvSpPr/>
          <p:nvPr/>
        </p:nvSpPr>
        <p:spPr>
          <a:xfrm>
            <a:off x="3200400" y="2133720"/>
            <a:ext cx="2514600" cy="2404800"/>
          </a:xfrm>
          <a:prstGeom prst="ellipse">
            <a:avLst/>
          </a:prstGeom>
          <a:noFill/>
          <a:ln cap="rnd" w="38160">
            <a:solidFill>
              <a:srgbClr val="c9ca8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9ca8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6d1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9ca8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a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ED9F-801D-467C-888C-EB06EC10BD02}" type="slidenum">
              <a:rPr b="0" lang="ko-KR" sz="14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1445-6C84-4515-B489-B337EA3EFA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9FB-9107-435B-BDAF-7814622AB6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02D-DFA4-47F9-B8CD-ACF12C69B5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5F5-F308-47B7-959A-EA28B2671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1CD0-9667-432F-B5DF-3470FB098E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1EA-31EC-4F03-B957-45118E634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3CE6-8683-4EE6-BED8-D9E6B6B9BE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51FE-816C-4B89-AACE-5C9030280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F34-8797-4474-A74C-88696FB7B1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4AF-395F-4E85-86DC-F3FE47FB7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3621-EEF4-4794-879F-56A4339217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8A73-8AE8-425D-AC37-0C3E76F4F1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11280" y="504720"/>
            <a:ext cx="59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太空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c9ca8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a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047600" y="159084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03:18:47Z</dcterms:created>
  <dc:creator>user</dc:creator>
  <dc:description/>
  <dc:language>en-US</dc:language>
  <cp:lastModifiedBy>a</cp:lastModifiedBy>
  <cp:lastPrinted>2000-01-31T08:46:34Z</cp:lastPrinted>
  <dcterms:modified xsi:type="dcterms:W3CDTF">2014-12-31T04:48:11Z</dcterms:modified>
  <cp:revision>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