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B67-582E-430C-98B3-40C8F418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F8C-0BFF-4B2B-89B3-89C2D964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B44-3ACE-49C7-98C7-51FEF552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C64-1A53-48E8-B80C-4C0FD589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A21B-6884-4136-9C8C-B88CEE7F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61BE-02D5-4024-B257-22B9D465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5EF9-21B9-444D-96A9-856BABC9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4038-C8AD-4282-A651-E73548C8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DD0B-CE13-450A-B014-E2C7EAE9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3774-B387-4706-8BF5-53891DF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B592-20B2-414B-BAD7-5DD8E130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5F3-CC8A-4DE9-B263-1BD408A2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60CE-6E31-4277-9DD5-06B27A4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89EE-797D-4A62-AE68-1A55C54A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C809-3BF0-48D9-9C4A-D5817501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130B-D68E-4678-905F-AB7B472F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8232-A3D6-4BC1-AF7D-DFF01716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DE364-EEEE-4BE2-A168-C8E1EEF9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15467-D903-46AD-B443-63B4E2C7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BCBB-A3C4-4A78-ABA9-068B133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5ED3-2C30-4100-9667-FC3C43E1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5C5B-A0C9-493E-9221-44074EF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31A-4F86-44E6-B57B-4376A94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4C5F-F6F2-4960-95B3-E169A146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27E9-CDAC-4810-BB80-A53CE43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50A3-F5BF-4863-934D-9581B57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5E45-349F-4352-A91D-4A8EADD6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5D966-6300-433E-B7B1-F73D6799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8D2C-D421-41F5-A4E1-A6EB0C9F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2E4E-AB9A-4B72-9B41-602E31E8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72D-1D90-4A7B-BA6C-5E929BF9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2AC-6465-47BA-8D70-A84AF02A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E8A-113A-4F8A-A7C8-657F77A1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730-6047-4154-9AA1-256D97A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B2E-730E-4F72-AA7E-79DEFA9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5D0-5B28-4041-9D55-1B6E702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7B73-575F-44D2-9FA3-20AE315000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4141-143A-4B7B-9BEA-3067BFAE1A1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3F1C-5CFF-46BF-BF2F-E683BC8BC0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1893-9C78-40F3-A670-044BE055B6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网球运动</a:t>
            </a: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PPT</a:t>
            </a:r>
            <a:r>
              <a:rPr b="0" lang="en-US" sz="4400" spc="-1" strike="noStrike">
                <a:solidFill>
                  <a:srgbClr val="c06063"/>
                </a:solidFill>
                <a:latin typeface="Times New Roman"/>
                <a:ea typeface="宋体"/>
              </a:rPr>
              <a:t>模板</a:t>
            </a:r>
            <a:endParaRPr b="0" lang="en-US" sz="4400" spc="-1" strike="noStrike">
              <a:solidFill>
                <a:srgbClr val="c0606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6063"/>
              </a:solidFill>
              <a:latin typeface="Times New Roman"/>
              <a:ea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6063"/>
              </a:solidFill>
              <a:latin typeface="Times New Roman"/>
              <a:ea typeface="宋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aeaea"/>
              </a:solidFill>
              <a:latin typeface="Eurostile"/>
              <a:ea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19640" y="12697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2" name="Picture 4" descr="tennis_outline_prt"/>
          <p:cNvPicPr/>
          <p:nvPr/>
        </p:nvPicPr>
        <p:blipFill>
          <a:blip r:embed="rId1"/>
          <a:stretch/>
        </p:blipFill>
        <p:spPr>
          <a:xfrm>
            <a:off x="6477120" y="4667400"/>
            <a:ext cx="236196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3" name="Picture 5" descr="tennis_outline_qx"/>
          <p:cNvPicPr/>
          <p:nvPr/>
        </p:nvPicPr>
        <p:blipFill>
          <a:blip r:embed="rId2"/>
          <a:stretch/>
        </p:blipFill>
        <p:spPr>
          <a:xfrm>
            <a:off x="3657600" y="2381400"/>
            <a:ext cx="236232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6" descr="tennis_outline_sld"/>
          <p:cNvPicPr/>
          <p:nvPr/>
        </p:nvPicPr>
        <p:blipFill>
          <a:blip r:embed="rId3"/>
          <a:stretch/>
        </p:blipFill>
        <p:spPr>
          <a:xfrm>
            <a:off x="3657600" y="4667400"/>
            <a:ext cx="236232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Picture 7" descr="tennis_outline_trs"/>
          <p:cNvPicPr/>
          <p:nvPr/>
        </p:nvPicPr>
        <p:blipFill>
          <a:blip r:embed="rId4"/>
          <a:stretch/>
        </p:blipFill>
        <p:spPr>
          <a:xfrm>
            <a:off x="6477120" y="2381400"/>
            <a:ext cx="2361960" cy="177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Picture 8" descr="outline"/>
          <p:cNvPicPr/>
          <p:nvPr/>
        </p:nvPicPr>
        <p:blipFill>
          <a:blip r:embed="rId5"/>
          <a:stretch/>
        </p:blipFill>
        <p:spPr>
          <a:xfrm>
            <a:off x="228600" y="2590920"/>
            <a:ext cx="3203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8:49:20Z</dcterms:created>
  <dc:creator>yang</dc:creator>
  <dc:description/>
  <dc:language>en-US</dc:language>
  <cp:lastModifiedBy>a</cp:lastModifiedBy>
  <dcterms:modified xsi:type="dcterms:W3CDTF">2014-12-15T17:47:03Z</dcterms:modified>
  <cp:revision>2</cp:revision>
  <dc:subject/>
  <dc:title>TENNIS OUT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