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75F-4E2A-412E-A20B-87B9038A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736-0936-43D7-A153-52FC29FD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8B19B-D755-417E-9C22-36CA6E89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EF1C7-D049-4490-9EBB-BB3814BC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356DF-7ECF-4B00-A1CA-AE1923F8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F2D0D-1048-4BD3-9FAC-28DF8243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4357A-7E17-4144-8DDF-D7782C9D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F5B71-AB45-4E7F-840A-B4EEDF3A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3ABC-BA03-4721-92FE-42D6A1A7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3DC4B-E747-4874-8674-2ABB0157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EBB84-CE83-4A40-A681-A2AE1E4F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3B4D8-3CE5-4EFD-8E88-D185FEEE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9A0-41FA-4AD8-B92B-18A896C2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9F7C1-F960-426C-A205-2AF523E2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CC184-D3C1-43BA-9956-EC15FB5D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27101-3568-47CB-A23D-1B72C4FF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B6679-AE2A-490E-B053-D20124E4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08FCF-B041-43A3-9440-338F2A72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95FEC-3A1F-4982-AA54-C42CC984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EEF46-C042-46FB-9AA6-E5F05C72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ECF05-6098-42C3-B47E-DCC5E1B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060AD-3A92-4D8B-87BD-C250C2D7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E570D-0E09-4BA9-B5A6-6CEF0F1E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334-117C-4464-827C-5D8AFAB4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E7C4C-7B64-45BB-812F-591DAC40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48B26-87E5-42D9-A7CC-B395B237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30A42-DAF8-4AF3-BD95-CE1B972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3E7D4-8E6A-4EAD-8E05-F747D26F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AC759-E55F-4262-AA6B-79E9B8A8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B3257-DB85-4958-8D5E-9F971D7D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46639-8CC6-4DE3-B8AB-B9BB634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FC1B6-1EF0-4694-A879-FD12E6E3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771F6-F6C4-4C29-9BE2-68B9EE0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498D8-756C-4CCB-BC5D-B8FD6C4D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2213-C89A-4524-9340-D8657ACD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ED1C0-EB6D-412D-9547-858176ED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9CE0A-C095-4564-85B3-65DE6D7E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1E7A9-8C79-45E7-AB35-7E11F8CE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D82F4-FCEC-4171-894B-69527BB3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6B6F5-E996-4719-B616-A3F4AB61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DE293-8E41-43BF-B328-61A1AD16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786E4-0F46-42F4-8742-D29DABF3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67A45-8488-4E47-AF01-DCD69BBE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B039E-9D64-43CF-A07B-79387936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BDA40-FABF-41DA-BC76-27F9CD90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8009-C7C1-47B8-8ECE-3C1CAE26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D7E7C-4F3D-442F-AC40-DD24AB9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A1083-2AA1-4D8C-B56E-D3A675F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9C6F4-5988-499B-A79C-4284550D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AC42F-C07F-47CE-975D-4AB1C1E5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28F6E-DD20-4E8E-9633-1C1DD179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C91CF-D067-400D-8106-2961EFA4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72748-E566-4CB0-B87E-05275DA0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6E020-3542-4DFB-8459-F7DA1BC7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B8C4C-5C85-4201-AC1E-4EDF5D1B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7E26A-5292-437D-9A2A-739A8618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59D9-4744-4CDC-A59D-A8E0164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46099-D622-422E-A105-49D1FE34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4CE1C-0B07-40AC-BD84-F041BE1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BB36E-2737-49DB-8EC3-BBB4279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E115E-D956-4353-9D80-7E29EDA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2746C-98CD-4493-A182-53130BC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A8F75-169A-4BED-A47B-9DBF8C61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2F0E3-07B3-4F1E-9056-4DD46DEB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E95D-BCC8-4F8B-9E30-4D3E42FB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B901-97C7-420A-B087-92A86777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9CF1-56CC-4A3C-8B79-52EFF0A0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551B-AFFA-4775-AB1D-32A757F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B82-2F47-4D15-B467-7CCD69EE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EA01-64FF-4886-8154-C879409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62AA-D8A4-4200-95D6-A8E0760F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3577-78B6-4CEC-90A1-99E1B4FA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D651-55FA-4668-B256-6D097AD7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C8A6-9390-4763-9D0B-72B78E3B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932F4-A140-436B-BA9A-65897110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BF56-CB10-4190-A44A-A21745EC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CC19-41F8-46A0-87A9-8B424624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F570-185D-4011-8E64-7FE17267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176B-61EF-4D22-826F-4EC5440C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8B6-EE62-4AF7-9E59-721218BA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CA19-BBF3-4020-8654-9767B7CE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60CE3-B41D-4B4C-84F1-D8F1BFFF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2A61-F678-43B7-8B5C-A80922C9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25DCD-7F41-465D-8D2F-40A63E3F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BE3D-4F10-4125-9CC6-600474CB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AF6D-CE8F-4997-96C2-B8E98A41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DC57-488B-43C5-A2BA-C95457D1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D9245-386C-4FA2-A0D4-0170E323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97CF-D3D6-405F-9165-73FBA040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EEFB-CC4E-4D3D-A065-06F72449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B5C-FD7D-40A2-89D7-6A999739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A4CC6-79B8-4E25-93ED-D4FD0E50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AAE4-EB19-43E7-8756-CC65F138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D22F-CAE0-4940-938B-3713AF0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1FCB-434C-438E-AA0C-0A212EB0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1107-AF82-4463-804F-E10474BB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28DC-7122-4ED5-BA4B-146DEB9A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3607B-C802-4C66-AF64-7DEA0087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24AE-0ADF-4A7F-863C-E7B53EDF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FA62-57BE-47E1-AFB6-5B0549A7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E194A-E5FF-40D3-A903-61FAC85D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2DC-D22E-4DA8-8D34-BC3F913A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2CD6-2665-4B97-82F1-ACA623B5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ADFFD-094E-4B93-9CE8-077288A7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404AB-F754-41B6-937A-4D625A86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81B62-BBD3-4A21-8571-1543BFE1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CF244-4B2C-463F-8B67-4CB2A9CC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3359-2D0E-4264-AEAF-F352A192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8BAF-8EC5-459E-B603-6A88165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D8268-21EE-4A90-98A4-E288D810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8B85-AE64-4135-92EA-765A7A1E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AE30-EF45-4AAE-9FE7-1100D004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A24-DF83-4983-9E21-33FFDBCD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4EA7-3C6F-48C3-A5BC-B8493676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72FC9-1A5F-43B9-A014-B6EA66E7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C29E7-C4A0-45FC-8520-E390888D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EDC92-192E-413F-A0A6-FD84A870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F711-7D60-4895-9FEC-648A54F6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4506-CFC1-4F18-8355-1F24C3C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9D72E-EC6F-4D86-B193-4805D02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4983-90B1-47D0-AF37-F3FE9AB3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FDC97-8C09-4465-8D92-E7AF33FA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CD942-CBB5-40E7-95AD-D274954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A5B-8424-4A5A-BAA6-FC9EB5E3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FA2ED-CB98-4FA5-A835-4CA00799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411E-E38E-4C7C-8D48-BCB2A2CE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470EE-0346-40DD-A3F1-69769249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F8B2B-74C6-4979-BF46-C59F7241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1A126-2766-468F-8041-938E683E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38C14-1164-4BA4-BCFF-83C1389E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A7AF-FD0F-4B0A-96BF-1F3850E1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838EF-6C78-43B3-87BE-D4231002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3BAF9-CBA4-4737-A0BE-E5BDD289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EC0A8-4C50-4F1A-A2A0-D7747EB6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8C6-6A3F-4428-92CD-6D744FD1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59FCE-EACB-4B08-9C8C-033733F2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2604-1844-4D09-8776-5DDD1332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2A4B-782E-4894-8AF9-7461E22C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BEEE0-A70B-4BC4-B467-05501B20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F9198-1379-4198-94F1-9CD9D20F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B5E4D-796A-4506-A89F-DACF6554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74634-7872-41CD-A17F-B9FDE632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B617E-39C9-42F4-8362-41091F4A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C8A92-6DC3-4FD0-9F64-7A60983D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963DB-F554-4BAC-9C2F-16AB254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299-4319-41F1-AE3A-324E799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C08C-0804-4E22-8C69-98805C81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481F9-FE8F-4BA0-B632-E65562E9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EB2D8-B47F-45C5-9829-0855608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F583E-7B73-4D93-A329-B8EA432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7A43D-F424-41FE-B43A-3B8FA7E9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C725D-89B9-4E6E-84D4-52175201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D0A72-7CD5-4EB4-9FF1-3149BEAC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F946D-A90E-4D23-AB33-30D02B71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2959F-D67E-464B-B582-268A32D9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B6D08-24C2-49F1-9BB2-07BAC267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0664-F978-4A4B-8889-685DE2DAEA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F704-18F6-4423-B7ED-6B71F1C0F1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EB5A-E657-46AE-8AD8-BAB32A2074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5CE8-74C1-481F-8115-467E8BB232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06AE-511D-44D2-AD63-C2601FF62B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7B0D-1141-4D28-91AA-878DF0C02C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E9F0-E859-45AE-9BD3-8B7B4A39C9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6E20-0335-40F6-91F7-BEC4FD250F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A72B-108A-40EC-AC68-E00F93FFF9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C03B-47EA-4D90-8AD5-0120158E27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F83C-27C9-497D-A8DF-483A6086F1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3153-2AE1-4150-92D4-93B7E85C53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CB00-2CCE-492F-86E6-B61D7099F9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750-4BFF-4525-8646-CA4807CFB4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86D8-E5E1-4E28-8FAE-076A0E3E7A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ECE-BC47-44E1-908C-9280261AE6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BF81-4F5A-46DA-B2E0-ADE1A97141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64E8-67C4-4BBB-9A5D-E255071683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0E16-ADA2-4CC7-80B7-74D86A0744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8489-23D5-4D37-8FB1-00257DE7DF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83B6-2F98-468A-B450-54CF1BCC3D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EB6-CAC0-4CD4-8451-1BB5D7D10C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A131-F715-4E18-8E44-8465E4EEC3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8D4F-65B0-4FCF-B036-176EF0A2A2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9733-ADA7-41EB-9CAB-3404D356D0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4C13-BCBA-49B0-BB84-F82D9451B2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860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温馨迪士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演示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4698720"/>
            <a:ext cx="64008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656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6:35:00Z</dcterms:created>
  <dc:creator>Moyea Software</dc:creator>
  <dc:description>Made by Moyea Software. To find more free PowerPoint templates, please visit http://www.dvd-ppt-slideshow.com/powerpoint-knowledge/powerpoint-templates.html</dc:description>
  <cp:keywords>Disney free cartoon PowerPoint templates</cp:keywords>
  <dc:language>en-US</dc:language>
  <cp:lastModifiedBy>a</cp:lastModifiedBy>
  <dcterms:modified xsi:type="dcterms:W3CDTF">2014-12-21T03:38:28Z</dcterms:modified>
  <cp:revision>5</cp:revision>
  <dc:subject>Disney</dc:subject>
  <dc:title>Free Disney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