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84C-8083-4723-AF96-81C96247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17F-86F2-45AE-BFBD-17DBAD90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AAE-5E10-47CC-AB70-8AF2B0DC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B3F-22E1-46A6-B99A-74836583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6AFC-D0F9-4221-88B0-0A884ABD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6D39-9E3E-4048-84A7-9D3B8276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9271-A007-47FF-9440-339E765C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406B-13AC-4BA7-879B-C928C426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82FF-42CD-44D6-A8B1-B1AB99A4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95CE-8422-420C-814B-FDE8AAB3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A3CD-2338-4BEB-8CAC-45927677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F9E-FEE6-43D4-B484-8EF8D2A2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308D-94C1-4634-B24A-10107201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832D-DEFD-47E7-8C8E-72F9902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C34C-60FA-4DC3-ACDE-4A5DC8AB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9ED5-2942-4B77-B6B3-7BA0C865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F223-382A-4735-BC91-0AF510EA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C51A-7AF6-49AE-8B14-3AD68890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1AF7-C871-4394-AB32-4058A395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A317-FC26-4217-9322-55A26206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46AC-4FA0-416D-A65E-B7CF76F7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D664-DE1A-4550-9183-AA22012A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575-A86F-4B61-B582-2E1B71E0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51DE-9D09-4069-ADF5-21117927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F354-03D5-4F1E-B838-5EC0C31B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18F9-9F40-43D0-ADD7-FB0E9239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B5E9-DC0E-4D23-AA5B-64F61E24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C777-35A3-4372-8320-5BEEA553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5B4B0-2C0F-4E4C-9DBC-8BA968A6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556D-57D3-4B49-AB64-3D66438A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90A-1754-426C-B563-6054BDB0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52A-BFE2-454C-BDBA-2DB5B0F7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387-9625-4EF5-BA0D-9BAB5CC9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571-AAD1-49CA-B0F0-E45C6941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954-21B1-48D4-A306-1E86D58D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E41-1246-4A3A-92CB-7070A02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FD3-32AD-4B3E-82AD-71AACF2ACE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EA40-78E3-45C7-B28B-396D02879D31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D2B1-BF12-4692-AFEA-9EC72CA706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31A2-7FAA-4B0F-AED9-61DC5945E7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餐刀具饮食餐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68240"/>
            <a:ext cx="6400800" cy="11034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67760"/>
            <a:ext cx="8207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582560"/>
            <a:ext cx="8209080" cy="38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298440"/>
            <a:ext cx="1388880" cy="31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541440" y="3768840"/>
            <a:ext cx="82818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7:28:30Z</dcterms:created>
  <dc:creator>Administrator</dc:creator>
  <dc:description/>
  <dc:language>en-US</dc:language>
  <cp:lastModifiedBy>a</cp:lastModifiedBy>
  <dcterms:modified xsi:type="dcterms:W3CDTF">2014-12-21T05:45:1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