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673-E878-4DBF-A3FA-7A08F503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AE5F-3532-48D7-B93A-D83EE171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3F7-85AA-418B-BA3B-5FACE32F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CE1-4B78-4984-A752-FBF89A42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9AB-472C-43C5-BEC8-2B77C725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A86-CB8C-46C1-A2AA-817BE9B2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4C17-91F5-4276-B6C6-2AEB85BB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973-0286-4A76-B03F-7159927F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BD2-4E20-41B5-8070-ACFEB47F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FEB9-2319-40CC-A880-14BC40A0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1D6-0ACC-4C9D-95B2-AC533C53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396-CB14-4952-B584-C4772372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5609-3FCE-4073-A72D-A5E07261EB8B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  <a:ea typeface="宋体"/>
              </a:rPr>
              <a:t>现代红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31:33Z</dcterms:created>
  <dc:creator>Mariajose</dc:creator>
  <dc:description/>
  <dc:language>en-US</dc:language>
  <cp:lastModifiedBy>a</cp:lastModifiedBy>
  <dcterms:modified xsi:type="dcterms:W3CDTF">2014-12-31T04:50:36Z</dcterms:modified>
  <cp:revision>3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