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1E2-E3C1-4050-A538-38F00EE3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0B9-6B9B-4F49-8D86-097158C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419-ABBF-494D-BB4A-B749C331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B71-AD9D-4288-82BA-58E080C0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9927-21B0-420C-A3E0-D3AF78F7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4C30-C088-4764-AD22-40EE58E4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71F0-7640-4DBF-A6E0-442672E8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28C-AFD0-4C5C-9432-C69BEAEE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E939-1FE8-4AFC-AC9D-FB134E0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E7B-3AE3-47EE-85FB-B4E1AE7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178-0B95-4FCD-9408-6D654AD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DCA-6E71-4F26-80B0-2C390CE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CAE8-D52D-48EC-AE76-74297A88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E572-29C2-47B1-84D5-B4965BE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E95-1F88-4637-875C-5DAD0A9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18A-1B8B-44B5-BC58-13843344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CA8C-17BA-49EB-B21A-E8D7DEE1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866-FD20-4448-89FB-7AC262C4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C32-3652-473A-97A2-4B0D2BF8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79B-E50E-4290-9089-E6E431D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835-4DEE-47D0-8703-876A59F4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590-7E83-4010-97AF-DAF528E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56E-F77F-4D86-B16D-1A64D042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F31-CFC9-4882-8D4D-7C83873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083-35B7-4C28-8A6F-FC1FAFBF1C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713-B753-409F-8439-56C6DCA0DB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649F-FBBF-4BF0-8F04-1E7AA254F1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背景" descr=""/>
          <p:cNvPicPr/>
          <p:nvPr/>
        </p:nvPicPr>
        <p:blipFill>
          <a:blip r:embed="rId1"/>
          <a:stretch/>
        </p:blipFill>
        <p:spPr>
          <a:xfrm>
            <a:off x="-281160" y="-76320"/>
            <a:ext cx="10365120" cy="70153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114480" y="2200320"/>
            <a:ext cx="3377880" cy="3278160"/>
            <a:chOff x="114480" y="2200320"/>
            <a:chExt cx="3377880" cy="3278160"/>
          </a:xfrm>
        </p:grpSpPr>
        <p:sp>
          <p:nvSpPr>
            <p:cNvPr id="84" name="右下辫子"/>
            <p:cNvSpPr/>
            <p:nvPr/>
          </p:nvSpPr>
          <p:spPr>
            <a:xfrm>
              <a:off x="2869920" y="3450960"/>
              <a:ext cx="479160" cy="433800"/>
            </a:xfrm>
            <a:custGeom>
              <a:avLst/>
              <a:gdLst/>
              <a:ahLst/>
              <a:rect l="l" t="t" r="r" b="b"/>
              <a:pathLst>
                <a:path w="793173" h="718405">
                  <a:moveTo>
                    <a:pt x="14698" y="216266"/>
                  </a:moveTo>
                  <a:cubicBezTo>
                    <a:pt x="3371" y="213177"/>
                    <a:pt x="-19283" y="202879"/>
                    <a:pt x="33233" y="166839"/>
                  </a:cubicBezTo>
                  <a:cubicBezTo>
                    <a:pt x="85749" y="130799"/>
                    <a:pt x="270071" y="-2036"/>
                    <a:pt x="329795" y="23"/>
                  </a:cubicBezTo>
                  <a:cubicBezTo>
                    <a:pt x="389519" y="2082"/>
                    <a:pt x="372014" y="114323"/>
                    <a:pt x="391579" y="179196"/>
                  </a:cubicBezTo>
                  <a:cubicBezTo>
                    <a:pt x="411144" y="244069"/>
                    <a:pt x="416292" y="321298"/>
                    <a:pt x="447184" y="389260"/>
                  </a:cubicBezTo>
                  <a:cubicBezTo>
                    <a:pt x="478076" y="457222"/>
                    <a:pt x="519265" y="532393"/>
                    <a:pt x="576930" y="586969"/>
                  </a:cubicBezTo>
                  <a:cubicBezTo>
                    <a:pt x="634595" y="641545"/>
                    <a:pt x="793173" y="705388"/>
                    <a:pt x="793173" y="716715"/>
                  </a:cubicBezTo>
                  <a:cubicBezTo>
                    <a:pt x="793173" y="728042"/>
                    <a:pt x="638714" y="679645"/>
                    <a:pt x="576930" y="654931"/>
                  </a:cubicBezTo>
                  <a:cubicBezTo>
                    <a:pt x="515146" y="630217"/>
                    <a:pt x="488374" y="628157"/>
                    <a:pt x="422471" y="568433"/>
                  </a:cubicBezTo>
                  <a:cubicBezTo>
                    <a:pt x="356568" y="508709"/>
                    <a:pt x="235060" y="360428"/>
                    <a:pt x="181514" y="296585"/>
                  </a:cubicBezTo>
                  <a:cubicBezTo>
                    <a:pt x="127968" y="232742"/>
                    <a:pt x="132087" y="200820"/>
                    <a:pt x="101195" y="185374"/>
                  </a:cubicBezTo>
                  <a:cubicBezTo>
                    <a:pt x="70303" y="169928"/>
                    <a:pt x="26025" y="219355"/>
                    <a:pt x="14698" y="2162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脸"/>
            <p:cNvSpPr/>
            <p:nvPr/>
          </p:nvSpPr>
          <p:spPr>
            <a:xfrm>
              <a:off x="2016000" y="2633400"/>
              <a:ext cx="1148400" cy="1258560"/>
            </a:xfrm>
            <a:custGeom>
              <a:avLst/>
              <a:gdLst/>
              <a:ahLst/>
              <a:rect l="l" t="t" r="r" b="b"/>
              <a:pathLst>
                <a:path w="1900845" h="2084441">
                  <a:moveTo>
                    <a:pt x="1397379" y="50576"/>
                  </a:moveTo>
                  <a:cubicBezTo>
                    <a:pt x="1466371" y="110300"/>
                    <a:pt x="1688792" y="278146"/>
                    <a:pt x="1761903" y="371851"/>
                  </a:cubicBezTo>
                  <a:cubicBezTo>
                    <a:pt x="1835014" y="465556"/>
                    <a:pt x="1819568" y="542786"/>
                    <a:pt x="1836044" y="612808"/>
                  </a:cubicBezTo>
                  <a:cubicBezTo>
                    <a:pt x="1852520" y="682830"/>
                    <a:pt x="1864876" y="727108"/>
                    <a:pt x="1860757" y="791981"/>
                  </a:cubicBezTo>
                  <a:cubicBezTo>
                    <a:pt x="1856638" y="856854"/>
                    <a:pt x="1808241" y="918638"/>
                    <a:pt x="1811330" y="1002046"/>
                  </a:cubicBezTo>
                  <a:cubicBezTo>
                    <a:pt x="1814419" y="1085454"/>
                    <a:pt x="1866935" y="1197695"/>
                    <a:pt x="1879292" y="1292430"/>
                  </a:cubicBezTo>
                  <a:cubicBezTo>
                    <a:pt x="1891649" y="1387165"/>
                    <a:pt x="1917393" y="1484991"/>
                    <a:pt x="1885472" y="1570458"/>
                  </a:cubicBezTo>
                  <a:cubicBezTo>
                    <a:pt x="1853551" y="1655925"/>
                    <a:pt x="1784558" y="1746541"/>
                    <a:pt x="1687763" y="1805235"/>
                  </a:cubicBezTo>
                  <a:cubicBezTo>
                    <a:pt x="1590968" y="1863929"/>
                    <a:pt x="1415914" y="1904089"/>
                    <a:pt x="1304703" y="1922624"/>
                  </a:cubicBezTo>
                  <a:cubicBezTo>
                    <a:pt x="1193492" y="1941159"/>
                    <a:pt x="1098757" y="1923654"/>
                    <a:pt x="1020498" y="1916446"/>
                  </a:cubicBezTo>
                  <a:cubicBezTo>
                    <a:pt x="942239" y="1909238"/>
                    <a:pt x="876335" y="1881435"/>
                    <a:pt x="835146" y="1879376"/>
                  </a:cubicBezTo>
                  <a:cubicBezTo>
                    <a:pt x="793957" y="1877317"/>
                    <a:pt x="805285" y="1871138"/>
                    <a:pt x="773363" y="1904089"/>
                  </a:cubicBezTo>
                  <a:cubicBezTo>
                    <a:pt x="741441" y="1937040"/>
                    <a:pt x="750709" y="2123422"/>
                    <a:pt x="643617" y="2077084"/>
                  </a:cubicBezTo>
                  <a:cubicBezTo>
                    <a:pt x="536525" y="2030746"/>
                    <a:pt x="236873" y="1840246"/>
                    <a:pt x="130811" y="1626062"/>
                  </a:cubicBezTo>
                  <a:cubicBezTo>
                    <a:pt x="24749" y="1411878"/>
                    <a:pt x="-18499" y="1045295"/>
                    <a:pt x="7244" y="791981"/>
                  </a:cubicBezTo>
                  <a:cubicBezTo>
                    <a:pt x="32987" y="538668"/>
                    <a:pt x="164793" y="236957"/>
                    <a:pt x="285271" y="106181"/>
                  </a:cubicBezTo>
                  <a:cubicBezTo>
                    <a:pt x="405749" y="-24595"/>
                    <a:pt x="553001" y="22773"/>
                    <a:pt x="730114" y="7327"/>
                  </a:cubicBezTo>
                  <a:cubicBezTo>
                    <a:pt x="907227" y="-8119"/>
                    <a:pt x="1233652" y="4238"/>
                    <a:pt x="1347952" y="13506"/>
                  </a:cubicBezTo>
                  <a:cubicBezTo>
                    <a:pt x="1462252" y="22774"/>
                    <a:pt x="1328387" y="-9148"/>
                    <a:pt x="1397379" y="50576"/>
                  </a:cubicBez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左袖"/>
            <p:cNvSpPr/>
            <p:nvPr/>
          </p:nvSpPr>
          <p:spPr>
            <a:xfrm>
              <a:off x="2325600" y="4018680"/>
              <a:ext cx="635040" cy="813240"/>
            </a:xfrm>
            <a:custGeom>
              <a:avLst/>
              <a:gdLst/>
              <a:ahLst/>
              <a:rect l="l" t="t" r="r" b="b"/>
              <a:pathLst>
                <a:path w="1051153" h="1347037">
                  <a:moveTo>
                    <a:pt x="20948" y="632088"/>
                  </a:moveTo>
                  <a:cubicBezTo>
                    <a:pt x="18436" y="524906"/>
                    <a:pt x="-17570" y="384228"/>
                    <a:pt x="10900" y="300492"/>
                  </a:cubicBezTo>
                  <a:cubicBezTo>
                    <a:pt x="39370" y="216756"/>
                    <a:pt x="148227" y="179074"/>
                    <a:pt x="191770" y="129670"/>
                  </a:cubicBezTo>
                  <a:cubicBezTo>
                    <a:pt x="235313" y="80266"/>
                    <a:pt x="233638" y="19976"/>
                    <a:pt x="272157" y="4066"/>
                  </a:cubicBezTo>
                  <a:cubicBezTo>
                    <a:pt x="310676" y="-11844"/>
                    <a:pt x="376827" y="23325"/>
                    <a:pt x="422882" y="34211"/>
                  </a:cubicBezTo>
                  <a:cubicBezTo>
                    <a:pt x="468937" y="45097"/>
                    <a:pt x="484010" y="65193"/>
                    <a:pt x="548487" y="69380"/>
                  </a:cubicBezTo>
                  <a:cubicBezTo>
                    <a:pt x="612964" y="73567"/>
                    <a:pt x="740243" y="12439"/>
                    <a:pt x="809744" y="59331"/>
                  </a:cubicBezTo>
                  <a:cubicBezTo>
                    <a:pt x="879245" y="106223"/>
                    <a:pt x="925300" y="216756"/>
                    <a:pt x="965493" y="350734"/>
                  </a:cubicBezTo>
                  <a:cubicBezTo>
                    <a:pt x="1005686" y="484712"/>
                    <a:pt x="1055091" y="727547"/>
                    <a:pt x="1050904" y="863200"/>
                  </a:cubicBezTo>
                  <a:cubicBezTo>
                    <a:pt x="1046717" y="998853"/>
                    <a:pt x="988940" y="1088450"/>
                    <a:pt x="940373" y="1164650"/>
                  </a:cubicBezTo>
                  <a:cubicBezTo>
                    <a:pt x="891806" y="1240850"/>
                    <a:pt x="832353" y="1291092"/>
                    <a:pt x="759502" y="1320400"/>
                  </a:cubicBezTo>
                  <a:cubicBezTo>
                    <a:pt x="686651" y="1349708"/>
                    <a:pt x="581144" y="1352219"/>
                    <a:pt x="503269" y="1340496"/>
                  </a:cubicBezTo>
                  <a:cubicBezTo>
                    <a:pt x="425394" y="1328773"/>
                    <a:pt x="371803" y="1316213"/>
                    <a:pt x="292254" y="1250061"/>
                  </a:cubicBezTo>
                  <a:cubicBezTo>
                    <a:pt x="212705" y="1183909"/>
                    <a:pt x="70353" y="1046581"/>
                    <a:pt x="25973" y="943586"/>
                  </a:cubicBezTo>
                  <a:cubicBezTo>
                    <a:pt x="-18407" y="840591"/>
                    <a:pt x="23460" y="739270"/>
                    <a:pt x="20948" y="632088"/>
                  </a:cubicBez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左手"/>
            <p:cNvSpPr/>
            <p:nvPr/>
          </p:nvSpPr>
          <p:spPr>
            <a:xfrm>
              <a:off x="2728440" y="3885120"/>
              <a:ext cx="135000" cy="192960"/>
            </a:xfrm>
            <a:custGeom>
              <a:avLst/>
              <a:gdLst/>
              <a:ahLst/>
              <a:rect l="l" t="t" r="r" b="b"/>
              <a:pathLst>
                <a:path w="255429" h="365120">
                  <a:moveTo>
                    <a:pt x="213031" y="352188"/>
                  </a:moveTo>
                  <a:cubicBezTo>
                    <a:pt x="239869" y="326309"/>
                    <a:pt x="240828" y="241961"/>
                    <a:pt x="247537" y="202663"/>
                  </a:cubicBezTo>
                  <a:cubicBezTo>
                    <a:pt x="254246" y="163365"/>
                    <a:pt x="258080" y="142278"/>
                    <a:pt x="253288" y="116399"/>
                  </a:cubicBezTo>
                  <a:cubicBezTo>
                    <a:pt x="248496" y="90520"/>
                    <a:pt x="232201" y="64641"/>
                    <a:pt x="218782" y="47388"/>
                  </a:cubicBezTo>
                  <a:cubicBezTo>
                    <a:pt x="205363" y="30135"/>
                    <a:pt x="192903" y="20550"/>
                    <a:pt x="172775" y="12882"/>
                  </a:cubicBezTo>
                  <a:cubicBezTo>
                    <a:pt x="152647" y="5214"/>
                    <a:pt x="121974" y="-3412"/>
                    <a:pt x="98012" y="1380"/>
                  </a:cubicBezTo>
                  <a:cubicBezTo>
                    <a:pt x="74050" y="6172"/>
                    <a:pt x="45295" y="22467"/>
                    <a:pt x="29001" y="41637"/>
                  </a:cubicBezTo>
                  <a:cubicBezTo>
                    <a:pt x="12707" y="60807"/>
                    <a:pt x="2163" y="88603"/>
                    <a:pt x="246" y="116399"/>
                  </a:cubicBezTo>
                  <a:cubicBezTo>
                    <a:pt x="-1671" y="144195"/>
                    <a:pt x="7914" y="186369"/>
                    <a:pt x="17499" y="208414"/>
                  </a:cubicBezTo>
                  <a:cubicBezTo>
                    <a:pt x="27084" y="230459"/>
                    <a:pt x="49130" y="238128"/>
                    <a:pt x="57756" y="248671"/>
                  </a:cubicBezTo>
                  <a:cubicBezTo>
                    <a:pt x="66382" y="259214"/>
                    <a:pt x="73417" y="256356"/>
                    <a:pt x="69258" y="271675"/>
                  </a:cubicBezTo>
                  <a:cubicBezTo>
                    <a:pt x="65099" y="286994"/>
                    <a:pt x="35676" y="325247"/>
                    <a:pt x="32801" y="340583"/>
                  </a:cubicBezTo>
                  <a:cubicBezTo>
                    <a:pt x="29926" y="355919"/>
                    <a:pt x="42420" y="358898"/>
                    <a:pt x="52005" y="363690"/>
                  </a:cubicBezTo>
                  <a:cubicBezTo>
                    <a:pt x="61590" y="368483"/>
                    <a:pt x="59673" y="359856"/>
                    <a:pt x="86511" y="357939"/>
                  </a:cubicBezTo>
                  <a:cubicBezTo>
                    <a:pt x="113349" y="356022"/>
                    <a:pt x="186193" y="378067"/>
                    <a:pt x="213031" y="352188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手娟"/>
            <p:cNvSpPr/>
            <p:nvPr/>
          </p:nvSpPr>
          <p:spPr>
            <a:xfrm>
              <a:off x="2786760" y="3927960"/>
              <a:ext cx="365400" cy="1133280"/>
            </a:xfrm>
            <a:custGeom>
              <a:avLst/>
              <a:gdLst/>
              <a:ahLst/>
              <a:rect l="l" t="t" r="r" b="b"/>
              <a:pathLst>
                <a:path w="605268" h="1876693">
                  <a:moveTo>
                    <a:pt x="600983" y="1856513"/>
                  </a:moveTo>
                  <a:cubicBezTo>
                    <a:pt x="590823" y="1940564"/>
                    <a:pt x="551106" y="1738288"/>
                    <a:pt x="512313" y="1684717"/>
                  </a:cubicBezTo>
                  <a:cubicBezTo>
                    <a:pt x="484603" y="1658855"/>
                    <a:pt x="407941" y="1576652"/>
                    <a:pt x="368225" y="1535088"/>
                  </a:cubicBezTo>
                  <a:cubicBezTo>
                    <a:pt x="328509" y="1493524"/>
                    <a:pt x="302648" y="1471357"/>
                    <a:pt x="274015" y="1435335"/>
                  </a:cubicBezTo>
                  <a:cubicBezTo>
                    <a:pt x="245382" y="1399313"/>
                    <a:pt x="225062" y="1366986"/>
                    <a:pt x="196429" y="1318957"/>
                  </a:cubicBezTo>
                  <a:cubicBezTo>
                    <a:pt x="167796" y="1270928"/>
                    <a:pt x="129003" y="1231212"/>
                    <a:pt x="102218" y="1147161"/>
                  </a:cubicBezTo>
                  <a:cubicBezTo>
                    <a:pt x="75433" y="1063110"/>
                    <a:pt x="52342" y="937495"/>
                    <a:pt x="35717" y="814651"/>
                  </a:cubicBezTo>
                  <a:cubicBezTo>
                    <a:pt x="19092" y="691807"/>
                    <a:pt x="7084" y="510775"/>
                    <a:pt x="2466" y="410099"/>
                  </a:cubicBezTo>
                  <a:cubicBezTo>
                    <a:pt x="-2152" y="309423"/>
                    <a:pt x="7083" y="278942"/>
                    <a:pt x="8007" y="210593"/>
                  </a:cubicBezTo>
                  <a:cubicBezTo>
                    <a:pt x="8931" y="142244"/>
                    <a:pt x="-10465" y="927"/>
                    <a:pt x="8008" y="4"/>
                  </a:cubicBezTo>
                  <a:cubicBezTo>
                    <a:pt x="26481" y="-919"/>
                    <a:pt x="90211" y="136703"/>
                    <a:pt x="118844" y="205052"/>
                  </a:cubicBezTo>
                  <a:cubicBezTo>
                    <a:pt x="147477" y="273401"/>
                    <a:pt x="129928" y="318659"/>
                    <a:pt x="179804" y="410099"/>
                  </a:cubicBezTo>
                  <a:cubicBezTo>
                    <a:pt x="229680" y="501539"/>
                    <a:pt x="352524" y="625306"/>
                    <a:pt x="418102" y="753691"/>
                  </a:cubicBezTo>
                  <a:cubicBezTo>
                    <a:pt x="483680" y="882076"/>
                    <a:pt x="542793" y="996607"/>
                    <a:pt x="573273" y="1180411"/>
                  </a:cubicBezTo>
                  <a:cubicBezTo>
                    <a:pt x="603753" y="1364215"/>
                    <a:pt x="611143" y="1772462"/>
                    <a:pt x="600983" y="1856513"/>
                  </a:cubicBezTo>
                  <a:close/>
                </a:path>
              </a:pathLst>
            </a:custGeom>
            <a:solidFill>
              <a:srgbClr val="f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手娟上的光"/>
            <p:cNvSpPr/>
            <p:nvPr/>
          </p:nvSpPr>
          <p:spPr>
            <a:xfrm>
              <a:off x="2828880" y="4036320"/>
              <a:ext cx="270360" cy="822600"/>
            </a:xfrm>
            <a:custGeom>
              <a:avLst/>
              <a:gdLst/>
              <a:ahLst/>
              <a:rect l="l" t="t" r="r" b="b"/>
              <a:pathLst>
                <a:path w="455979" h="1387147">
                  <a:moveTo>
                    <a:pt x="40519" y="255960"/>
                  </a:moveTo>
                  <a:cubicBezTo>
                    <a:pt x="55297" y="324309"/>
                    <a:pt x="49045" y="320082"/>
                    <a:pt x="90395" y="411131"/>
                  </a:cubicBezTo>
                  <a:cubicBezTo>
                    <a:pt x="131745" y="502180"/>
                    <a:pt x="229508" y="687725"/>
                    <a:pt x="288621" y="802256"/>
                  </a:cubicBezTo>
                  <a:cubicBezTo>
                    <a:pt x="347734" y="916787"/>
                    <a:pt x="419920" y="1000945"/>
                    <a:pt x="445071" y="1098317"/>
                  </a:cubicBezTo>
                  <a:cubicBezTo>
                    <a:pt x="470222" y="1195689"/>
                    <a:pt x="444715" y="1374484"/>
                    <a:pt x="439529" y="1386491"/>
                  </a:cubicBezTo>
                  <a:cubicBezTo>
                    <a:pt x="434343" y="1398498"/>
                    <a:pt x="434272" y="1242830"/>
                    <a:pt x="413952" y="1170360"/>
                  </a:cubicBezTo>
                  <a:cubicBezTo>
                    <a:pt x="393632" y="1097890"/>
                    <a:pt x="363578" y="1037037"/>
                    <a:pt x="317609" y="951672"/>
                  </a:cubicBezTo>
                  <a:cubicBezTo>
                    <a:pt x="271640" y="866307"/>
                    <a:pt x="188123" y="756820"/>
                    <a:pt x="138140" y="658168"/>
                  </a:cubicBezTo>
                  <a:cubicBezTo>
                    <a:pt x="88157" y="559516"/>
                    <a:pt x="36185" y="468751"/>
                    <a:pt x="17712" y="359762"/>
                  </a:cubicBezTo>
                  <a:cubicBezTo>
                    <a:pt x="-761" y="250773"/>
                    <a:pt x="-2075" y="18337"/>
                    <a:pt x="1726" y="1037"/>
                  </a:cubicBezTo>
                  <a:cubicBezTo>
                    <a:pt x="5527" y="-16263"/>
                    <a:pt x="25741" y="187611"/>
                    <a:pt x="40519" y="255960"/>
                  </a:cubicBezTo>
                  <a:close/>
                </a:path>
              </a:pathLst>
            </a:custGeom>
            <a:solidFill>
              <a:srgbClr val="ffd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裙子"/>
            <p:cNvSpPr/>
            <p:nvPr/>
          </p:nvSpPr>
          <p:spPr>
            <a:xfrm>
              <a:off x="114480" y="4531320"/>
              <a:ext cx="2551680" cy="947160"/>
            </a:xfrm>
            <a:custGeom>
              <a:avLst/>
              <a:gdLst/>
              <a:ahLst/>
              <a:rect l="l" t="t" r="r" b="b"/>
              <a:pathLst>
                <a:path w="4223038" h="1568351">
                  <a:moveTo>
                    <a:pt x="2716914" y="6215"/>
                  </a:moveTo>
                  <a:cubicBezTo>
                    <a:pt x="2521651" y="33203"/>
                    <a:pt x="2483551" y="180840"/>
                    <a:pt x="2307339" y="282440"/>
                  </a:cubicBezTo>
                  <a:cubicBezTo>
                    <a:pt x="2131126" y="384040"/>
                    <a:pt x="1866014" y="514215"/>
                    <a:pt x="1659639" y="615815"/>
                  </a:cubicBezTo>
                  <a:cubicBezTo>
                    <a:pt x="1453264" y="717415"/>
                    <a:pt x="1219901" y="828540"/>
                    <a:pt x="1069089" y="892040"/>
                  </a:cubicBezTo>
                  <a:cubicBezTo>
                    <a:pt x="918277" y="955540"/>
                    <a:pt x="861126" y="969828"/>
                    <a:pt x="754764" y="996815"/>
                  </a:cubicBezTo>
                  <a:cubicBezTo>
                    <a:pt x="648401" y="1023803"/>
                    <a:pt x="556326" y="1049203"/>
                    <a:pt x="430914" y="1053965"/>
                  </a:cubicBezTo>
                  <a:cubicBezTo>
                    <a:pt x="305502" y="1058727"/>
                    <a:pt x="32451" y="1019040"/>
                    <a:pt x="2289" y="1025390"/>
                  </a:cubicBezTo>
                  <a:cubicBezTo>
                    <a:pt x="-27873" y="1031740"/>
                    <a:pt x="249939" y="1092065"/>
                    <a:pt x="249939" y="1092065"/>
                  </a:cubicBezTo>
                  <a:cubicBezTo>
                    <a:pt x="381701" y="1126990"/>
                    <a:pt x="486477" y="1173028"/>
                    <a:pt x="792864" y="1234940"/>
                  </a:cubicBezTo>
                  <a:cubicBezTo>
                    <a:pt x="1099251" y="1296852"/>
                    <a:pt x="1629477" y="1407978"/>
                    <a:pt x="2088264" y="1463540"/>
                  </a:cubicBezTo>
                  <a:cubicBezTo>
                    <a:pt x="2547051" y="1519102"/>
                    <a:pt x="3207452" y="1566728"/>
                    <a:pt x="3545589" y="1568315"/>
                  </a:cubicBezTo>
                  <a:cubicBezTo>
                    <a:pt x="3883726" y="1569902"/>
                    <a:pt x="4004377" y="1519103"/>
                    <a:pt x="4117089" y="1473065"/>
                  </a:cubicBezTo>
                  <a:cubicBezTo>
                    <a:pt x="4229802" y="1427028"/>
                    <a:pt x="4225039" y="1384165"/>
                    <a:pt x="4221864" y="1292090"/>
                  </a:cubicBezTo>
                  <a:cubicBezTo>
                    <a:pt x="4218689" y="1200015"/>
                    <a:pt x="4158364" y="1057140"/>
                    <a:pt x="4098039" y="920615"/>
                  </a:cubicBezTo>
                  <a:cubicBezTo>
                    <a:pt x="4037714" y="784090"/>
                    <a:pt x="3963102" y="606290"/>
                    <a:pt x="3859914" y="472940"/>
                  </a:cubicBezTo>
                  <a:cubicBezTo>
                    <a:pt x="3756726" y="339590"/>
                    <a:pt x="3674177" y="196715"/>
                    <a:pt x="3478914" y="120515"/>
                  </a:cubicBezTo>
                  <a:cubicBezTo>
                    <a:pt x="3283652" y="44315"/>
                    <a:pt x="2912177" y="-20773"/>
                    <a:pt x="2716914" y="62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774000" y="4980240"/>
              <a:ext cx="1213200" cy="255960"/>
              <a:chOff x="774000" y="4980240"/>
              <a:chExt cx="1213200" cy="255960"/>
            </a:xfrm>
          </p:grpSpPr>
          <p:pic>
            <p:nvPicPr>
              <p:cNvPr id="92" name="裙子上的光" descr=""/>
              <p:cNvPicPr/>
              <p:nvPr/>
            </p:nvPicPr>
            <p:blipFill>
              <a:blip r:embed="rId2"/>
              <a:stretch/>
            </p:blipFill>
            <p:spPr>
              <a:xfrm>
                <a:off x="774000" y="4980960"/>
                <a:ext cx="1212480" cy="25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13"/>
              <p:cNvSpPr/>
              <p:nvPr/>
            </p:nvSpPr>
            <p:spPr>
              <a:xfrm>
                <a:off x="774000" y="4980240"/>
                <a:ext cx="121320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上衣"/>
            <p:cNvSpPr/>
            <p:nvPr/>
          </p:nvSpPr>
          <p:spPr>
            <a:xfrm>
              <a:off x="1432800" y="3646440"/>
              <a:ext cx="1219680" cy="1317600"/>
            </a:xfrm>
            <a:custGeom>
              <a:avLst/>
              <a:gdLst/>
              <a:ahLst/>
              <a:rect l="l" t="t" r="r" b="b"/>
              <a:pathLst>
                <a:path w="2019062" h="2182251">
                  <a:moveTo>
                    <a:pt x="1367854" y="10061"/>
                  </a:moveTo>
                  <a:cubicBezTo>
                    <a:pt x="1429486" y="-24677"/>
                    <a:pt x="1506807" y="39196"/>
                    <a:pt x="1556113" y="70572"/>
                  </a:cubicBezTo>
                  <a:cubicBezTo>
                    <a:pt x="1605419" y="101948"/>
                    <a:pt x="1603178" y="152375"/>
                    <a:pt x="1663690" y="198319"/>
                  </a:cubicBezTo>
                  <a:cubicBezTo>
                    <a:pt x="1724202" y="244263"/>
                    <a:pt x="1860914" y="286846"/>
                    <a:pt x="1919184" y="346237"/>
                  </a:cubicBezTo>
                  <a:cubicBezTo>
                    <a:pt x="1977455" y="405628"/>
                    <a:pt x="2000987" y="481829"/>
                    <a:pt x="2013313" y="554667"/>
                  </a:cubicBezTo>
                  <a:cubicBezTo>
                    <a:pt x="2025639" y="627505"/>
                    <a:pt x="2017796" y="679052"/>
                    <a:pt x="1993143" y="783267"/>
                  </a:cubicBezTo>
                  <a:cubicBezTo>
                    <a:pt x="1968490" y="887482"/>
                    <a:pt x="1891170" y="1032038"/>
                    <a:pt x="1865396" y="1179955"/>
                  </a:cubicBezTo>
                  <a:cubicBezTo>
                    <a:pt x="1839622" y="1327872"/>
                    <a:pt x="1844104" y="1531819"/>
                    <a:pt x="1838501" y="1670772"/>
                  </a:cubicBezTo>
                  <a:cubicBezTo>
                    <a:pt x="1832898" y="1809725"/>
                    <a:pt x="1850828" y="1939713"/>
                    <a:pt x="1831778" y="2013672"/>
                  </a:cubicBezTo>
                  <a:cubicBezTo>
                    <a:pt x="1812728" y="2087631"/>
                    <a:pt x="1782472" y="2094354"/>
                    <a:pt x="1724201" y="2114525"/>
                  </a:cubicBezTo>
                  <a:cubicBezTo>
                    <a:pt x="1665930" y="2134696"/>
                    <a:pt x="1574042" y="2123490"/>
                    <a:pt x="1482154" y="2134696"/>
                  </a:cubicBezTo>
                  <a:cubicBezTo>
                    <a:pt x="1390266" y="2145902"/>
                    <a:pt x="1296137" y="2179520"/>
                    <a:pt x="1172872" y="2181761"/>
                  </a:cubicBezTo>
                  <a:cubicBezTo>
                    <a:pt x="1049607" y="2184002"/>
                    <a:pt x="877037" y="2179519"/>
                    <a:pt x="742566" y="2148143"/>
                  </a:cubicBezTo>
                  <a:cubicBezTo>
                    <a:pt x="608095" y="2116767"/>
                    <a:pt x="472504" y="2056255"/>
                    <a:pt x="366048" y="1993502"/>
                  </a:cubicBezTo>
                  <a:cubicBezTo>
                    <a:pt x="259592" y="1930749"/>
                    <a:pt x="164343" y="1843343"/>
                    <a:pt x="103831" y="1771625"/>
                  </a:cubicBezTo>
                  <a:cubicBezTo>
                    <a:pt x="43319" y="1699907"/>
                    <a:pt x="-13831" y="1612502"/>
                    <a:pt x="2978" y="1563196"/>
                  </a:cubicBezTo>
                  <a:cubicBezTo>
                    <a:pt x="19787" y="1513890"/>
                    <a:pt x="102710" y="1548628"/>
                    <a:pt x="204684" y="1475790"/>
                  </a:cubicBezTo>
                  <a:cubicBezTo>
                    <a:pt x="306657" y="1402952"/>
                    <a:pt x="502760" y="1238226"/>
                    <a:pt x="614819" y="1126167"/>
                  </a:cubicBezTo>
                  <a:cubicBezTo>
                    <a:pt x="726878" y="1014108"/>
                    <a:pt x="809802" y="893084"/>
                    <a:pt x="877037" y="803437"/>
                  </a:cubicBezTo>
                  <a:cubicBezTo>
                    <a:pt x="944272" y="713790"/>
                    <a:pt x="966684" y="675690"/>
                    <a:pt x="1018231" y="588284"/>
                  </a:cubicBezTo>
                  <a:cubicBezTo>
                    <a:pt x="1069778" y="500878"/>
                    <a:pt x="1126928" y="375373"/>
                    <a:pt x="1186319" y="279002"/>
                  </a:cubicBezTo>
                  <a:cubicBezTo>
                    <a:pt x="1245710" y="182631"/>
                    <a:pt x="1306222" y="44799"/>
                    <a:pt x="1367854" y="1006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上衣上的色带"/>
            <p:cNvSpPr/>
            <p:nvPr/>
          </p:nvSpPr>
          <p:spPr>
            <a:xfrm>
              <a:off x="1565640" y="4470840"/>
              <a:ext cx="983160" cy="389520"/>
            </a:xfrm>
            <a:custGeom>
              <a:avLst/>
              <a:gdLst/>
              <a:ahLst/>
              <a:rect l="l" t="t" r="r" b="b"/>
              <a:pathLst>
                <a:path w="1627297" h="645130">
                  <a:moveTo>
                    <a:pt x="215051" y="189084"/>
                  </a:moveTo>
                  <a:cubicBezTo>
                    <a:pt x="243445" y="214001"/>
                    <a:pt x="218773" y="206643"/>
                    <a:pt x="318259" y="252572"/>
                  </a:cubicBezTo>
                  <a:cubicBezTo>
                    <a:pt x="417745" y="298501"/>
                    <a:pt x="680427" y="422935"/>
                    <a:pt x="811966" y="464657"/>
                  </a:cubicBezTo>
                  <a:cubicBezTo>
                    <a:pt x="943505" y="506379"/>
                    <a:pt x="1022622" y="487376"/>
                    <a:pt x="1107494" y="502902"/>
                  </a:cubicBezTo>
                  <a:cubicBezTo>
                    <a:pt x="1192366" y="518428"/>
                    <a:pt x="1239955" y="554982"/>
                    <a:pt x="1321200" y="557816"/>
                  </a:cubicBezTo>
                  <a:cubicBezTo>
                    <a:pt x="1402445" y="560650"/>
                    <a:pt x="1544375" y="525671"/>
                    <a:pt x="1594962" y="519906"/>
                  </a:cubicBezTo>
                  <a:cubicBezTo>
                    <a:pt x="1645549" y="514141"/>
                    <a:pt x="1620556" y="509972"/>
                    <a:pt x="1624722" y="523226"/>
                  </a:cubicBezTo>
                  <a:cubicBezTo>
                    <a:pt x="1628888" y="536480"/>
                    <a:pt x="1621548" y="602603"/>
                    <a:pt x="1610436" y="620860"/>
                  </a:cubicBezTo>
                  <a:cubicBezTo>
                    <a:pt x="1599324" y="639117"/>
                    <a:pt x="1531202" y="635410"/>
                    <a:pt x="1498261" y="641363"/>
                  </a:cubicBezTo>
                  <a:cubicBezTo>
                    <a:pt x="1465320" y="647316"/>
                    <a:pt x="1382795" y="644350"/>
                    <a:pt x="1322304" y="644670"/>
                  </a:cubicBezTo>
                  <a:cubicBezTo>
                    <a:pt x="1274514" y="650149"/>
                    <a:pt x="1062192" y="604211"/>
                    <a:pt x="971265" y="589442"/>
                  </a:cubicBezTo>
                  <a:cubicBezTo>
                    <a:pt x="880338" y="574674"/>
                    <a:pt x="872250" y="575118"/>
                    <a:pt x="776744" y="556059"/>
                  </a:cubicBezTo>
                  <a:cubicBezTo>
                    <a:pt x="681238" y="537000"/>
                    <a:pt x="474061" y="499014"/>
                    <a:pt x="398226" y="475088"/>
                  </a:cubicBezTo>
                  <a:cubicBezTo>
                    <a:pt x="322391" y="451162"/>
                    <a:pt x="346074" y="430468"/>
                    <a:pt x="321736" y="412505"/>
                  </a:cubicBezTo>
                  <a:cubicBezTo>
                    <a:pt x="297398" y="394542"/>
                    <a:pt x="274220" y="381214"/>
                    <a:pt x="252200" y="367307"/>
                  </a:cubicBezTo>
                  <a:cubicBezTo>
                    <a:pt x="230180" y="353400"/>
                    <a:pt x="218011" y="348184"/>
                    <a:pt x="189617" y="329062"/>
                  </a:cubicBezTo>
                  <a:cubicBezTo>
                    <a:pt x="161223" y="309940"/>
                    <a:pt x="109222" y="281268"/>
                    <a:pt x="81836" y="252572"/>
                  </a:cubicBezTo>
                  <a:cubicBezTo>
                    <a:pt x="54450" y="223876"/>
                    <a:pt x="38050" y="183542"/>
                    <a:pt x="25302" y="156887"/>
                  </a:cubicBezTo>
                  <a:cubicBezTo>
                    <a:pt x="12554" y="130232"/>
                    <a:pt x="-10449" y="117254"/>
                    <a:pt x="5347" y="92639"/>
                  </a:cubicBezTo>
                  <a:cubicBezTo>
                    <a:pt x="21143" y="68024"/>
                    <a:pt x="100379" y="22524"/>
                    <a:pt x="120081" y="9196"/>
                  </a:cubicBezTo>
                  <a:cubicBezTo>
                    <a:pt x="139783" y="-4132"/>
                    <a:pt x="118922" y="-2973"/>
                    <a:pt x="123558" y="12672"/>
                  </a:cubicBezTo>
                  <a:cubicBezTo>
                    <a:pt x="128194" y="28317"/>
                    <a:pt x="132647" y="73667"/>
                    <a:pt x="147896" y="103069"/>
                  </a:cubicBezTo>
                  <a:cubicBezTo>
                    <a:pt x="163145" y="132471"/>
                    <a:pt x="186657" y="164167"/>
                    <a:pt x="215051" y="189084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右手"/>
            <p:cNvSpPr/>
            <p:nvPr/>
          </p:nvSpPr>
          <p:spPr>
            <a:xfrm>
              <a:off x="2499480" y="4236480"/>
              <a:ext cx="463680" cy="144360"/>
            </a:xfrm>
            <a:custGeom>
              <a:avLst/>
              <a:gdLst/>
              <a:ahLst/>
              <a:rect l="l" t="t" r="r" b="b"/>
              <a:pathLst>
                <a:path w="767484" h="239424">
                  <a:moveTo>
                    <a:pt x="8117" y="80877"/>
                  </a:moveTo>
                  <a:cubicBezTo>
                    <a:pt x="43581" y="54998"/>
                    <a:pt x="264992" y="84711"/>
                    <a:pt x="341671" y="80877"/>
                  </a:cubicBezTo>
                  <a:cubicBezTo>
                    <a:pt x="418350" y="77043"/>
                    <a:pt x="431769" y="70333"/>
                    <a:pt x="468192" y="57873"/>
                  </a:cubicBezTo>
                  <a:cubicBezTo>
                    <a:pt x="504615" y="45413"/>
                    <a:pt x="525701" y="14741"/>
                    <a:pt x="560207" y="6115"/>
                  </a:cubicBezTo>
                  <a:cubicBezTo>
                    <a:pt x="594713" y="-2511"/>
                    <a:pt x="644554" y="-1553"/>
                    <a:pt x="675226" y="6115"/>
                  </a:cubicBezTo>
                  <a:cubicBezTo>
                    <a:pt x="705898" y="13783"/>
                    <a:pt x="728901" y="31995"/>
                    <a:pt x="744237" y="52123"/>
                  </a:cubicBezTo>
                  <a:cubicBezTo>
                    <a:pt x="759573" y="72251"/>
                    <a:pt x="769158" y="102923"/>
                    <a:pt x="767241" y="126885"/>
                  </a:cubicBezTo>
                  <a:cubicBezTo>
                    <a:pt x="765324" y="150847"/>
                    <a:pt x="748072" y="177685"/>
                    <a:pt x="732736" y="195896"/>
                  </a:cubicBezTo>
                  <a:cubicBezTo>
                    <a:pt x="717400" y="214107"/>
                    <a:pt x="703981" y="230402"/>
                    <a:pt x="675226" y="236153"/>
                  </a:cubicBezTo>
                  <a:cubicBezTo>
                    <a:pt x="646471" y="241904"/>
                    <a:pt x="601422" y="237112"/>
                    <a:pt x="560207" y="230402"/>
                  </a:cubicBezTo>
                  <a:cubicBezTo>
                    <a:pt x="518992" y="223693"/>
                    <a:pt x="499823" y="194938"/>
                    <a:pt x="427936" y="195896"/>
                  </a:cubicBezTo>
                  <a:cubicBezTo>
                    <a:pt x="356049" y="196855"/>
                    <a:pt x="196940" y="253406"/>
                    <a:pt x="128887" y="236153"/>
                  </a:cubicBezTo>
                  <a:cubicBezTo>
                    <a:pt x="60834" y="218900"/>
                    <a:pt x="-27347" y="106756"/>
                    <a:pt x="8117" y="80877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右袖"/>
            <p:cNvSpPr/>
            <p:nvPr/>
          </p:nvSpPr>
          <p:spPr>
            <a:xfrm>
              <a:off x="1693080" y="3680280"/>
              <a:ext cx="1134720" cy="1218240"/>
            </a:xfrm>
            <a:custGeom>
              <a:avLst/>
              <a:gdLst/>
              <a:ahLst/>
              <a:rect l="l" t="t" r="r" b="b"/>
              <a:pathLst>
                <a:path w="1878521" h="2017657">
                  <a:moveTo>
                    <a:pt x="143922" y="1399509"/>
                  </a:moveTo>
                  <a:cubicBezTo>
                    <a:pt x="184263" y="1315465"/>
                    <a:pt x="203313" y="1240386"/>
                    <a:pt x="244775" y="1164186"/>
                  </a:cubicBezTo>
                  <a:cubicBezTo>
                    <a:pt x="286237" y="1087986"/>
                    <a:pt x="343386" y="1007303"/>
                    <a:pt x="392692" y="942309"/>
                  </a:cubicBezTo>
                  <a:cubicBezTo>
                    <a:pt x="441998" y="877315"/>
                    <a:pt x="493545" y="844819"/>
                    <a:pt x="540610" y="774222"/>
                  </a:cubicBezTo>
                  <a:cubicBezTo>
                    <a:pt x="587675" y="703625"/>
                    <a:pt x="632499" y="607254"/>
                    <a:pt x="675081" y="518727"/>
                  </a:cubicBezTo>
                  <a:cubicBezTo>
                    <a:pt x="717663" y="430200"/>
                    <a:pt x="756884" y="321503"/>
                    <a:pt x="796104" y="243062"/>
                  </a:cubicBezTo>
                  <a:cubicBezTo>
                    <a:pt x="835325" y="164621"/>
                    <a:pt x="864460" y="87300"/>
                    <a:pt x="910404" y="48080"/>
                  </a:cubicBezTo>
                  <a:cubicBezTo>
                    <a:pt x="956348" y="8859"/>
                    <a:pt x="1031428" y="-12432"/>
                    <a:pt x="1071769" y="7739"/>
                  </a:cubicBezTo>
                  <a:cubicBezTo>
                    <a:pt x="1112110" y="27910"/>
                    <a:pt x="1090819" y="54804"/>
                    <a:pt x="1152451" y="169104"/>
                  </a:cubicBezTo>
                  <a:cubicBezTo>
                    <a:pt x="1214083" y="283404"/>
                    <a:pt x="1348554" y="576998"/>
                    <a:pt x="1441563" y="693539"/>
                  </a:cubicBezTo>
                  <a:cubicBezTo>
                    <a:pt x="1534572" y="810080"/>
                    <a:pt x="1642148" y="826889"/>
                    <a:pt x="1710504" y="868351"/>
                  </a:cubicBezTo>
                  <a:cubicBezTo>
                    <a:pt x="1778860" y="909813"/>
                    <a:pt x="1825925" y="891883"/>
                    <a:pt x="1851698" y="942309"/>
                  </a:cubicBezTo>
                  <a:cubicBezTo>
                    <a:pt x="1877472" y="992735"/>
                    <a:pt x="1889798" y="1080141"/>
                    <a:pt x="1865145" y="1170909"/>
                  </a:cubicBezTo>
                  <a:cubicBezTo>
                    <a:pt x="1840492" y="1261677"/>
                    <a:pt x="1784463" y="1386062"/>
                    <a:pt x="1703781" y="1486915"/>
                  </a:cubicBezTo>
                  <a:cubicBezTo>
                    <a:pt x="1623099" y="1587768"/>
                    <a:pt x="1471819" y="1706551"/>
                    <a:pt x="1381051" y="1776027"/>
                  </a:cubicBezTo>
                  <a:cubicBezTo>
                    <a:pt x="1290283" y="1845504"/>
                    <a:pt x="1248822" y="1865674"/>
                    <a:pt x="1159175" y="1903774"/>
                  </a:cubicBezTo>
                  <a:cubicBezTo>
                    <a:pt x="1069528" y="1941874"/>
                    <a:pt x="958590" y="1987818"/>
                    <a:pt x="843169" y="2004627"/>
                  </a:cubicBezTo>
                  <a:cubicBezTo>
                    <a:pt x="727748" y="2021436"/>
                    <a:pt x="591036" y="2022556"/>
                    <a:pt x="466651" y="2004627"/>
                  </a:cubicBezTo>
                  <a:cubicBezTo>
                    <a:pt x="342266" y="1986698"/>
                    <a:pt x="174178" y="1953080"/>
                    <a:pt x="96857" y="1897051"/>
                  </a:cubicBezTo>
                  <a:cubicBezTo>
                    <a:pt x="19536" y="1841022"/>
                    <a:pt x="-9599" y="1751375"/>
                    <a:pt x="2727" y="1668451"/>
                  </a:cubicBezTo>
                  <a:cubicBezTo>
                    <a:pt x="15053" y="1585527"/>
                    <a:pt x="103581" y="1483553"/>
                    <a:pt x="143922" y="13995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头顶辫子"/>
            <p:cNvSpPr/>
            <p:nvPr/>
          </p:nvSpPr>
          <p:spPr>
            <a:xfrm>
              <a:off x="2004120" y="2200320"/>
              <a:ext cx="537120" cy="25560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右丝带"/>
            <p:cNvSpPr/>
            <p:nvPr/>
          </p:nvSpPr>
          <p:spPr>
            <a:xfrm rot="21421800">
              <a:off x="2000880" y="2245320"/>
              <a:ext cx="537120" cy="14436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大辫子"/>
            <p:cNvSpPr/>
            <p:nvPr/>
          </p:nvSpPr>
          <p:spPr>
            <a:xfrm>
              <a:off x="670320" y="3558960"/>
              <a:ext cx="1398240" cy="1407240"/>
            </a:xfrm>
            <a:custGeom>
              <a:avLst/>
              <a:gdLst/>
              <a:ahLst/>
              <a:rect l="l" t="t" r="r" b="b"/>
              <a:pathLst>
                <a:path w="2314597" h="2330352">
                  <a:moveTo>
                    <a:pt x="2114081" y="463"/>
                  </a:moveTo>
                  <a:cubicBezTo>
                    <a:pt x="2144973" y="8701"/>
                    <a:pt x="2293254" y="110644"/>
                    <a:pt x="2311789" y="173457"/>
                  </a:cubicBezTo>
                  <a:cubicBezTo>
                    <a:pt x="2330324" y="236270"/>
                    <a:pt x="2252065" y="323798"/>
                    <a:pt x="2225292" y="377344"/>
                  </a:cubicBezTo>
                  <a:cubicBezTo>
                    <a:pt x="2198519" y="430890"/>
                    <a:pt x="2200578" y="403087"/>
                    <a:pt x="2151151" y="494733"/>
                  </a:cubicBezTo>
                  <a:cubicBezTo>
                    <a:pt x="2101724" y="586379"/>
                    <a:pt x="2004930" y="800563"/>
                    <a:pt x="1928730" y="927220"/>
                  </a:cubicBezTo>
                  <a:cubicBezTo>
                    <a:pt x="1852530" y="1053877"/>
                    <a:pt x="1806192" y="1124928"/>
                    <a:pt x="1693951" y="1254674"/>
                  </a:cubicBezTo>
                  <a:cubicBezTo>
                    <a:pt x="1581710" y="1384420"/>
                    <a:pt x="1402537" y="1585217"/>
                    <a:pt x="1255286" y="1705695"/>
                  </a:cubicBezTo>
                  <a:cubicBezTo>
                    <a:pt x="1108035" y="1826173"/>
                    <a:pt x="965932" y="1909582"/>
                    <a:pt x="810443" y="1977544"/>
                  </a:cubicBezTo>
                  <a:cubicBezTo>
                    <a:pt x="654954" y="2045506"/>
                    <a:pt x="457245" y="2054773"/>
                    <a:pt x="322351" y="2113468"/>
                  </a:cubicBezTo>
                  <a:cubicBezTo>
                    <a:pt x="187457" y="2172163"/>
                    <a:pt x="17552" y="2342069"/>
                    <a:pt x="1076" y="2329712"/>
                  </a:cubicBezTo>
                  <a:cubicBezTo>
                    <a:pt x="-15400" y="2317355"/>
                    <a:pt x="161713" y="2155687"/>
                    <a:pt x="223497" y="2039328"/>
                  </a:cubicBezTo>
                  <a:cubicBezTo>
                    <a:pt x="285281" y="1922969"/>
                    <a:pt x="301756" y="1754093"/>
                    <a:pt x="371778" y="1631555"/>
                  </a:cubicBezTo>
                  <a:cubicBezTo>
                    <a:pt x="441800" y="1509017"/>
                    <a:pt x="520059" y="1396777"/>
                    <a:pt x="643627" y="1304101"/>
                  </a:cubicBezTo>
                  <a:cubicBezTo>
                    <a:pt x="767195" y="1211425"/>
                    <a:pt x="963873" y="1157879"/>
                    <a:pt x="1113184" y="1075501"/>
                  </a:cubicBezTo>
                  <a:cubicBezTo>
                    <a:pt x="1262495" y="993123"/>
                    <a:pt x="1430341" y="889119"/>
                    <a:pt x="1539492" y="809830"/>
                  </a:cubicBezTo>
                  <a:cubicBezTo>
                    <a:pt x="1648643" y="730541"/>
                    <a:pt x="1699100" y="661550"/>
                    <a:pt x="1768092" y="599766"/>
                  </a:cubicBezTo>
                  <a:cubicBezTo>
                    <a:pt x="1837084" y="537982"/>
                    <a:pt x="1895778" y="499882"/>
                    <a:pt x="1953443" y="439128"/>
                  </a:cubicBezTo>
                  <a:cubicBezTo>
                    <a:pt x="2011108" y="378374"/>
                    <a:pt x="2091427" y="278490"/>
                    <a:pt x="2114081" y="235241"/>
                  </a:cubicBezTo>
                  <a:cubicBezTo>
                    <a:pt x="2136735" y="191992"/>
                    <a:pt x="2087308" y="198171"/>
                    <a:pt x="2089368" y="179636"/>
                  </a:cubicBezTo>
                  <a:cubicBezTo>
                    <a:pt x="2091428" y="161101"/>
                    <a:pt x="2121290" y="151833"/>
                    <a:pt x="2126438" y="124030"/>
                  </a:cubicBezTo>
                  <a:cubicBezTo>
                    <a:pt x="2131587" y="96227"/>
                    <a:pt x="2083189" y="-7775"/>
                    <a:pt x="2114081" y="46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辫子上的丝巾"/>
            <p:cNvSpPr/>
            <p:nvPr/>
          </p:nvSpPr>
          <p:spPr>
            <a:xfrm>
              <a:off x="1932840" y="3603600"/>
              <a:ext cx="137520" cy="156960"/>
            </a:xfrm>
            <a:custGeom>
              <a:avLst/>
              <a:gdLst/>
              <a:ahLst/>
              <a:rect l="l" t="t" r="r" b="b"/>
              <a:pathLst>
                <a:path w="228083" h="259989">
                  <a:moveTo>
                    <a:pt x="40288" y="2987"/>
                  </a:moveTo>
                  <a:cubicBezTo>
                    <a:pt x="8562" y="-13443"/>
                    <a:pt x="36776" y="42418"/>
                    <a:pt x="30090" y="60774"/>
                  </a:cubicBezTo>
                  <a:cubicBezTo>
                    <a:pt x="23404" y="79130"/>
                    <a:pt x="-2324" y="97090"/>
                    <a:pt x="169" y="113126"/>
                  </a:cubicBezTo>
                  <a:cubicBezTo>
                    <a:pt x="2662" y="129162"/>
                    <a:pt x="19669" y="132856"/>
                    <a:pt x="45051" y="156990"/>
                  </a:cubicBezTo>
                  <a:cubicBezTo>
                    <a:pt x="70433" y="181124"/>
                    <a:pt x="128214" y="247452"/>
                    <a:pt x="152463" y="257931"/>
                  </a:cubicBezTo>
                  <a:cubicBezTo>
                    <a:pt x="176712" y="268410"/>
                    <a:pt x="179215" y="236296"/>
                    <a:pt x="190546" y="219866"/>
                  </a:cubicBezTo>
                  <a:cubicBezTo>
                    <a:pt x="201877" y="203436"/>
                    <a:pt x="245491" y="195498"/>
                    <a:pt x="220448" y="159352"/>
                  </a:cubicBezTo>
                  <a:cubicBezTo>
                    <a:pt x="195405" y="123206"/>
                    <a:pt x="72014" y="19417"/>
                    <a:pt x="40288" y="29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头发"/>
            <p:cNvSpPr/>
            <p:nvPr/>
          </p:nvSpPr>
          <p:spPr>
            <a:xfrm>
              <a:off x="1231560" y="2303640"/>
              <a:ext cx="2260800" cy="1731960"/>
            </a:xfrm>
            <a:custGeom>
              <a:avLst/>
              <a:gdLst/>
              <a:ahLst/>
              <a:rect l="l" t="t" r="r" b="b"/>
              <a:pathLst>
                <a:path w="3741927" h="2868158">
                  <a:moveTo>
                    <a:pt x="2559476" y="1368493"/>
                  </a:moveTo>
                  <a:cubicBezTo>
                    <a:pt x="2591398" y="1412772"/>
                    <a:pt x="2633616" y="1374672"/>
                    <a:pt x="2726292" y="1374672"/>
                  </a:cubicBezTo>
                  <a:cubicBezTo>
                    <a:pt x="2818968" y="1374672"/>
                    <a:pt x="3005349" y="1372612"/>
                    <a:pt x="3115530" y="1368493"/>
                  </a:cubicBezTo>
                  <a:cubicBezTo>
                    <a:pt x="3225711" y="1364374"/>
                    <a:pt x="3288524" y="1355107"/>
                    <a:pt x="3387378" y="1349958"/>
                  </a:cubicBezTo>
                  <a:cubicBezTo>
                    <a:pt x="3486232" y="1344810"/>
                    <a:pt x="3656138" y="1414832"/>
                    <a:pt x="3708654" y="1337602"/>
                  </a:cubicBezTo>
                  <a:cubicBezTo>
                    <a:pt x="3761170" y="1260372"/>
                    <a:pt x="3745725" y="1029712"/>
                    <a:pt x="3702476" y="886580"/>
                  </a:cubicBezTo>
                  <a:cubicBezTo>
                    <a:pt x="3659227" y="743448"/>
                    <a:pt x="3564541" y="584820"/>
                    <a:pt x="3449162" y="478807"/>
                  </a:cubicBezTo>
                  <a:cubicBezTo>
                    <a:pt x="3333783" y="372794"/>
                    <a:pt x="3127564" y="314457"/>
                    <a:pt x="3010203" y="250501"/>
                  </a:cubicBezTo>
                  <a:cubicBezTo>
                    <a:pt x="2892842" y="186545"/>
                    <a:pt x="2835563" y="131160"/>
                    <a:pt x="2744996" y="95070"/>
                  </a:cubicBezTo>
                  <a:cubicBezTo>
                    <a:pt x="2654429" y="58980"/>
                    <a:pt x="2608931" y="49296"/>
                    <a:pt x="2466800" y="33963"/>
                  </a:cubicBezTo>
                  <a:cubicBezTo>
                    <a:pt x="2324669" y="18630"/>
                    <a:pt x="2066235" y="-9286"/>
                    <a:pt x="1892211" y="3071"/>
                  </a:cubicBezTo>
                  <a:cubicBezTo>
                    <a:pt x="1718187" y="15428"/>
                    <a:pt x="1547251" y="70004"/>
                    <a:pt x="1422654" y="108104"/>
                  </a:cubicBezTo>
                  <a:cubicBezTo>
                    <a:pt x="1298057" y="146204"/>
                    <a:pt x="1217738" y="194602"/>
                    <a:pt x="1144627" y="231672"/>
                  </a:cubicBezTo>
                  <a:cubicBezTo>
                    <a:pt x="1071516" y="268742"/>
                    <a:pt x="1037535" y="333614"/>
                    <a:pt x="983989" y="330525"/>
                  </a:cubicBezTo>
                  <a:cubicBezTo>
                    <a:pt x="930443" y="327436"/>
                    <a:pt x="910878" y="238879"/>
                    <a:pt x="823351" y="213136"/>
                  </a:cubicBezTo>
                  <a:cubicBezTo>
                    <a:pt x="735824" y="187393"/>
                    <a:pt x="575186" y="146204"/>
                    <a:pt x="458827" y="176066"/>
                  </a:cubicBezTo>
                  <a:cubicBezTo>
                    <a:pt x="342468" y="205928"/>
                    <a:pt x="201394" y="288307"/>
                    <a:pt x="125194" y="392310"/>
                  </a:cubicBezTo>
                  <a:cubicBezTo>
                    <a:pt x="48994" y="496313"/>
                    <a:pt x="-10731" y="674456"/>
                    <a:pt x="1626" y="800083"/>
                  </a:cubicBezTo>
                  <a:cubicBezTo>
                    <a:pt x="13983" y="925710"/>
                    <a:pt x="123136" y="1058544"/>
                    <a:pt x="199336" y="1146071"/>
                  </a:cubicBezTo>
                  <a:cubicBezTo>
                    <a:pt x="275536" y="1233598"/>
                    <a:pt x="373360" y="1289204"/>
                    <a:pt x="458827" y="1325245"/>
                  </a:cubicBezTo>
                  <a:cubicBezTo>
                    <a:pt x="544295" y="1361286"/>
                    <a:pt x="646238" y="1358196"/>
                    <a:pt x="712141" y="1362315"/>
                  </a:cubicBezTo>
                  <a:cubicBezTo>
                    <a:pt x="778044" y="1366434"/>
                    <a:pt x="833649" y="1296412"/>
                    <a:pt x="854243" y="1349958"/>
                  </a:cubicBezTo>
                  <a:cubicBezTo>
                    <a:pt x="874837" y="1403504"/>
                    <a:pt x="812023" y="1573409"/>
                    <a:pt x="835707" y="1683590"/>
                  </a:cubicBezTo>
                  <a:cubicBezTo>
                    <a:pt x="859391" y="1793771"/>
                    <a:pt x="931473" y="1923517"/>
                    <a:pt x="996346" y="2011044"/>
                  </a:cubicBezTo>
                  <a:cubicBezTo>
                    <a:pt x="1061219" y="2098571"/>
                    <a:pt x="1143597" y="2141821"/>
                    <a:pt x="1224946" y="2208753"/>
                  </a:cubicBezTo>
                  <a:cubicBezTo>
                    <a:pt x="1306295" y="2275685"/>
                    <a:pt x="1398971" y="2335409"/>
                    <a:pt x="1484438" y="2412639"/>
                  </a:cubicBezTo>
                  <a:cubicBezTo>
                    <a:pt x="1569905" y="2489869"/>
                    <a:pt x="1632719" y="2604169"/>
                    <a:pt x="1737751" y="2672131"/>
                  </a:cubicBezTo>
                  <a:cubicBezTo>
                    <a:pt x="1842783" y="2740093"/>
                    <a:pt x="1992094" y="2788490"/>
                    <a:pt x="2114632" y="2820412"/>
                  </a:cubicBezTo>
                  <a:cubicBezTo>
                    <a:pt x="2237170" y="2852334"/>
                    <a:pt x="2461651" y="2879107"/>
                    <a:pt x="2472978" y="2863661"/>
                  </a:cubicBezTo>
                  <a:cubicBezTo>
                    <a:pt x="2484305" y="2848215"/>
                    <a:pt x="2274240" y="2780252"/>
                    <a:pt x="2182594" y="2727736"/>
                  </a:cubicBezTo>
                  <a:cubicBezTo>
                    <a:pt x="2090948" y="2675220"/>
                    <a:pt x="1993124" y="2628882"/>
                    <a:pt x="1923103" y="2548563"/>
                  </a:cubicBezTo>
                  <a:cubicBezTo>
                    <a:pt x="1853082" y="2468244"/>
                    <a:pt x="1806744" y="2342618"/>
                    <a:pt x="1762465" y="2245823"/>
                  </a:cubicBezTo>
                  <a:cubicBezTo>
                    <a:pt x="1718187" y="2149029"/>
                    <a:pt x="1691038" y="2036638"/>
                    <a:pt x="1657432" y="1967796"/>
                  </a:cubicBezTo>
                  <a:cubicBezTo>
                    <a:pt x="1623826" y="1898954"/>
                    <a:pt x="1589737" y="1864726"/>
                    <a:pt x="1560829" y="1832772"/>
                  </a:cubicBezTo>
                  <a:cubicBezTo>
                    <a:pt x="1531921" y="1800818"/>
                    <a:pt x="1507991" y="1751477"/>
                    <a:pt x="1503036" y="1711779"/>
                  </a:cubicBezTo>
                  <a:cubicBezTo>
                    <a:pt x="1498081" y="1672081"/>
                    <a:pt x="1511146" y="1622116"/>
                    <a:pt x="1531097" y="1594581"/>
                  </a:cubicBezTo>
                  <a:cubicBezTo>
                    <a:pt x="1551048" y="1567046"/>
                    <a:pt x="1589330" y="1546152"/>
                    <a:pt x="1622743" y="1546571"/>
                  </a:cubicBezTo>
                  <a:cubicBezTo>
                    <a:pt x="1656156" y="1546990"/>
                    <a:pt x="1701078" y="1620594"/>
                    <a:pt x="1731573" y="1597093"/>
                  </a:cubicBezTo>
                  <a:cubicBezTo>
                    <a:pt x="1762068" y="1573592"/>
                    <a:pt x="1755257" y="1510595"/>
                    <a:pt x="1805714" y="1405563"/>
                  </a:cubicBezTo>
                  <a:cubicBezTo>
                    <a:pt x="1856171" y="1300531"/>
                    <a:pt x="1994154" y="1006029"/>
                    <a:pt x="2034313" y="966899"/>
                  </a:cubicBezTo>
                  <a:cubicBezTo>
                    <a:pt x="2074472" y="927769"/>
                    <a:pt x="2048730" y="1117239"/>
                    <a:pt x="2046670" y="1170785"/>
                  </a:cubicBezTo>
                  <a:cubicBezTo>
                    <a:pt x="2044610" y="1224331"/>
                    <a:pt x="2038431" y="1252134"/>
                    <a:pt x="2021955" y="1288174"/>
                  </a:cubicBezTo>
                  <a:cubicBezTo>
                    <a:pt x="2005479" y="1324214"/>
                    <a:pt x="1925162" y="1384969"/>
                    <a:pt x="1941638" y="1399385"/>
                  </a:cubicBezTo>
                  <a:cubicBezTo>
                    <a:pt x="1958114" y="1413801"/>
                    <a:pt x="2051818" y="1379820"/>
                    <a:pt x="2120810" y="1374671"/>
                  </a:cubicBezTo>
                  <a:cubicBezTo>
                    <a:pt x="2189802" y="1369522"/>
                    <a:pt x="2309251" y="1424099"/>
                    <a:pt x="2355589" y="1343780"/>
                  </a:cubicBezTo>
                  <a:cubicBezTo>
                    <a:pt x="2401927" y="1263461"/>
                    <a:pt x="2373095" y="946304"/>
                    <a:pt x="2398838" y="892758"/>
                  </a:cubicBezTo>
                  <a:cubicBezTo>
                    <a:pt x="2424581" y="839212"/>
                    <a:pt x="2507989" y="1029712"/>
                    <a:pt x="2534762" y="1109001"/>
                  </a:cubicBezTo>
                  <a:cubicBezTo>
                    <a:pt x="2561535" y="1188290"/>
                    <a:pt x="2527554" y="1324215"/>
                    <a:pt x="2559476" y="136849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左丝带"/>
            <p:cNvSpPr/>
            <p:nvPr/>
          </p:nvSpPr>
          <p:spPr>
            <a:xfrm>
              <a:off x="1535040" y="2491560"/>
              <a:ext cx="423000" cy="664560"/>
            </a:xfrm>
            <a:custGeom>
              <a:avLst/>
              <a:gdLst/>
              <a:ahLst/>
              <a:rect l="l" t="t" r="r" b="b"/>
              <a:pathLst>
                <a:path w="700106" h="1100876">
                  <a:moveTo>
                    <a:pt x="451021" y="25620"/>
                  </a:moveTo>
                  <a:cubicBezTo>
                    <a:pt x="460288" y="-14539"/>
                    <a:pt x="529280" y="-5272"/>
                    <a:pt x="568410" y="37977"/>
                  </a:cubicBezTo>
                  <a:cubicBezTo>
                    <a:pt x="607540" y="81226"/>
                    <a:pt x="667265" y="186258"/>
                    <a:pt x="685800" y="285112"/>
                  </a:cubicBezTo>
                  <a:cubicBezTo>
                    <a:pt x="704335" y="383966"/>
                    <a:pt x="707424" y="528128"/>
                    <a:pt x="679621" y="631101"/>
                  </a:cubicBezTo>
                  <a:cubicBezTo>
                    <a:pt x="651818" y="734074"/>
                    <a:pt x="576649" y="831898"/>
                    <a:pt x="518984" y="902949"/>
                  </a:cubicBezTo>
                  <a:cubicBezTo>
                    <a:pt x="461319" y="974000"/>
                    <a:pt x="385119" y="1024458"/>
                    <a:pt x="333632" y="1057409"/>
                  </a:cubicBezTo>
                  <a:cubicBezTo>
                    <a:pt x="282145" y="1090360"/>
                    <a:pt x="265669" y="1102717"/>
                    <a:pt x="210064" y="1100658"/>
                  </a:cubicBezTo>
                  <a:cubicBezTo>
                    <a:pt x="154459" y="1098599"/>
                    <a:pt x="0" y="1081093"/>
                    <a:pt x="0" y="1045052"/>
                  </a:cubicBezTo>
                  <a:cubicBezTo>
                    <a:pt x="0" y="1009011"/>
                    <a:pt x="140044" y="959584"/>
                    <a:pt x="210065" y="884414"/>
                  </a:cubicBezTo>
                  <a:cubicBezTo>
                    <a:pt x="280086" y="809244"/>
                    <a:pt x="370702" y="701122"/>
                    <a:pt x="420129" y="594030"/>
                  </a:cubicBezTo>
                  <a:cubicBezTo>
                    <a:pt x="469556" y="486938"/>
                    <a:pt x="507656" y="373668"/>
                    <a:pt x="512805" y="278933"/>
                  </a:cubicBezTo>
                  <a:cubicBezTo>
                    <a:pt x="517954" y="184198"/>
                    <a:pt x="441754" y="65779"/>
                    <a:pt x="451021" y="2562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右眉"/>
            <p:cNvSpPr/>
            <p:nvPr/>
          </p:nvSpPr>
          <p:spPr>
            <a:xfrm>
              <a:off x="2419560" y="3224880"/>
              <a:ext cx="349560" cy="45720"/>
            </a:xfrm>
            <a:custGeom>
              <a:avLst/>
              <a:gdLst/>
              <a:ahLst/>
              <a:rect l="l" t="t" r="r" b="b"/>
              <a:pathLst>
                <a:path w="578614" h="76003">
                  <a:moveTo>
                    <a:pt x="575612" y="9856"/>
                  </a:moveTo>
                  <a:cubicBezTo>
                    <a:pt x="557356" y="3506"/>
                    <a:pt x="444246" y="35256"/>
                    <a:pt x="387493" y="33669"/>
                  </a:cubicBezTo>
                  <a:cubicBezTo>
                    <a:pt x="330740" y="32082"/>
                    <a:pt x="299387" y="3109"/>
                    <a:pt x="235093" y="331"/>
                  </a:cubicBezTo>
                  <a:cubicBezTo>
                    <a:pt x="170799" y="-2447"/>
                    <a:pt x="18797" y="13031"/>
                    <a:pt x="1731" y="17000"/>
                  </a:cubicBezTo>
                  <a:cubicBezTo>
                    <a:pt x="-15335" y="20969"/>
                    <a:pt x="98568" y="23350"/>
                    <a:pt x="132699" y="24144"/>
                  </a:cubicBezTo>
                  <a:cubicBezTo>
                    <a:pt x="166830" y="24938"/>
                    <a:pt x="175562" y="17397"/>
                    <a:pt x="206518" y="21763"/>
                  </a:cubicBezTo>
                  <a:cubicBezTo>
                    <a:pt x="237474" y="26129"/>
                    <a:pt x="285100" y="42401"/>
                    <a:pt x="318437" y="50338"/>
                  </a:cubicBezTo>
                  <a:cubicBezTo>
                    <a:pt x="351774" y="58275"/>
                    <a:pt x="376777" y="65816"/>
                    <a:pt x="406543" y="69388"/>
                  </a:cubicBezTo>
                  <a:cubicBezTo>
                    <a:pt x="436309" y="72960"/>
                    <a:pt x="470043" y="80897"/>
                    <a:pt x="497031" y="71769"/>
                  </a:cubicBezTo>
                  <a:cubicBezTo>
                    <a:pt x="524018" y="62641"/>
                    <a:pt x="593868" y="16206"/>
                    <a:pt x="575612" y="98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左眉"/>
            <p:cNvSpPr/>
            <p:nvPr/>
          </p:nvSpPr>
          <p:spPr>
            <a:xfrm>
              <a:off x="2850120" y="3211560"/>
              <a:ext cx="367920" cy="69840"/>
            </a:xfrm>
            <a:custGeom>
              <a:avLst/>
              <a:gdLst/>
              <a:ahLst/>
              <a:rect l="l" t="t" r="r" b="b"/>
              <a:pathLst>
                <a:path w="609022" h="116014">
                  <a:moveTo>
                    <a:pt x="6311" y="62981"/>
                  </a:moveTo>
                  <a:cubicBezTo>
                    <a:pt x="23377" y="57028"/>
                    <a:pt x="82511" y="82031"/>
                    <a:pt x="137280" y="72506"/>
                  </a:cubicBezTo>
                  <a:cubicBezTo>
                    <a:pt x="192049" y="62981"/>
                    <a:pt x="256342" y="16943"/>
                    <a:pt x="334923" y="5831"/>
                  </a:cubicBezTo>
                  <a:cubicBezTo>
                    <a:pt x="413504" y="-5281"/>
                    <a:pt x="601226" y="2259"/>
                    <a:pt x="608767" y="5831"/>
                  </a:cubicBezTo>
                  <a:cubicBezTo>
                    <a:pt x="616308" y="9403"/>
                    <a:pt x="455176" y="10196"/>
                    <a:pt x="380167" y="27262"/>
                  </a:cubicBezTo>
                  <a:cubicBezTo>
                    <a:pt x="305158" y="44328"/>
                    <a:pt x="216258" y="94730"/>
                    <a:pt x="158711" y="108224"/>
                  </a:cubicBezTo>
                  <a:cubicBezTo>
                    <a:pt x="101164" y="121718"/>
                    <a:pt x="60286" y="114971"/>
                    <a:pt x="34886" y="108224"/>
                  </a:cubicBezTo>
                  <a:cubicBezTo>
                    <a:pt x="9486" y="101477"/>
                    <a:pt x="-10755" y="68934"/>
                    <a:pt x="6311" y="629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右眼"/>
            <p:cNvSpPr/>
            <p:nvPr/>
          </p:nvSpPr>
          <p:spPr>
            <a:xfrm>
              <a:off x="2457360" y="3352680"/>
              <a:ext cx="227880" cy="55080"/>
            </a:xfrm>
            <a:custGeom>
              <a:avLst/>
              <a:gdLst/>
              <a:ahLst/>
              <a:rect l="l" t="t" r="r" b="b"/>
              <a:pathLst>
                <a:path w="377644" h="91435">
                  <a:moveTo>
                    <a:pt x="137105" y="60277"/>
                  </a:moveTo>
                  <a:cubicBezTo>
                    <a:pt x="166870" y="55912"/>
                    <a:pt x="207749" y="44402"/>
                    <a:pt x="241880" y="48371"/>
                  </a:cubicBezTo>
                  <a:cubicBezTo>
                    <a:pt x="276011" y="52340"/>
                    <a:pt x="319271" y="81311"/>
                    <a:pt x="341893" y="84089"/>
                  </a:cubicBezTo>
                  <a:cubicBezTo>
                    <a:pt x="364515" y="86867"/>
                    <a:pt x="376818" y="74564"/>
                    <a:pt x="377612" y="65039"/>
                  </a:cubicBezTo>
                  <a:cubicBezTo>
                    <a:pt x="378406" y="55514"/>
                    <a:pt x="364514" y="37258"/>
                    <a:pt x="346655" y="26939"/>
                  </a:cubicBezTo>
                  <a:cubicBezTo>
                    <a:pt x="328796" y="16620"/>
                    <a:pt x="301808" y="7096"/>
                    <a:pt x="270455" y="3127"/>
                  </a:cubicBezTo>
                  <a:cubicBezTo>
                    <a:pt x="239102" y="-842"/>
                    <a:pt x="194256" y="-1239"/>
                    <a:pt x="158537" y="3127"/>
                  </a:cubicBezTo>
                  <a:cubicBezTo>
                    <a:pt x="122818" y="7493"/>
                    <a:pt x="82337" y="19399"/>
                    <a:pt x="56143" y="29321"/>
                  </a:cubicBezTo>
                  <a:cubicBezTo>
                    <a:pt x="29949" y="39243"/>
                    <a:pt x="7327" y="52339"/>
                    <a:pt x="1374" y="62658"/>
                  </a:cubicBezTo>
                  <a:cubicBezTo>
                    <a:pt x="-4579" y="72977"/>
                    <a:pt x="10105" y="89249"/>
                    <a:pt x="20424" y="91233"/>
                  </a:cubicBezTo>
                  <a:cubicBezTo>
                    <a:pt x="30743" y="93217"/>
                    <a:pt x="49397" y="80120"/>
                    <a:pt x="63287" y="74564"/>
                  </a:cubicBezTo>
                  <a:cubicBezTo>
                    <a:pt x="77177" y="69008"/>
                    <a:pt x="107340" y="64642"/>
                    <a:pt x="137105" y="60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左眼"/>
            <p:cNvSpPr/>
            <p:nvPr/>
          </p:nvSpPr>
          <p:spPr>
            <a:xfrm>
              <a:off x="2897280" y="3324240"/>
              <a:ext cx="232920" cy="67680"/>
            </a:xfrm>
            <a:custGeom>
              <a:avLst/>
              <a:gdLst/>
              <a:ahLst/>
              <a:rect l="l" t="t" r="r" b="b"/>
              <a:pathLst>
                <a:path w="386037" h="112139">
                  <a:moveTo>
                    <a:pt x="147246" y="52544"/>
                  </a:moveTo>
                  <a:cubicBezTo>
                    <a:pt x="170662" y="47384"/>
                    <a:pt x="195665" y="45797"/>
                    <a:pt x="221065" y="45400"/>
                  </a:cubicBezTo>
                  <a:cubicBezTo>
                    <a:pt x="246465" y="45003"/>
                    <a:pt x="275437" y="43416"/>
                    <a:pt x="299646" y="50163"/>
                  </a:cubicBezTo>
                  <a:cubicBezTo>
                    <a:pt x="323855" y="56910"/>
                    <a:pt x="352827" y="84691"/>
                    <a:pt x="366321" y="85882"/>
                  </a:cubicBezTo>
                  <a:cubicBezTo>
                    <a:pt x="379815" y="87073"/>
                    <a:pt x="394102" y="70801"/>
                    <a:pt x="380608" y="57307"/>
                  </a:cubicBezTo>
                  <a:cubicBezTo>
                    <a:pt x="367114" y="43813"/>
                    <a:pt x="315124" y="13650"/>
                    <a:pt x="285358" y="4919"/>
                  </a:cubicBezTo>
                  <a:cubicBezTo>
                    <a:pt x="255592" y="-3812"/>
                    <a:pt x="233765" y="950"/>
                    <a:pt x="202015" y="4919"/>
                  </a:cubicBezTo>
                  <a:cubicBezTo>
                    <a:pt x="170265" y="8888"/>
                    <a:pt x="127799" y="15635"/>
                    <a:pt x="94858" y="28732"/>
                  </a:cubicBezTo>
                  <a:cubicBezTo>
                    <a:pt x="61917" y="41829"/>
                    <a:pt x="16674" y="69609"/>
                    <a:pt x="4371" y="83500"/>
                  </a:cubicBezTo>
                  <a:cubicBezTo>
                    <a:pt x="-7932" y="97391"/>
                    <a:pt x="8340" y="113266"/>
                    <a:pt x="21040" y="112076"/>
                  </a:cubicBezTo>
                  <a:cubicBezTo>
                    <a:pt x="33740" y="110886"/>
                    <a:pt x="59537" y="86279"/>
                    <a:pt x="80571" y="76357"/>
                  </a:cubicBezTo>
                  <a:cubicBezTo>
                    <a:pt x="101605" y="66435"/>
                    <a:pt x="123830" y="57704"/>
                    <a:pt x="147246" y="525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嘴"/>
            <p:cNvSpPr/>
            <p:nvPr/>
          </p:nvSpPr>
          <p:spPr>
            <a:xfrm>
              <a:off x="2771280" y="3644280"/>
              <a:ext cx="97560" cy="29520"/>
            </a:xfrm>
            <a:custGeom>
              <a:avLst/>
              <a:gdLst/>
              <a:ahLst/>
              <a:rect l="l" t="t" r="r" b="b"/>
              <a:pathLst>
                <a:path w="161633" h="49100">
                  <a:moveTo>
                    <a:pt x="58047" y="39109"/>
                  </a:moveTo>
                  <a:cubicBezTo>
                    <a:pt x="79478" y="35934"/>
                    <a:pt x="112419" y="31568"/>
                    <a:pt x="129484" y="27203"/>
                  </a:cubicBezTo>
                  <a:cubicBezTo>
                    <a:pt x="146550" y="22837"/>
                    <a:pt x="166790" y="17282"/>
                    <a:pt x="160440" y="12916"/>
                  </a:cubicBezTo>
                  <a:cubicBezTo>
                    <a:pt x="154090" y="8550"/>
                    <a:pt x="115593" y="2200"/>
                    <a:pt x="91384" y="1009"/>
                  </a:cubicBezTo>
                  <a:cubicBezTo>
                    <a:pt x="67175" y="-182"/>
                    <a:pt x="30265" y="-1769"/>
                    <a:pt x="15184" y="5772"/>
                  </a:cubicBezTo>
                  <a:cubicBezTo>
                    <a:pt x="103" y="13313"/>
                    <a:pt x="-1484" y="37919"/>
                    <a:pt x="897" y="46253"/>
                  </a:cubicBezTo>
                  <a:cubicBezTo>
                    <a:pt x="3278" y="54587"/>
                    <a:pt x="36616" y="42284"/>
                    <a:pt x="58047" y="39109"/>
                  </a:cubicBezTo>
                  <a:close/>
                </a:path>
              </a:pathLst>
            </a:custGeom>
            <a:solidFill>
              <a:srgbClr val="ff6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胭脂"/>
            <p:cNvSpPr/>
            <p:nvPr/>
          </p:nvSpPr>
          <p:spPr>
            <a:xfrm>
              <a:off x="2383920" y="3450960"/>
              <a:ext cx="314640" cy="314640"/>
            </a:xfrm>
            <a:prstGeom prst="ellipse">
              <a:avLst/>
            </a:prstGeom>
            <a:gradFill rotWithShape="0">
              <a:gsLst>
                <a:gs pos="0">
                  <a:srgbClr val="ffb5d3"/>
                </a:gs>
                <a:gs pos="100000">
                  <a:srgbClr val="ffb5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30"/>
            <p:cNvGrpSpPr/>
            <p:nvPr/>
          </p:nvGrpSpPr>
          <p:grpSpPr>
            <a:xfrm>
              <a:off x="1190880" y="3063600"/>
              <a:ext cx="788400" cy="383040"/>
              <a:chOff x="1190880" y="3063600"/>
              <a:chExt cx="788400" cy="383040"/>
            </a:xfrm>
          </p:grpSpPr>
          <p:sp>
            <p:nvSpPr>
              <p:cNvPr id="111" name="任意多边形 26"/>
              <p:cNvSpPr/>
              <p:nvPr/>
            </p:nvSpPr>
            <p:spPr>
              <a:xfrm>
                <a:off x="1190880" y="3124800"/>
                <a:ext cx="510840" cy="321840"/>
              </a:xfrm>
              <a:custGeom>
                <a:avLst/>
                <a:gdLst/>
                <a:ahLst/>
                <a:rect l="l" t="t" r="r" b="b"/>
                <a:pathLst>
                  <a:path w="845546" h="533052">
                    <a:moveTo>
                      <a:pt x="176915" y="155607"/>
                    </a:moveTo>
                    <a:cubicBezTo>
                      <a:pt x="239105" y="139205"/>
                      <a:pt x="304029" y="102302"/>
                      <a:pt x="373737" y="81800"/>
                    </a:cubicBezTo>
                    <a:cubicBezTo>
                      <a:pt x="443445" y="61298"/>
                      <a:pt x="516569" y="44895"/>
                      <a:pt x="595161" y="32594"/>
                    </a:cubicBezTo>
                    <a:cubicBezTo>
                      <a:pt x="673753" y="20293"/>
                      <a:pt x="837771" y="-15927"/>
                      <a:pt x="845289" y="7992"/>
                    </a:cubicBezTo>
                    <a:cubicBezTo>
                      <a:pt x="852807" y="31911"/>
                      <a:pt x="693573" y="115287"/>
                      <a:pt x="640267" y="176110"/>
                    </a:cubicBezTo>
                    <a:cubicBezTo>
                      <a:pt x="586961" y="236933"/>
                      <a:pt x="553474" y="313476"/>
                      <a:pt x="525454" y="372932"/>
                    </a:cubicBezTo>
                    <a:cubicBezTo>
                      <a:pt x="497434" y="432388"/>
                      <a:pt x="519987" y="538316"/>
                      <a:pt x="472148" y="532849"/>
                    </a:cubicBezTo>
                    <a:cubicBezTo>
                      <a:pt x="424309" y="527382"/>
                      <a:pt x="317697" y="400268"/>
                      <a:pt x="238422" y="340128"/>
                    </a:cubicBezTo>
                    <a:cubicBezTo>
                      <a:pt x="159147" y="279988"/>
                      <a:pt x="10847" y="210963"/>
                      <a:pt x="596" y="180210"/>
                    </a:cubicBezTo>
                    <a:cubicBezTo>
                      <a:pt x="-9655" y="149457"/>
                      <a:pt x="114725" y="172009"/>
                      <a:pt x="176915" y="15560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任意多边形 27"/>
              <p:cNvSpPr/>
              <p:nvPr/>
            </p:nvSpPr>
            <p:spPr>
              <a:xfrm>
                <a:off x="1621440" y="3063600"/>
                <a:ext cx="357840" cy="380160"/>
              </a:xfrm>
              <a:custGeom>
                <a:avLst/>
                <a:gdLst/>
                <a:ahLst/>
                <a:rect l="l" t="t" r="r" b="b"/>
                <a:pathLst>
                  <a:path w="592015" h="629897">
                    <a:moveTo>
                      <a:pt x="239088" y="2997"/>
                    </a:moveTo>
                    <a:cubicBezTo>
                      <a:pt x="203551" y="-22972"/>
                      <a:pt x="235671" y="126695"/>
                      <a:pt x="222686" y="187518"/>
                    </a:cubicBezTo>
                    <a:cubicBezTo>
                      <a:pt x="209701" y="248341"/>
                      <a:pt x="198083" y="296179"/>
                      <a:pt x="161179" y="367937"/>
                    </a:cubicBezTo>
                    <a:cubicBezTo>
                      <a:pt x="124275" y="439695"/>
                      <a:pt x="11512" y="581843"/>
                      <a:pt x="1261" y="618064"/>
                    </a:cubicBezTo>
                    <a:cubicBezTo>
                      <a:pt x="-8990" y="654285"/>
                      <a:pt x="44999" y="596879"/>
                      <a:pt x="99672" y="585261"/>
                    </a:cubicBezTo>
                    <a:cubicBezTo>
                      <a:pt x="154345" y="573643"/>
                      <a:pt x="249338" y="559975"/>
                      <a:pt x="329297" y="548357"/>
                    </a:cubicBezTo>
                    <a:cubicBezTo>
                      <a:pt x="409256" y="536739"/>
                      <a:pt x="543888" y="525804"/>
                      <a:pt x="579425" y="515553"/>
                    </a:cubicBezTo>
                    <a:cubicBezTo>
                      <a:pt x="614962" y="505302"/>
                      <a:pt x="566440" y="515553"/>
                      <a:pt x="542521" y="486850"/>
                    </a:cubicBezTo>
                    <a:cubicBezTo>
                      <a:pt x="518602" y="458147"/>
                      <a:pt x="499467" y="448579"/>
                      <a:pt x="435909" y="343334"/>
                    </a:cubicBezTo>
                    <a:cubicBezTo>
                      <a:pt x="372351" y="238089"/>
                      <a:pt x="274625" y="28966"/>
                      <a:pt x="239088" y="299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灰辫子2"/>
            <p:cNvSpPr/>
            <p:nvPr/>
          </p:nvSpPr>
          <p:spPr>
            <a:xfrm>
              <a:off x="578520" y="3996720"/>
              <a:ext cx="1122480" cy="914040"/>
            </a:xfrm>
            <a:custGeom>
              <a:avLst/>
              <a:gdLst/>
              <a:ahLst/>
              <a:rect l="l" t="t" r="r" b="b"/>
              <a:pathLst>
                <a:path w="1858169" h="1513524">
                  <a:moveTo>
                    <a:pt x="1842175" y="14057"/>
                  </a:moveTo>
                  <a:cubicBezTo>
                    <a:pt x="1889877" y="-15060"/>
                    <a:pt x="1822970" y="6624"/>
                    <a:pt x="1745531" y="28926"/>
                  </a:cubicBezTo>
                  <a:cubicBezTo>
                    <a:pt x="1668092" y="51228"/>
                    <a:pt x="1377541" y="147872"/>
                    <a:pt x="1377541" y="147872"/>
                  </a:cubicBezTo>
                  <a:lnTo>
                    <a:pt x="1076458" y="240799"/>
                  </a:lnTo>
                  <a:cubicBezTo>
                    <a:pt x="979814" y="270535"/>
                    <a:pt x="876356" y="296555"/>
                    <a:pt x="797678" y="326291"/>
                  </a:cubicBezTo>
                  <a:cubicBezTo>
                    <a:pt x="719000" y="356027"/>
                    <a:pt x="662005" y="387003"/>
                    <a:pt x="604390" y="419218"/>
                  </a:cubicBezTo>
                  <a:cubicBezTo>
                    <a:pt x="546775" y="451433"/>
                    <a:pt x="474912" y="512145"/>
                    <a:pt x="418536" y="567901"/>
                  </a:cubicBezTo>
                  <a:cubicBezTo>
                    <a:pt x="362160" y="623657"/>
                    <a:pt x="316936" y="676316"/>
                    <a:pt x="266136" y="753755"/>
                  </a:cubicBezTo>
                  <a:cubicBezTo>
                    <a:pt x="215336" y="831194"/>
                    <a:pt x="150907" y="936511"/>
                    <a:pt x="113736" y="1032535"/>
                  </a:cubicBezTo>
                  <a:cubicBezTo>
                    <a:pt x="76565" y="1128559"/>
                    <a:pt x="61697" y="1249984"/>
                    <a:pt x="43112" y="1329901"/>
                  </a:cubicBezTo>
                  <a:cubicBezTo>
                    <a:pt x="24527" y="1409818"/>
                    <a:pt x="-8927" y="1528145"/>
                    <a:pt x="2224" y="1512038"/>
                  </a:cubicBezTo>
                  <a:cubicBezTo>
                    <a:pt x="13375" y="1495931"/>
                    <a:pt x="61697" y="1338574"/>
                    <a:pt x="110019" y="1233257"/>
                  </a:cubicBezTo>
                  <a:cubicBezTo>
                    <a:pt x="158341" y="1127940"/>
                    <a:pt x="227107" y="978019"/>
                    <a:pt x="292156" y="880136"/>
                  </a:cubicBezTo>
                  <a:cubicBezTo>
                    <a:pt x="357205" y="782253"/>
                    <a:pt x="408005" y="717824"/>
                    <a:pt x="500312" y="645960"/>
                  </a:cubicBezTo>
                  <a:cubicBezTo>
                    <a:pt x="592619" y="574096"/>
                    <a:pt x="740682" y="502233"/>
                    <a:pt x="845999" y="448955"/>
                  </a:cubicBezTo>
                  <a:cubicBezTo>
                    <a:pt x="951316" y="395677"/>
                    <a:pt x="1029994" y="367180"/>
                    <a:pt x="1132214" y="326292"/>
                  </a:cubicBezTo>
                  <a:cubicBezTo>
                    <a:pt x="1234434" y="285404"/>
                    <a:pt x="1340990" y="255667"/>
                    <a:pt x="1459317" y="203628"/>
                  </a:cubicBezTo>
                  <a:cubicBezTo>
                    <a:pt x="1577644" y="151589"/>
                    <a:pt x="1794473" y="43174"/>
                    <a:pt x="1842175" y="14057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灰辫子1"/>
            <p:cNvSpPr/>
            <p:nvPr/>
          </p:nvSpPr>
          <p:spPr>
            <a:xfrm>
              <a:off x="567720" y="4143960"/>
              <a:ext cx="749160" cy="604440"/>
            </a:xfrm>
            <a:custGeom>
              <a:avLst/>
              <a:gdLst/>
              <a:ahLst/>
              <a:rect l="l" t="t" r="r" b="b"/>
              <a:pathLst>
                <a:path w="1239911" h="1000934">
                  <a:moveTo>
                    <a:pt x="1965" y="1000898"/>
                  </a:moveTo>
                  <a:cubicBezTo>
                    <a:pt x="11877" y="997800"/>
                    <a:pt x="55863" y="795840"/>
                    <a:pt x="102326" y="722118"/>
                  </a:cubicBezTo>
                  <a:cubicBezTo>
                    <a:pt x="148789" y="648396"/>
                    <a:pt x="201448" y="630430"/>
                    <a:pt x="280745" y="558567"/>
                  </a:cubicBezTo>
                  <a:cubicBezTo>
                    <a:pt x="360042" y="486704"/>
                    <a:pt x="418277" y="383865"/>
                    <a:pt x="578111" y="290938"/>
                  </a:cubicBezTo>
                  <a:cubicBezTo>
                    <a:pt x="737945" y="198011"/>
                    <a:pt x="1229838" y="15255"/>
                    <a:pt x="1239750" y="1006"/>
                  </a:cubicBezTo>
                  <a:cubicBezTo>
                    <a:pt x="1249662" y="-13243"/>
                    <a:pt x="801755" y="127387"/>
                    <a:pt x="637584" y="205445"/>
                  </a:cubicBezTo>
                  <a:cubicBezTo>
                    <a:pt x="473413" y="283503"/>
                    <a:pt x="339598" y="403689"/>
                    <a:pt x="254725" y="469357"/>
                  </a:cubicBezTo>
                  <a:cubicBezTo>
                    <a:pt x="169852" y="535025"/>
                    <a:pt x="158701" y="558567"/>
                    <a:pt x="128345" y="599455"/>
                  </a:cubicBezTo>
                  <a:cubicBezTo>
                    <a:pt x="97989" y="640343"/>
                    <a:pt x="63915" y="673797"/>
                    <a:pt x="42852" y="740704"/>
                  </a:cubicBezTo>
                  <a:cubicBezTo>
                    <a:pt x="21789" y="807611"/>
                    <a:pt x="-7947" y="1003996"/>
                    <a:pt x="1965" y="1000898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黑辫子2"/>
            <p:cNvSpPr/>
            <p:nvPr/>
          </p:nvSpPr>
          <p:spPr>
            <a:xfrm>
              <a:off x="677880" y="3966840"/>
              <a:ext cx="1129680" cy="537480"/>
            </a:xfrm>
            <a:custGeom>
              <a:avLst/>
              <a:gdLst/>
              <a:ahLst/>
              <a:rect l="l" t="t" r="r" b="b"/>
              <a:pathLst>
                <a:path w="1870168" h="890436">
                  <a:moveTo>
                    <a:pt x="280637" y="699515"/>
                  </a:moveTo>
                  <a:cubicBezTo>
                    <a:pt x="376661" y="636944"/>
                    <a:pt x="485695" y="558885"/>
                    <a:pt x="578002" y="509944"/>
                  </a:cubicBezTo>
                  <a:cubicBezTo>
                    <a:pt x="670309" y="461003"/>
                    <a:pt x="734739" y="444276"/>
                    <a:pt x="834480" y="405866"/>
                  </a:cubicBezTo>
                  <a:cubicBezTo>
                    <a:pt x="934221" y="367456"/>
                    <a:pt x="1037061" y="317276"/>
                    <a:pt x="1176451" y="279486"/>
                  </a:cubicBezTo>
                  <a:cubicBezTo>
                    <a:pt x="1315841" y="241696"/>
                    <a:pt x="1555593" y="222491"/>
                    <a:pt x="1670822" y="179125"/>
                  </a:cubicBezTo>
                  <a:cubicBezTo>
                    <a:pt x="1786051" y="135759"/>
                    <a:pt x="1851720" y="47789"/>
                    <a:pt x="1867827" y="19291"/>
                  </a:cubicBezTo>
                  <a:cubicBezTo>
                    <a:pt x="1883934" y="-9207"/>
                    <a:pt x="1813310" y="85"/>
                    <a:pt x="1767466" y="8139"/>
                  </a:cubicBezTo>
                  <a:cubicBezTo>
                    <a:pt x="1721622" y="16193"/>
                    <a:pt x="1592763" y="67612"/>
                    <a:pt x="1592763" y="67612"/>
                  </a:cubicBezTo>
                  <a:cubicBezTo>
                    <a:pt x="1496739" y="101066"/>
                    <a:pt x="1341242" y="161159"/>
                    <a:pt x="1191320" y="208861"/>
                  </a:cubicBezTo>
                  <a:cubicBezTo>
                    <a:pt x="1041398" y="256563"/>
                    <a:pt x="820232" y="307983"/>
                    <a:pt x="693232" y="353827"/>
                  </a:cubicBezTo>
                  <a:cubicBezTo>
                    <a:pt x="566232" y="399671"/>
                    <a:pt x="544549" y="395335"/>
                    <a:pt x="429320" y="483925"/>
                  </a:cubicBezTo>
                  <a:cubicBezTo>
                    <a:pt x="314091" y="572515"/>
                    <a:pt x="25397" y="850057"/>
                    <a:pt x="1856" y="885369"/>
                  </a:cubicBezTo>
                  <a:cubicBezTo>
                    <a:pt x="-21685" y="920681"/>
                    <a:pt x="184613" y="762086"/>
                    <a:pt x="280637" y="6995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36"/>
            <p:cNvGrpSpPr/>
            <p:nvPr/>
          </p:nvGrpSpPr>
          <p:grpSpPr>
            <a:xfrm>
              <a:off x="1815840" y="4008960"/>
              <a:ext cx="888480" cy="835920"/>
              <a:chOff x="1815840" y="4008960"/>
              <a:chExt cx="888480" cy="835920"/>
            </a:xfrm>
          </p:grpSpPr>
          <p:grpSp>
            <p:nvGrpSpPr>
              <p:cNvPr id="117" name="Group 37"/>
              <p:cNvGrpSpPr/>
              <p:nvPr/>
            </p:nvGrpSpPr>
            <p:grpSpPr>
              <a:xfrm>
                <a:off x="1815840" y="4674600"/>
                <a:ext cx="578160" cy="170280"/>
                <a:chOff x="1815840" y="4674600"/>
                <a:chExt cx="578160" cy="170280"/>
              </a:xfrm>
            </p:grpSpPr>
            <p:pic>
              <p:nvPicPr>
                <p:cNvPr id="118" name="任意多边形 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6560" y="4674960"/>
                  <a:ext cx="57672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Text Box 39"/>
                <p:cNvSpPr/>
                <p:nvPr/>
              </p:nvSpPr>
              <p:spPr>
                <a:xfrm>
                  <a:off x="1815840" y="4674600"/>
                  <a:ext cx="578160" cy="1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Group 40"/>
              <p:cNvGrpSpPr/>
              <p:nvPr/>
            </p:nvGrpSpPr>
            <p:grpSpPr>
              <a:xfrm>
                <a:off x="2010600" y="4114440"/>
                <a:ext cx="693720" cy="231120"/>
                <a:chOff x="2010600" y="4114440"/>
                <a:chExt cx="693720" cy="231120"/>
              </a:xfrm>
            </p:grpSpPr>
            <p:pic>
              <p:nvPicPr>
                <p:cNvPr id="121" name="任意多边形 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10600" y="4114440"/>
                  <a:ext cx="693720" cy="230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Text Box 42"/>
                <p:cNvSpPr/>
                <p:nvPr/>
              </p:nvSpPr>
              <p:spPr>
                <a:xfrm>
                  <a:off x="2011320" y="4116600"/>
                  <a:ext cx="690120" cy="22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" name="任意多边形 39"/>
              <p:cNvSpPr/>
              <p:nvPr/>
            </p:nvSpPr>
            <p:spPr>
              <a:xfrm>
                <a:off x="2381760" y="4008960"/>
                <a:ext cx="143280" cy="92160"/>
              </a:xfrm>
              <a:custGeom>
                <a:avLst/>
                <a:gdLst/>
                <a:ahLst/>
                <a:rect l="l" t="t" r="r" b="b"/>
                <a:pathLst>
                  <a:path w="237703" h="152893">
                    <a:moveTo>
                      <a:pt x="975" y="14"/>
                    </a:moveTo>
                    <a:cubicBezTo>
                      <a:pt x="-7551" y="547"/>
                      <a:pt x="42006" y="20262"/>
                      <a:pt x="64919" y="41577"/>
                    </a:cubicBezTo>
                    <a:cubicBezTo>
                      <a:pt x="87832" y="62892"/>
                      <a:pt x="109680" y="110317"/>
                      <a:pt x="138455" y="127902"/>
                    </a:cubicBezTo>
                    <a:cubicBezTo>
                      <a:pt x="167230" y="145487"/>
                      <a:pt x="241298" y="162005"/>
                      <a:pt x="237568" y="147085"/>
                    </a:cubicBezTo>
                    <a:cubicBezTo>
                      <a:pt x="233838" y="132165"/>
                      <a:pt x="155507" y="63425"/>
                      <a:pt x="116075" y="38380"/>
                    </a:cubicBezTo>
                    <a:cubicBezTo>
                      <a:pt x="76643" y="13335"/>
                      <a:pt x="9501" y="-519"/>
                      <a:pt x="975" y="14"/>
                    </a:cubicBezTo>
                    <a:close/>
                  </a:path>
                </a:pathLst>
              </a:custGeom>
              <a:solidFill>
                <a:srgbClr val="66ccff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4" name="图片 7" descr=""/>
          <p:cNvPicPr/>
          <p:nvPr/>
        </p:nvPicPr>
        <p:blipFill>
          <a:blip r:embed="rId5"/>
          <a:stretch/>
        </p:blipFill>
        <p:spPr>
          <a:xfrm>
            <a:off x="4565520" y="1406520"/>
            <a:ext cx="42973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背景" descr=""/>
          <p:cNvPicPr/>
          <p:nvPr/>
        </p:nvPicPr>
        <p:blipFill>
          <a:blip r:embed="rId1"/>
          <a:srcRect l="520" t="19757" r="7856" b="19054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6732720" y="4365720"/>
            <a:ext cx="2309760" cy="2369880"/>
            <a:chOff x="6732720" y="4365720"/>
            <a:chExt cx="2309760" cy="2369880"/>
          </a:xfrm>
        </p:grpSpPr>
        <p:sp>
          <p:nvSpPr>
            <p:cNvPr id="128" name="右下辫子"/>
            <p:cNvSpPr/>
            <p:nvPr/>
          </p:nvSpPr>
          <p:spPr>
            <a:xfrm flipH="1">
              <a:off x="6830640" y="5270040"/>
              <a:ext cx="327600" cy="313560"/>
            </a:xfrm>
            <a:custGeom>
              <a:avLst/>
              <a:gdLst/>
              <a:ahLst/>
              <a:rect l="l" t="t" r="r" b="b"/>
              <a:pathLst>
                <a:path w="793173" h="718405">
                  <a:moveTo>
                    <a:pt x="14698" y="216266"/>
                  </a:moveTo>
                  <a:cubicBezTo>
                    <a:pt x="3371" y="213177"/>
                    <a:pt x="-19283" y="202879"/>
                    <a:pt x="33233" y="166839"/>
                  </a:cubicBezTo>
                  <a:cubicBezTo>
                    <a:pt x="85749" y="130799"/>
                    <a:pt x="270071" y="-2036"/>
                    <a:pt x="329795" y="23"/>
                  </a:cubicBezTo>
                  <a:cubicBezTo>
                    <a:pt x="389519" y="2082"/>
                    <a:pt x="372014" y="114323"/>
                    <a:pt x="391579" y="179196"/>
                  </a:cubicBezTo>
                  <a:cubicBezTo>
                    <a:pt x="411144" y="244069"/>
                    <a:pt x="416292" y="321298"/>
                    <a:pt x="447184" y="389260"/>
                  </a:cubicBezTo>
                  <a:cubicBezTo>
                    <a:pt x="478076" y="457222"/>
                    <a:pt x="519265" y="532393"/>
                    <a:pt x="576930" y="586969"/>
                  </a:cubicBezTo>
                  <a:cubicBezTo>
                    <a:pt x="634595" y="641545"/>
                    <a:pt x="793173" y="705388"/>
                    <a:pt x="793173" y="716715"/>
                  </a:cubicBezTo>
                  <a:cubicBezTo>
                    <a:pt x="793173" y="728042"/>
                    <a:pt x="638714" y="679645"/>
                    <a:pt x="576930" y="654931"/>
                  </a:cubicBezTo>
                  <a:cubicBezTo>
                    <a:pt x="515146" y="630217"/>
                    <a:pt x="488374" y="628157"/>
                    <a:pt x="422471" y="568433"/>
                  </a:cubicBezTo>
                  <a:cubicBezTo>
                    <a:pt x="356568" y="508709"/>
                    <a:pt x="235060" y="360428"/>
                    <a:pt x="181514" y="296585"/>
                  </a:cubicBezTo>
                  <a:cubicBezTo>
                    <a:pt x="127968" y="232742"/>
                    <a:pt x="132087" y="200820"/>
                    <a:pt x="101195" y="185374"/>
                  </a:cubicBezTo>
                  <a:cubicBezTo>
                    <a:pt x="70303" y="169928"/>
                    <a:pt x="26025" y="219355"/>
                    <a:pt x="14698" y="2162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脸"/>
            <p:cNvSpPr/>
            <p:nvPr/>
          </p:nvSpPr>
          <p:spPr>
            <a:xfrm flipH="1">
              <a:off x="6956640" y="4678560"/>
              <a:ext cx="785160" cy="910080"/>
            </a:xfrm>
            <a:custGeom>
              <a:avLst/>
              <a:gdLst/>
              <a:ahLst/>
              <a:rect l="l" t="t" r="r" b="b"/>
              <a:pathLst>
                <a:path w="1900845" h="2084441">
                  <a:moveTo>
                    <a:pt x="1397379" y="50576"/>
                  </a:moveTo>
                  <a:cubicBezTo>
                    <a:pt x="1466371" y="110300"/>
                    <a:pt x="1688792" y="278146"/>
                    <a:pt x="1761903" y="371851"/>
                  </a:cubicBezTo>
                  <a:cubicBezTo>
                    <a:pt x="1835014" y="465556"/>
                    <a:pt x="1819568" y="542786"/>
                    <a:pt x="1836044" y="612808"/>
                  </a:cubicBezTo>
                  <a:cubicBezTo>
                    <a:pt x="1852520" y="682830"/>
                    <a:pt x="1864876" y="727108"/>
                    <a:pt x="1860757" y="791981"/>
                  </a:cubicBezTo>
                  <a:cubicBezTo>
                    <a:pt x="1856638" y="856854"/>
                    <a:pt x="1808241" y="918638"/>
                    <a:pt x="1811330" y="1002046"/>
                  </a:cubicBezTo>
                  <a:cubicBezTo>
                    <a:pt x="1814419" y="1085454"/>
                    <a:pt x="1866935" y="1197695"/>
                    <a:pt x="1879292" y="1292430"/>
                  </a:cubicBezTo>
                  <a:cubicBezTo>
                    <a:pt x="1891649" y="1387165"/>
                    <a:pt x="1917393" y="1484991"/>
                    <a:pt x="1885472" y="1570458"/>
                  </a:cubicBezTo>
                  <a:cubicBezTo>
                    <a:pt x="1853551" y="1655925"/>
                    <a:pt x="1784558" y="1746541"/>
                    <a:pt x="1687763" y="1805235"/>
                  </a:cubicBezTo>
                  <a:cubicBezTo>
                    <a:pt x="1590968" y="1863929"/>
                    <a:pt x="1415914" y="1904089"/>
                    <a:pt x="1304703" y="1922624"/>
                  </a:cubicBezTo>
                  <a:cubicBezTo>
                    <a:pt x="1193492" y="1941159"/>
                    <a:pt x="1098757" y="1923654"/>
                    <a:pt x="1020498" y="1916446"/>
                  </a:cubicBezTo>
                  <a:cubicBezTo>
                    <a:pt x="942239" y="1909238"/>
                    <a:pt x="876335" y="1881435"/>
                    <a:pt x="835146" y="1879376"/>
                  </a:cubicBezTo>
                  <a:cubicBezTo>
                    <a:pt x="793957" y="1877317"/>
                    <a:pt x="805285" y="1871138"/>
                    <a:pt x="773363" y="1904089"/>
                  </a:cubicBezTo>
                  <a:cubicBezTo>
                    <a:pt x="741441" y="1937040"/>
                    <a:pt x="750709" y="2123422"/>
                    <a:pt x="643617" y="2077084"/>
                  </a:cubicBezTo>
                  <a:cubicBezTo>
                    <a:pt x="536525" y="2030746"/>
                    <a:pt x="236873" y="1840246"/>
                    <a:pt x="130811" y="1626062"/>
                  </a:cubicBezTo>
                  <a:cubicBezTo>
                    <a:pt x="24749" y="1411878"/>
                    <a:pt x="-18499" y="1045295"/>
                    <a:pt x="7244" y="791981"/>
                  </a:cubicBezTo>
                  <a:cubicBezTo>
                    <a:pt x="32987" y="538668"/>
                    <a:pt x="164793" y="236957"/>
                    <a:pt x="285271" y="106181"/>
                  </a:cubicBezTo>
                  <a:cubicBezTo>
                    <a:pt x="405749" y="-24595"/>
                    <a:pt x="553001" y="22773"/>
                    <a:pt x="730114" y="7327"/>
                  </a:cubicBezTo>
                  <a:cubicBezTo>
                    <a:pt x="907227" y="-8119"/>
                    <a:pt x="1233652" y="4238"/>
                    <a:pt x="1347952" y="13506"/>
                  </a:cubicBezTo>
                  <a:cubicBezTo>
                    <a:pt x="1462252" y="22774"/>
                    <a:pt x="1328387" y="-9148"/>
                    <a:pt x="1397379" y="50576"/>
                  </a:cubicBez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左袖"/>
            <p:cNvSpPr/>
            <p:nvPr/>
          </p:nvSpPr>
          <p:spPr>
            <a:xfrm flipH="1">
              <a:off x="7096320" y="5680440"/>
              <a:ext cx="434160" cy="587880"/>
            </a:xfrm>
            <a:custGeom>
              <a:avLst/>
              <a:gdLst/>
              <a:ahLst/>
              <a:rect l="l" t="t" r="r" b="b"/>
              <a:pathLst>
                <a:path w="1051153" h="1347037">
                  <a:moveTo>
                    <a:pt x="20948" y="632088"/>
                  </a:moveTo>
                  <a:cubicBezTo>
                    <a:pt x="18436" y="524906"/>
                    <a:pt x="-17570" y="384228"/>
                    <a:pt x="10900" y="300492"/>
                  </a:cubicBezTo>
                  <a:cubicBezTo>
                    <a:pt x="39370" y="216756"/>
                    <a:pt x="148227" y="179074"/>
                    <a:pt x="191770" y="129670"/>
                  </a:cubicBezTo>
                  <a:cubicBezTo>
                    <a:pt x="235313" y="80266"/>
                    <a:pt x="233638" y="19976"/>
                    <a:pt x="272157" y="4066"/>
                  </a:cubicBezTo>
                  <a:cubicBezTo>
                    <a:pt x="310676" y="-11844"/>
                    <a:pt x="376827" y="23325"/>
                    <a:pt x="422882" y="34211"/>
                  </a:cubicBezTo>
                  <a:cubicBezTo>
                    <a:pt x="468937" y="45097"/>
                    <a:pt x="484010" y="65193"/>
                    <a:pt x="548487" y="69380"/>
                  </a:cubicBezTo>
                  <a:cubicBezTo>
                    <a:pt x="612964" y="73567"/>
                    <a:pt x="740243" y="12439"/>
                    <a:pt x="809744" y="59331"/>
                  </a:cubicBezTo>
                  <a:cubicBezTo>
                    <a:pt x="879245" y="106223"/>
                    <a:pt x="925300" y="216756"/>
                    <a:pt x="965493" y="350734"/>
                  </a:cubicBezTo>
                  <a:cubicBezTo>
                    <a:pt x="1005686" y="484712"/>
                    <a:pt x="1055091" y="727547"/>
                    <a:pt x="1050904" y="863200"/>
                  </a:cubicBezTo>
                  <a:cubicBezTo>
                    <a:pt x="1046717" y="998853"/>
                    <a:pt x="988940" y="1088450"/>
                    <a:pt x="940373" y="1164650"/>
                  </a:cubicBezTo>
                  <a:cubicBezTo>
                    <a:pt x="891806" y="1240850"/>
                    <a:pt x="832353" y="1291092"/>
                    <a:pt x="759502" y="1320400"/>
                  </a:cubicBezTo>
                  <a:cubicBezTo>
                    <a:pt x="686651" y="1349708"/>
                    <a:pt x="581144" y="1352219"/>
                    <a:pt x="503269" y="1340496"/>
                  </a:cubicBezTo>
                  <a:cubicBezTo>
                    <a:pt x="425394" y="1328773"/>
                    <a:pt x="371803" y="1316213"/>
                    <a:pt x="292254" y="1250061"/>
                  </a:cubicBezTo>
                  <a:cubicBezTo>
                    <a:pt x="212705" y="1183909"/>
                    <a:pt x="70353" y="1046581"/>
                    <a:pt x="25973" y="943586"/>
                  </a:cubicBezTo>
                  <a:cubicBezTo>
                    <a:pt x="-18407" y="840591"/>
                    <a:pt x="23460" y="739270"/>
                    <a:pt x="20948" y="632088"/>
                  </a:cubicBez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左手"/>
            <p:cNvSpPr/>
            <p:nvPr/>
          </p:nvSpPr>
          <p:spPr>
            <a:xfrm flipH="1">
              <a:off x="7162920" y="5583600"/>
              <a:ext cx="92160" cy="139320"/>
            </a:xfrm>
            <a:custGeom>
              <a:avLst/>
              <a:gdLst/>
              <a:ahLst/>
              <a:rect l="l" t="t" r="r" b="b"/>
              <a:pathLst>
                <a:path w="255429" h="365120">
                  <a:moveTo>
                    <a:pt x="213031" y="352188"/>
                  </a:moveTo>
                  <a:cubicBezTo>
                    <a:pt x="239869" y="326309"/>
                    <a:pt x="240828" y="241961"/>
                    <a:pt x="247537" y="202663"/>
                  </a:cubicBezTo>
                  <a:cubicBezTo>
                    <a:pt x="254246" y="163365"/>
                    <a:pt x="258080" y="142278"/>
                    <a:pt x="253288" y="116399"/>
                  </a:cubicBezTo>
                  <a:cubicBezTo>
                    <a:pt x="248496" y="90520"/>
                    <a:pt x="232201" y="64641"/>
                    <a:pt x="218782" y="47388"/>
                  </a:cubicBezTo>
                  <a:cubicBezTo>
                    <a:pt x="205363" y="30135"/>
                    <a:pt x="192903" y="20550"/>
                    <a:pt x="172775" y="12882"/>
                  </a:cubicBezTo>
                  <a:cubicBezTo>
                    <a:pt x="152647" y="5214"/>
                    <a:pt x="121974" y="-3412"/>
                    <a:pt x="98012" y="1380"/>
                  </a:cubicBezTo>
                  <a:cubicBezTo>
                    <a:pt x="74050" y="6172"/>
                    <a:pt x="45295" y="22467"/>
                    <a:pt x="29001" y="41637"/>
                  </a:cubicBezTo>
                  <a:cubicBezTo>
                    <a:pt x="12707" y="60807"/>
                    <a:pt x="2163" y="88603"/>
                    <a:pt x="246" y="116399"/>
                  </a:cubicBezTo>
                  <a:cubicBezTo>
                    <a:pt x="-1671" y="144195"/>
                    <a:pt x="7914" y="186369"/>
                    <a:pt x="17499" y="208414"/>
                  </a:cubicBezTo>
                  <a:cubicBezTo>
                    <a:pt x="27084" y="230459"/>
                    <a:pt x="49130" y="238128"/>
                    <a:pt x="57756" y="248671"/>
                  </a:cubicBezTo>
                  <a:cubicBezTo>
                    <a:pt x="66382" y="259214"/>
                    <a:pt x="73417" y="256356"/>
                    <a:pt x="69258" y="271675"/>
                  </a:cubicBezTo>
                  <a:cubicBezTo>
                    <a:pt x="65099" y="286994"/>
                    <a:pt x="35676" y="325247"/>
                    <a:pt x="32801" y="340583"/>
                  </a:cubicBezTo>
                  <a:cubicBezTo>
                    <a:pt x="29926" y="355919"/>
                    <a:pt x="42420" y="358898"/>
                    <a:pt x="52005" y="363690"/>
                  </a:cubicBezTo>
                  <a:cubicBezTo>
                    <a:pt x="61590" y="368483"/>
                    <a:pt x="59673" y="359856"/>
                    <a:pt x="86511" y="357939"/>
                  </a:cubicBezTo>
                  <a:cubicBezTo>
                    <a:pt x="113349" y="356022"/>
                    <a:pt x="186193" y="378067"/>
                    <a:pt x="213031" y="352188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手娟"/>
            <p:cNvSpPr/>
            <p:nvPr/>
          </p:nvSpPr>
          <p:spPr>
            <a:xfrm flipH="1">
              <a:off x="6965280" y="5614560"/>
              <a:ext cx="249840" cy="819360"/>
            </a:xfrm>
            <a:custGeom>
              <a:avLst/>
              <a:gdLst/>
              <a:ahLst/>
              <a:rect l="l" t="t" r="r" b="b"/>
              <a:pathLst>
                <a:path w="605268" h="1876693">
                  <a:moveTo>
                    <a:pt x="600983" y="1856513"/>
                  </a:moveTo>
                  <a:cubicBezTo>
                    <a:pt x="590823" y="1940564"/>
                    <a:pt x="551106" y="1738288"/>
                    <a:pt x="512313" y="1684717"/>
                  </a:cubicBezTo>
                  <a:cubicBezTo>
                    <a:pt x="484603" y="1658855"/>
                    <a:pt x="407941" y="1576652"/>
                    <a:pt x="368225" y="1535088"/>
                  </a:cubicBezTo>
                  <a:cubicBezTo>
                    <a:pt x="328509" y="1493524"/>
                    <a:pt x="302648" y="1471357"/>
                    <a:pt x="274015" y="1435335"/>
                  </a:cubicBezTo>
                  <a:cubicBezTo>
                    <a:pt x="245382" y="1399313"/>
                    <a:pt x="225062" y="1366986"/>
                    <a:pt x="196429" y="1318957"/>
                  </a:cubicBezTo>
                  <a:cubicBezTo>
                    <a:pt x="167796" y="1270928"/>
                    <a:pt x="129003" y="1231212"/>
                    <a:pt x="102218" y="1147161"/>
                  </a:cubicBezTo>
                  <a:cubicBezTo>
                    <a:pt x="75433" y="1063110"/>
                    <a:pt x="52342" y="937495"/>
                    <a:pt x="35717" y="814651"/>
                  </a:cubicBezTo>
                  <a:cubicBezTo>
                    <a:pt x="19092" y="691807"/>
                    <a:pt x="7084" y="510775"/>
                    <a:pt x="2466" y="410099"/>
                  </a:cubicBezTo>
                  <a:cubicBezTo>
                    <a:pt x="-2152" y="309423"/>
                    <a:pt x="7083" y="278942"/>
                    <a:pt x="8007" y="210593"/>
                  </a:cubicBezTo>
                  <a:cubicBezTo>
                    <a:pt x="8931" y="142244"/>
                    <a:pt x="-10465" y="927"/>
                    <a:pt x="8008" y="4"/>
                  </a:cubicBezTo>
                  <a:cubicBezTo>
                    <a:pt x="26481" y="-919"/>
                    <a:pt x="90211" y="136703"/>
                    <a:pt x="118844" y="205052"/>
                  </a:cubicBezTo>
                  <a:cubicBezTo>
                    <a:pt x="147477" y="273401"/>
                    <a:pt x="129928" y="318659"/>
                    <a:pt x="179804" y="410099"/>
                  </a:cubicBezTo>
                  <a:cubicBezTo>
                    <a:pt x="229680" y="501539"/>
                    <a:pt x="352524" y="625306"/>
                    <a:pt x="418102" y="753691"/>
                  </a:cubicBezTo>
                  <a:cubicBezTo>
                    <a:pt x="483680" y="882076"/>
                    <a:pt x="542793" y="996607"/>
                    <a:pt x="573273" y="1180411"/>
                  </a:cubicBezTo>
                  <a:cubicBezTo>
                    <a:pt x="603753" y="1364215"/>
                    <a:pt x="611143" y="1772462"/>
                    <a:pt x="600983" y="1856513"/>
                  </a:cubicBezTo>
                  <a:close/>
                </a:path>
              </a:pathLst>
            </a:custGeom>
            <a:solidFill>
              <a:srgbClr val="f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手娟上的光"/>
            <p:cNvSpPr/>
            <p:nvPr/>
          </p:nvSpPr>
          <p:spPr>
            <a:xfrm flipH="1">
              <a:off x="7001280" y="5693040"/>
              <a:ext cx="184680" cy="594720"/>
            </a:xfrm>
            <a:custGeom>
              <a:avLst/>
              <a:gdLst/>
              <a:ahLst/>
              <a:rect l="l" t="t" r="r" b="b"/>
              <a:pathLst>
                <a:path w="455979" h="1387147">
                  <a:moveTo>
                    <a:pt x="40519" y="255960"/>
                  </a:moveTo>
                  <a:cubicBezTo>
                    <a:pt x="55297" y="324309"/>
                    <a:pt x="49045" y="320082"/>
                    <a:pt x="90395" y="411131"/>
                  </a:cubicBezTo>
                  <a:cubicBezTo>
                    <a:pt x="131745" y="502180"/>
                    <a:pt x="229508" y="687725"/>
                    <a:pt x="288621" y="802256"/>
                  </a:cubicBezTo>
                  <a:cubicBezTo>
                    <a:pt x="347734" y="916787"/>
                    <a:pt x="419920" y="1000945"/>
                    <a:pt x="445071" y="1098317"/>
                  </a:cubicBezTo>
                  <a:cubicBezTo>
                    <a:pt x="470222" y="1195689"/>
                    <a:pt x="444715" y="1374484"/>
                    <a:pt x="439529" y="1386491"/>
                  </a:cubicBezTo>
                  <a:cubicBezTo>
                    <a:pt x="434343" y="1398498"/>
                    <a:pt x="434272" y="1242830"/>
                    <a:pt x="413952" y="1170360"/>
                  </a:cubicBezTo>
                  <a:cubicBezTo>
                    <a:pt x="393632" y="1097890"/>
                    <a:pt x="363578" y="1037037"/>
                    <a:pt x="317609" y="951672"/>
                  </a:cubicBezTo>
                  <a:cubicBezTo>
                    <a:pt x="271640" y="866307"/>
                    <a:pt x="188123" y="756820"/>
                    <a:pt x="138140" y="658168"/>
                  </a:cubicBezTo>
                  <a:cubicBezTo>
                    <a:pt x="88157" y="559516"/>
                    <a:pt x="36185" y="468751"/>
                    <a:pt x="17712" y="359762"/>
                  </a:cubicBezTo>
                  <a:cubicBezTo>
                    <a:pt x="-761" y="250773"/>
                    <a:pt x="-2075" y="18337"/>
                    <a:pt x="1726" y="1037"/>
                  </a:cubicBezTo>
                  <a:cubicBezTo>
                    <a:pt x="5527" y="-16263"/>
                    <a:pt x="25741" y="187611"/>
                    <a:pt x="40519" y="255960"/>
                  </a:cubicBezTo>
                  <a:close/>
                </a:path>
              </a:pathLst>
            </a:custGeom>
            <a:solidFill>
              <a:srgbClr val="ffd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裙子"/>
            <p:cNvSpPr/>
            <p:nvPr/>
          </p:nvSpPr>
          <p:spPr>
            <a:xfrm flipH="1">
              <a:off x="7297920" y="6050880"/>
              <a:ext cx="1744560" cy="684720"/>
            </a:xfrm>
            <a:custGeom>
              <a:avLst/>
              <a:gdLst/>
              <a:ahLst/>
              <a:rect l="l" t="t" r="r" b="b"/>
              <a:pathLst>
                <a:path w="4223038" h="1568351">
                  <a:moveTo>
                    <a:pt x="2716914" y="6215"/>
                  </a:moveTo>
                  <a:cubicBezTo>
                    <a:pt x="2521651" y="33203"/>
                    <a:pt x="2483551" y="180840"/>
                    <a:pt x="2307339" y="282440"/>
                  </a:cubicBezTo>
                  <a:cubicBezTo>
                    <a:pt x="2131126" y="384040"/>
                    <a:pt x="1866014" y="514215"/>
                    <a:pt x="1659639" y="615815"/>
                  </a:cubicBezTo>
                  <a:cubicBezTo>
                    <a:pt x="1453264" y="717415"/>
                    <a:pt x="1219901" y="828540"/>
                    <a:pt x="1069089" y="892040"/>
                  </a:cubicBezTo>
                  <a:cubicBezTo>
                    <a:pt x="918277" y="955540"/>
                    <a:pt x="861126" y="969828"/>
                    <a:pt x="754764" y="996815"/>
                  </a:cubicBezTo>
                  <a:cubicBezTo>
                    <a:pt x="648401" y="1023803"/>
                    <a:pt x="556326" y="1049203"/>
                    <a:pt x="430914" y="1053965"/>
                  </a:cubicBezTo>
                  <a:cubicBezTo>
                    <a:pt x="305502" y="1058727"/>
                    <a:pt x="32451" y="1019040"/>
                    <a:pt x="2289" y="1025390"/>
                  </a:cubicBezTo>
                  <a:cubicBezTo>
                    <a:pt x="-27873" y="1031740"/>
                    <a:pt x="249939" y="1092065"/>
                    <a:pt x="249939" y="1092065"/>
                  </a:cubicBezTo>
                  <a:cubicBezTo>
                    <a:pt x="381701" y="1126990"/>
                    <a:pt x="486477" y="1173028"/>
                    <a:pt x="792864" y="1234940"/>
                  </a:cubicBezTo>
                  <a:cubicBezTo>
                    <a:pt x="1099251" y="1296852"/>
                    <a:pt x="1629477" y="1407978"/>
                    <a:pt x="2088264" y="1463540"/>
                  </a:cubicBezTo>
                  <a:cubicBezTo>
                    <a:pt x="2547051" y="1519102"/>
                    <a:pt x="3207452" y="1566728"/>
                    <a:pt x="3545589" y="1568315"/>
                  </a:cubicBezTo>
                  <a:cubicBezTo>
                    <a:pt x="3883726" y="1569902"/>
                    <a:pt x="4004377" y="1519103"/>
                    <a:pt x="4117089" y="1473065"/>
                  </a:cubicBezTo>
                  <a:cubicBezTo>
                    <a:pt x="4229802" y="1427028"/>
                    <a:pt x="4225039" y="1384165"/>
                    <a:pt x="4221864" y="1292090"/>
                  </a:cubicBezTo>
                  <a:cubicBezTo>
                    <a:pt x="4218689" y="1200015"/>
                    <a:pt x="4158364" y="1057140"/>
                    <a:pt x="4098039" y="920615"/>
                  </a:cubicBezTo>
                  <a:cubicBezTo>
                    <a:pt x="4037714" y="784090"/>
                    <a:pt x="3963102" y="606290"/>
                    <a:pt x="3859914" y="472940"/>
                  </a:cubicBezTo>
                  <a:cubicBezTo>
                    <a:pt x="3756726" y="339590"/>
                    <a:pt x="3674177" y="196715"/>
                    <a:pt x="3478914" y="120515"/>
                  </a:cubicBezTo>
                  <a:cubicBezTo>
                    <a:pt x="3283652" y="44315"/>
                    <a:pt x="2912177" y="-20773"/>
                    <a:pt x="2716914" y="62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7761600" y="6375600"/>
              <a:ext cx="829800" cy="185040"/>
              <a:chOff x="7761600" y="6375600"/>
              <a:chExt cx="829800" cy="185040"/>
            </a:xfrm>
          </p:grpSpPr>
          <p:pic>
            <p:nvPicPr>
              <p:cNvPr id="136" name="裙子上的光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7761960" y="6375960"/>
                <a:ext cx="829440" cy="18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4"/>
              <p:cNvSpPr/>
              <p:nvPr/>
            </p:nvSpPr>
            <p:spPr>
              <a:xfrm flipH="1">
                <a:off x="7761240" y="6375600"/>
                <a:ext cx="82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上衣"/>
            <p:cNvSpPr/>
            <p:nvPr/>
          </p:nvSpPr>
          <p:spPr>
            <a:xfrm flipH="1">
              <a:off x="7306560" y="5411160"/>
              <a:ext cx="834120" cy="952560"/>
            </a:xfrm>
            <a:custGeom>
              <a:avLst/>
              <a:gdLst/>
              <a:ahLst/>
              <a:rect l="l" t="t" r="r" b="b"/>
              <a:pathLst>
                <a:path w="2019062" h="2182251">
                  <a:moveTo>
                    <a:pt x="1367854" y="10061"/>
                  </a:moveTo>
                  <a:cubicBezTo>
                    <a:pt x="1429486" y="-24677"/>
                    <a:pt x="1506807" y="39196"/>
                    <a:pt x="1556113" y="70572"/>
                  </a:cubicBezTo>
                  <a:cubicBezTo>
                    <a:pt x="1605419" y="101948"/>
                    <a:pt x="1603178" y="152375"/>
                    <a:pt x="1663690" y="198319"/>
                  </a:cubicBezTo>
                  <a:cubicBezTo>
                    <a:pt x="1724202" y="244263"/>
                    <a:pt x="1860914" y="286846"/>
                    <a:pt x="1919184" y="346237"/>
                  </a:cubicBezTo>
                  <a:cubicBezTo>
                    <a:pt x="1977455" y="405628"/>
                    <a:pt x="2000987" y="481829"/>
                    <a:pt x="2013313" y="554667"/>
                  </a:cubicBezTo>
                  <a:cubicBezTo>
                    <a:pt x="2025639" y="627505"/>
                    <a:pt x="2017796" y="679052"/>
                    <a:pt x="1993143" y="783267"/>
                  </a:cubicBezTo>
                  <a:cubicBezTo>
                    <a:pt x="1968490" y="887482"/>
                    <a:pt x="1891170" y="1032038"/>
                    <a:pt x="1865396" y="1179955"/>
                  </a:cubicBezTo>
                  <a:cubicBezTo>
                    <a:pt x="1839622" y="1327872"/>
                    <a:pt x="1844104" y="1531819"/>
                    <a:pt x="1838501" y="1670772"/>
                  </a:cubicBezTo>
                  <a:cubicBezTo>
                    <a:pt x="1832898" y="1809725"/>
                    <a:pt x="1850828" y="1939713"/>
                    <a:pt x="1831778" y="2013672"/>
                  </a:cubicBezTo>
                  <a:cubicBezTo>
                    <a:pt x="1812728" y="2087631"/>
                    <a:pt x="1782472" y="2094354"/>
                    <a:pt x="1724201" y="2114525"/>
                  </a:cubicBezTo>
                  <a:cubicBezTo>
                    <a:pt x="1665930" y="2134696"/>
                    <a:pt x="1574042" y="2123490"/>
                    <a:pt x="1482154" y="2134696"/>
                  </a:cubicBezTo>
                  <a:cubicBezTo>
                    <a:pt x="1390266" y="2145902"/>
                    <a:pt x="1296137" y="2179520"/>
                    <a:pt x="1172872" y="2181761"/>
                  </a:cubicBezTo>
                  <a:cubicBezTo>
                    <a:pt x="1049607" y="2184002"/>
                    <a:pt x="877037" y="2179519"/>
                    <a:pt x="742566" y="2148143"/>
                  </a:cubicBezTo>
                  <a:cubicBezTo>
                    <a:pt x="608095" y="2116767"/>
                    <a:pt x="472504" y="2056255"/>
                    <a:pt x="366048" y="1993502"/>
                  </a:cubicBezTo>
                  <a:cubicBezTo>
                    <a:pt x="259592" y="1930749"/>
                    <a:pt x="164343" y="1843343"/>
                    <a:pt x="103831" y="1771625"/>
                  </a:cubicBezTo>
                  <a:cubicBezTo>
                    <a:pt x="43319" y="1699907"/>
                    <a:pt x="-13831" y="1612502"/>
                    <a:pt x="2978" y="1563196"/>
                  </a:cubicBezTo>
                  <a:cubicBezTo>
                    <a:pt x="19787" y="1513890"/>
                    <a:pt x="102710" y="1548628"/>
                    <a:pt x="204684" y="1475790"/>
                  </a:cubicBezTo>
                  <a:cubicBezTo>
                    <a:pt x="306657" y="1402952"/>
                    <a:pt x="502760" y="1238226"/>
                    <a:pt x="614819" y="1126167"/>
                  </a:cubicBezTo>
                  <a:cubicBezTo>
                    <a:pt x="726878" y="1014108"/>
                    <a:pt x="809802" y="893084"/>
                    <a:pt x="877037" y="803437"/>
                  </a:cubicBezTo>
                  <a:cubicBezTo>
                    <a:pt x="944272" y="713790"/>
                    <a:pt x="966684" y="675690"/>
                    <a:pt x="1018231" y="588284"/>
                  </a:cubicBezTo>
                  <a:cubicBezTo>
                    <a:pt x="1069778" y="500878"/>
                    <a:pt x="1126928" y="375373"/>
                    <a:pt x="1186319" y="279002"/>
                  </a:cubicBezTo>
                  <a:cubicBezTo>
                    <a:pt x="1245710" y="182631"/>
                    <a:pt x="1306222" y="44799"/>
                    <a:pt x="1367854" y="1006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上衣上的色带"/>
            <p:cNvSpPr/>
            <p:nvPr/>
          </p:nvSpPr>
          <p:spPr>
            <a:xfrm flipH="1">
              <a:off x="7377840" y="6007320"/>
              <a:ext cx="672120" cy="281520"/>
            </a:xfrm>
            <a:custGeom>
              <a:avLst/>
              <a:gdLst/>
              <a:ahLst/>
              <a:rect l="l" t="t" r="r" b="b"/>
              <a:pathLst>
                <a:path w="1627297" h="645130">
                  <a:moveTo>
                    <a:pt x="215051" y="189084"/>
                  </a:moveTo>
                  <a:cubicBezTo>
                    <a:pt x="243445" y="214001"/>
                    <a:pt x="218773" y="206643"/>
                    <a:pt x="318259" y="252572"/>
                  </a:cubicBezTo>
                  <a:cubicBezTo>
                    <a:pt x="417745" y="298501"/>
                    <a:pt x="680427" y="422935"/>
                    <a:pt x="811966" y="464657"/>
                  </a:cubicBezTo>
                  <a:cubicBezTo>
                    <a:pt x="943505" y="506379"/>
                    <a:pt x="1022622" y="487376"/>
                    <a:pt x="1107494" y="502902"/>
                  </a:cubicBezTo>
                  <a:cubicBezTo>
                    <a:pt x="1192366" y="518428"/>
                    <a:pt x="1239955" y="554982"/>
                    <a:pt x="1321200" y="557816"/>
                  </a:cubicBezTo>
                  <a:cubicBezTo>
                    <a:pt x="1402445" y="560650"/>
                    <a:pt x="1544375" y="525671"/>
                    <a:pt x="1594962" y="519906"/>
                  </a:cubicBezTo>
                  <a:cubicBezTo>
                    <a:pt x="1645549" y="514141"/>
                    <a:pt x="1620556" y="509972"/>
                    <a:pt x="1624722" y="523226"/>
                  </a:cubicBezTo>
                  <a:cubicBezTo>
                    <a:pt x="1628888" y="536480"/>
                    <a:pt x="1621548" y="602603"/>
                    <a:pt x="1610436" y="620860"/>
                  </a:cubicBezTo>
                  <a:cubicBezTo>
                    <a:pt x="1599324" y="639117"/>
                    <a:pt x="1531202" y="635410"/>
                    <a:pt x="1498261" y="641363"/>
                  </a:cubicBezTo>
                  <a:cubicBezTo>
                    <a:pt x="1465320" y="647316"/>
                    <a:pt x="1382795" y="644350"/>
                    <a:pt x="1322304" y="644670"/>
                  </a:cubicBezTo>
                  <a:cubicBezTo>
                    <a:pt x="1274514" y="650149"/>
                    <a:pt x="1062192" y="604211"/>
                    <a:pt x="971265" y="589442"/>
                  </a:cubicBezTo>
                  <a:cubicBezTo>
                    <a:pt x="880338" y="574674"/>
                    <a:pt x="872250" y="575118"/>
                    <a:pt x="776744" y="556059"/>
                  </a:cubicBezTo>
                  <a:cubicBezTo>
                    <a:pt x="681238" y="537000"/>
                    <a:pt x="474061" y="499014"/>
                    <a:pt x="398226" y="475088"/>
                  </a:cubicBezTo>
                  <a:cubicBezTo>
                    <a:pt x="322391" y="451162"/>
                    <a:pt x="346074" y="430468"/>
                    <a:pt x="321736" y="412505"/>
                  </a:cubicBezTo>
                  <a:cubicBezTo>
                    <a:pt x="297398" y="394542"/>
                    <a:pt x="274220" y="381214"/>
                    <a:pt x="252200" y="367307"/>
                  </a:cubicBezTo>
                  <a:cubicBezTo>
                    <a:pt x="230180" y="353400"/>
                    <a:pt x="218011" y="348184"/>
                    <a:pt x="189617" y="329062"/>
                  </a:cubicBezTo>
                  <a:cubicBezTo>
                    <a:pt x="161223" y="309940"/>
                    <a:pt x="109222" y="281268"/>
                    <a:pt x="81836" y="252572"/>
                  </a:cubicBezTo>
                  <a:cubicBezTo>
                    <a:pt x="54450" y="223876"/>
                    <a:pt x="38050" y="183542"/>
                    <a:pt x="25302" y="156887"/>
                  </a:cubicBezTo>
                  <a:cubicBezTo>
                    <a:pt x="12554" y="130232"/>
                    <a:pt x="-10449" y="117254"/>
                    <a:pt x="5347" y="92639"/>
                  </a:cubicBezTo>
                  <a:cubicBezTo>
                    <a:pt x="21143" y="68024"/>
                    <a:pt x="100379" y="22524"/>
                    <a:pt x="120081" y="9196"/>
                  </a:cubicBezTo>
                  <a:cubicBezTo>
                    <a:pt x="139783" y="-4132"/>
                    <a:pt x="118922" y="-2973"/>
                    <a:pt x="123558" y="12672"/>
                  </a:cubicBezTo>
                  <a:cubicBezTo>
                    <a:pt x="128194" y="28317"/>
                    <a:pt x="132647" y="73667"/>
                    <a:pt x="147896" y="103069"/>
                  </a:cubicBezTo>
                  <a:cubicBezTo>
                    <a:pt x="163145" y="132471"/>
                    <a:pt x="186657" y="164167"/>
                    <a:pt x="215051" y="189084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右手"/>
            <p:cNvSpPr/>
            <p:nvPr/>
          </p:nvSpPr>
          <p:spPr>
            <a:xfrm flipH="1">
              <a:off x="7094880" y="5837760"/>
              <a:ext cx="316800" cy="104400"/>
            </a:xfrm>
            <a:custGeom>
              <a:avLst/>
              <a:gdLst/>
              <a:ahLst/>
              <a:rect l="l" t="t" r="r" b="b"/>
              <a:pathLst>
                <a:path w="767484" h="239424">
                  <a:moveTo>
                    <a:pt x="8117" y="80877"/>
                  </a:moveTo>
                  <a:cubicBezTo>
                    <a:pt x="43581" y="54998"/>
                    <a:pt x="264992" y="84711"/>
                    <a:pt x="341671" y="80877"/>
                  </a:cubicBezTo>
                  <a:cubicBezTo>
                    <a:pt x="418350" y="77043"/>
                    <a:pt x="431769" y="70333"/>
                    <a:pt x="468192" y="57873"/>
                  </a:cubicBezTo>
                  <a:cubicBezTo>
                    <a:pt x="504615" y="45413"/>
                    <a:pt x="525701" y="14741"/>
                    <a:pt x="560207" y="6115"/>
                  </a:cubicBezTo>
                  <a:cubicBezTo>
                    <a:pt x="594713" y="-2511"/>
                    <a:pt x="644554" y="-1553"/>
                    <a:pt x="675226" y="6115"/>
                  </a:cubicBezTo>
                  <a:cubicBezTo>
                    <a:pt x="705898" y="13783"/>
                    <a:pt x="728901" y="31995"/>
                    <a:pt x="744237" y="52123"/>
                  </a:cubicBezTo>
                  <a:cubicBezTo>
                    <a:pt x="759573" y="72251"/>
                    <a:pt x="769158" y="102923"/>
                    <a:pt x="767241" y="126885"/>
                  </a:cubicBezTo>
                  <a:cubicBezTo>
                    <a:pt x="765324" y="150847"/>
                    <a:pt x="748072" y="177685"/>
                    <a:pt x="732736" y="195896"/>
                  </a:cubicBezTo>
                  <a:cubicBezTo>
                    <a:pt x="717400" y="214107"/>
                    <a:pt x="703981" y="230402"/>
                    <a:pt x="675226" y="236153"/>
                  </a:cubicBezTo>
                  <a:cubicBezTo>
                    <a:pt x="646471" y="241904"/>
                    <a:pt x="601422" y="237112"/>
                    <a:pt x="560207" y="230402"/>
                  </a:cubicBezTo>
                  <a:cubicBezTo>
                    <a:pt x="518992" y="223693"/>
                    <a:pt x="499823" y="194938"/>
                    <a:pt x="427936" y="195896"/>
                  </a:cubicBezTo>
                  <a:cubicBezTo>
                    <a:pt x="356049" y="196855"/>
                    <a:pt x="196940" y="253406"/>
                    <a:pt x="128887" y="236153"/>
                  </a:cubicBezTo>
                  <a:cubicBezTo>
                    <a:pt x="60834" y="218900"/>
                    <a:pt x="-27347" y="106756"/>
                    <a:pt x="8117" y="80877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右袖"/>
            <p:cNvSpPr/>
            <p:nvPr/>
          </p:nvSpPr>
          <p:spPr>
            <a:xfrm flipH="1">
              <a:off x="7187040" y="5435640"/>
              <a:ext cx="776160" cy="880920"/>
            </a:xfrm>
            <a:custGeom>
              <a:avLst/>
              <a:gdLst/>
              <a:ahLst/>
              <a:rect l="l" t="t" r="r" b="b"/>
              <a:pathLst>
                <a:path w="1878521" h="2017657">
                  <a:moveTo>
                    <a:pt x="143922" y="1399509"/>
                  </a:moveTo>
                  <a:cubicBezTo>
                    <a:pt x="184263" y="1315465"/>
                    <a:pt x="203313" y="1240386"/>
                    <a:pt x="244775" y="1164186"/>
                  </a:cubicBezTo>
                  <a:cubicBezTo>
                    <a:pt x="286237" y="1087986"/>
                    <a:pt x="343386" y="1007303"/>
                    <a:pt x="392692" y="942309"/>
                  </a:cubicBezTo>
                  <a:cubicBezTo>
                    <a:pt x="441998" y="877315"/>
                    <a:pt x="493545" y="844819"/>
                    <a:pt x="540610" y="774222"/>
                  </a:cubicBezTo>
                  <a:cubicBezTo>
                    <a:pt x="587675" y="703625"/>
                    <a:pt x="632499" y="607254"/>
                    <a:pt x="675081" y="518727"/>
                  </a:cubicBezTo>
                  <a:cubicBezTo>
                    <a:pt x="717663" y="430200"/>
                    <a:pt x="756884" y="321503"/>
                    <a:pt x="796104" y="243062"/>
                  </a:cubicBezTo>
                  <a:cubicBezTo>
                    <a:pt x="835325" y="164621"/>
                    <a:pt x="864460" y="87300"/>
                    <a:pt x="910404" y="48080"/>
                  </a:cubicBezTo>
                  <a:cubicBezTo>
                    <a:pt x="956348" y="8859"/>
                    <a:pt x="1031428" y="-12432"/>
                    <a:pt x="1071769" y="7739"/>
                  </a:cubicBezTo>
                  <a:cubicBezTo>
                    <a:pt x="1112110" y="27910"/>
                    <a:pt x="1090819" y="54804"/>
                    <a:pt x="1152451" y="169104"/>
                  </a:cubicBezTo>
                  <a:cubicBezTo>
                    <a:pt x="1214083" y="283404"/>
                    <a:pt x="1348554" y="576998"/>
                    <a:pt x="1441563" y="693539"/>
                  </a:cubicBezTo>
                  <a:cubicBezTo>
                    <a:pt x="1534572" y="810080"/>
                    <a:pt x="1642148" y="826889"/>
                    <a:pt x="1710504" y="868351"/>
                  </a:cubicBezTo>
                  <a:cubicBezTo>
                    <a:pt x="1778860" y="909813"/>
                    <a:pt x="1825925" y="891883"/>
                    <a:pt x="1851698" y="942309"/>
                  </a:cubicBezTo>
                  <a:cubicBezTo>
                    <a:pt x="1877472" y="992735"/>
                    <a:pt x="1889798" y="1080141"/>
                    <a:pt x="1865145" y="1170909"/>
                  </a:cubicBezTo>
                  <a:cubicBezTo>
                    <a:pt x="1840492" y="1261677"/>
                    <a:pt x="1784463" y="1386062"/>
                    <a:pt x="1703781" y="1486915"/>
                  </a:cubicBezTo>
                  <a:cubicBezTo>
                    <a:pt x="1623099" y="1587768"/>
                    <a:pt x="1471819" y="1706551"/>
                    <a:pt x="1381051" y="1776027"/>
                  </a:cubicBezTo>
                  <a:cubicBezTo>
                    <a:pt x="1290283" y="1845504"/>
                    <a:pt x="1248822" y="1865674"/>
                    <a:pt x="1159175" y="1903774"/>
                  </a:cubicBezTo>
                  <a:cubicBezTo>
                    <a:pt x="1069528" y="1941874"/>
                    <a:pt x="958590" y="1987818"/>
                    <a:pt x="843169" y="2004627"/>
                  </a:cubicBezTo>
                  <a:cubicBezTo>
                    <a:pt x="727748" y="2021436"/>
                    <a:pt x="591036" y="2022556"/>
                    <a:pt x="466651" y="2004627"/>
                  </a:cubicBezTo>
                  <a:cubicBezTo>
                    <a:pt x="342266" y="1986698"/>
                    <a:pt x="174178" y="1953080"/>
                    <a:pt x="96857" y="1897051"/>
                  </a:cubicBezTo>
                  <a:cubicBezTo>
                    <a:pt x="19536" y="1841022"/>
                    <a:pt x="-9599" y="1751375"/>
                    <a:pt x="2727" y="1668451"/>
                  </a:cubicBezTo>
                  <a:cubicBezTo>
                    <a:pt x="15053" y="1585527"/>
                    <a:pt x="103581" y="1483553"/>
                    <a:pt x="143922" y="13995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头顶辫子"/>
            <p:cNvSpPr/>
            <p:nvPr/>
          </p:nvSpPr>
          <p:spPr>
            <a:xfrm flipH="1">
              <a:off x="7383240" y="4365720"/>
              <a:ext cx="367200" cy="18468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右丝带"/>
            <p:cNvSpPr/>
            <p:nvPr/>
          </p:nvSpPr>
          <p:spPr>
            <a:xfrm flipH="1" rot="178200">
              <a:off x="7385040" y="4398120"/>
              <a:ext cx="367200" cy="10440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大辫子"/>
            <p:cNvSpPr/>
            <p:nvPr/>
          </p:nvSpPr>
          <p:spPr>
            <a:xfrm flipH="1">
              <a:off x="7706520" y="5347800"/>
              <a:ext cx="956160" cy="1017360"/>
            </a:xfrm>
            <a:custGeom>
              <a:avLst/>
              <a:gdLst/>
              <a:ahLst/>
              <a:rect l="l" t="t" r="r" b="b"/>
              <a:pathLst>
                <a:path w="2314597" h="2330352">
                  <a:moveTo>
                    <a:pt x="2114081" y="463"/>
                  </a:moveTo>
                  <a:cubicBezTo>
                    <a:pt x="2144973" y="8701"/>
                    <a:pt x="2293254" y="110644"/>
                    <a:pt x="2311789" y="173457"/>
                  </a:cubicBezTo>
                  <a:cubicBezTo>
                    <a:pt x="2330324" y="236270"/>
                    <a:pt x="2252065" y="323798"/>
                    <a:pt x="2225292" y="377344"/>
                  </a:cubicBezTo>
                  <a:cubicBezTo>
                    <a:pt x="2198519" y="430890"/>
                    <a:pt x="2200578" y="403087"/>
                    <a:pt x="2151151" y="494733"/>
                  </a:cubicBezTo>
                  <a:cubicBezTo>
                    <a:pt x="2101724" y="586379"/>
                    <a:pt x="2004930" y="800563"/>
                    <a:pt x="1928730" y="927220"/>
                  </a:cubicBezTo>
                  <a:cubicBezTo>
                    <a:pt x="1852530" y="1053877"/>
                    <a:pt x="1806192" y="1124928"/>
                    <a:pt x="1693951" y="1254674"/>
                  </a:cubicBezTo>
                  <a:cubicBezTo>
                    <a:pt x="1581710" y="1384420"/>
                    <a:pt x="1402537" y="1585217"/>
                    <a:pt x="1255286" y="1705695"/>
                  </a:cubicBezTo>
                  <a:cubicBezTo>
                    <a:pt x="1108035" y="1826173"/>
                    <a:pt x="965932" y="1909582"/>
                    <a:pt x="810443" y="1977544"/>
                  </a:cubicBezTo>
                  <a:cubicBezTo>
                    <a:pt x="654954" y="2045506"/>
                    <a:pt x="457245" y="2054773"/>
                    <a:pt x="322351" y="2113468"/>
                  </a:cubicBezTo>
                  <a:cubicBezTo>
                    <a:pt x="187457" y="2172163"/>
                    <a:pt x="17552" y="2342069"/>
                    <a:pt x="1076" y="2329712"/>
                  </a:cubicBezTo>
                  <a:cubicBezTo>
                    <a:pt x="-15400" y="2317355"/>
                    <a:pt x="161713" y="2155687"/>
                    <a:pt x="223497" y="2039328"/>
                  </a:cubicBezTo>
                  <a:cubicBezTo>
                    <a:pt x="285281" y="1922969"/>
                    <a:pt x="301756" y="1754093"/>
                    <a:pt x="371778" y="1631555"/>
                  </a:cubicBezTo>
                  <a:cubicBezTo>
                    <a:pt x="441800" y="1509017"/>
                    <a:pt x="520059" y="1396777"/>
                    <a:pt x="643627" y="1304101"/>
                  </a:cubicBezTo>
                  <a:cubicBezTo>
                    <a:pt x="767195" y="1211425"/>
                    <a:pt x="963873" y="1157879"/>
                    <a:pt x="1113184" y="1075501"/>
                  </a:cubicBezTo>
                  <a:cubicBezTo>
                    <a:pt x="1262495" y="993123"/>
                    <a:pt x="1430341" y="889119"/>
                    <a:pt x="1539492" y="809830"/>
                  </a:cubicBezTo>
                  <a:cubicBezTo>
                    <a:pt x="1648643" y="730541"/>
                    <a:pt x="1699100" y="661550"/>
                    <a:pt x="1768092" y="599766"/>
                  </a:cubicBezTo>
                  <a:cubicBezTo>
                    <a:pt x="1837084" y="537982"/>
                    <a:pt x="1895778" y="499882"/>
                    <a:pt x="1953443" y="439128"/>
                  </a:cubicBezTo>
                  <a:cubicBezTo>
                    <a:pt x="2011108" y="378374"/>
                    <a:pt x="2091427" y="278490"/>
                    <a:pt x="2114081" y="235241"/>
                  </a:cubicBezTo>
                  <a:cubicBezTo>
                    <a:pt x="2136735" y="191992"/>
                    <a:pt x="2087308" y="198171"/>
                    <a:pt x="2089368" y="179636"/>
                  </a:cubicBezTo>
                  <a:cubicBezTo>
                    <a:pt x="2091428" y="161101"/>
                    <a:pt x="2121290" y="151833"/>
                    <a:pt x="2126438" y="124030"/>
                  </a:cubicBezTo>
                  <a:cubicBezTo>
                    <a:pt x="2131587" y="96227"/>
                    <a:pt x="2083189" y="-7775"/>
                    <a:pt x="2114081" y="46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辫子上的丝巾"/>
            <p:cNvSpPr/>
            <p:nvPr/>
          </p:nvSpPr>
          <p:spPr>
            <a:xfrm flipH="1">
              <a:off x="7704720" y="5380200"/>
              <a:ext cx="93960" cy="113400"/>
            </a:xfrm>
            <a:custGeom>
              <a:avLst/>
              <a:gdLst/>
              <a:ahLst/>
              <a:rect l="l" t="t" r="r" b="b"/>
              <a:pathLst>
                <a:path w="228083" h="259989">
                  <a:moveTo>
                    <a:pt x="40288" y="2987"/>
                  </a:moveTo>
                  <a:cubicBezTo>
                    <a:pt x="8562" y="-13443"/>
                    <a:pt x="36776" y="42418"/>
                    <a:pt x="30090" y="60774"/>
                  </a:cubicBezTo>
                  <a:cubicBezTo>
                    <a:pt x="23404" y="79130"/>
                    <a:pt x="-2324" y="97090"/>
                    <a:pt x="169" y="113126"/>
                  </a:cubicBezTo>
                  <a:cubicBezTo>
                    <a:pt x="2662" y="129162"/>
                    <a:pt x="19669" y="132856"/>
                    <a:pt x="45051" y="156990"/>
                  </a:cubicBezTo>
                  <a:cubicBezTo>
                    <a:pt x="70433" y="181124"/>
                    <a:pt x="128214" y="247452"/>
                    <a:pt x="152463" y="257931"/>
                  </a:cubicBezTo>
                  <a:cubicBezTo>
                    <a:pt x="176712" y="268410"/>
                    <a:pt x="179215" y="236296"/>
                    <a:pt x="190546" y="219866"/>
                  </a:cubicBezTo>
                  <a:cubicBezTo>
                    <a:pt x="201877" y="203436"/>
                    <a:pt x="245491" y="195498"/>
                    <a:pt x="220448" y="159352"/>
                  </a:cubicBezTo>
                  <a:cubicBezTo>
                    <a:pt x="195405" y="123206"/>
                    <a:pt x="72014" y="19417"/>
                    <a:pt x="40288" y="29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头发"/>
            <p:cNvSpPr/>
            <p:nvPr/>
          </p:nvSpPr>
          <p:spPr>
            <a:xfrm flipH="1">
              <a:off x="6732720" y="4440240"/>
              <a:ext cx="1545840" cy="1252080"/>
            </a:xfrm>
            <a:custGeom>
              <a:avLst/>
              <a:gdLst/>
              <a:ahLst/>
              <a:rect l="l" t="t" r="r" b="b"/>
              <a:pathLst>
                <a:path w="3741927" h="2868158">
                  <a:moveTo>
                    <a:pt x="2559476" y="1368493"/>
                  </a:moveTo>
                  <a:cubicBezTo>
                    <a:pt x="2591398" y="1412772"/>
                    <a:pt x="2633616" y="1374672"/>
                    <a:pt x="2726292" y="1374672"/>
                  </a:cubicBezTo>
                  <a:cubicBezTo>
                    <a:pt x="2818968" y="1374672"/>
                    <a:pt x="3005349" y="1372612"/>
                    <a:pt x="3115530" y="1368493"/>
                  </a:cubicBezTo>
                  <a:cubicBezTo>
                    <a:pt x="3225711" y="1364374"/>
                    <a:pt x="3288524" y="1355107"/>
                    <a:pt x="3387378" y="1349958"/>
                  </a:cubicBezTo>
                  <a:cubicBezTo>
                    <a:pt x="3486232" y="1344810"/>
                    <a:pt x="3656138" y="1414832"/>
                    <a:pt x="3708654" y="1337602"/>
                  </a:cubicBezTo>
                  <a:cubicBezTo>
                    <a:pt x="3761170" y="1260372"/>
                    <a:pt x="3745725" y="1029712"/>
                    <a:pt x="3702476" y="886580"/>
                  </a:cubicBezTo>
                  <a:cubicBezTo>
                    <a:pt x="3659227" y="743448"/>
                    <a:pt x="3564541" y="584820"/>
                    <a:pt x="3449162" y="478807"/>
                  </a:cubicBezTo>
                  <a:cubicBezTo>
                    <a:pt x="3333783" y="372794"/>
                    <a:pt x="3127564" y="314457"/>
                    <a:pt x="3010203" y="250501"/>
                  </a:cubicBezTo>
                  <a:cubicBezTo>
                    <a:pt x="2892842" y="186545"/>
                    <a:pt x="2835563" y="131160"/>
                    <a:pt x="2744996" y="95070"/>
                  </a:cubicBezTo>
                  <a:cubicBezTo>
                    <a:pt x="2654429" y="58980"/>
                    <a:pt x="2608931" y="49296"/>
                    <a:pt x="2466800" y="33963"/>
                  </a:cubicBezTo>
                  <a:cubicBezTo>
                    <a:pt x="2324669" y="18630"/>
                    <a:pt x="2066235" y="-9286"/>
                    <a:pt x="1892211" y="3071"/>
                  </a:cubicBezTo>
                  <a:cubicBezTo>
                    <a:pt x="1718187" y="15428"/>
                    <a:pt x="1547251" y="70004"/>
                    <a:pt x="1422654" y="108104"/>
                  </a:cubicBezTo>
                  <a:cubicBezTo>
                    <a:pt x="1298057" y="146204"/>
                    <a:pt x="1217738" y="194602"/>
                    <a:pt x="1144627" y="231672"/>
                  </a:cubicBezTo>
                  <a:cubicBezTo>
                    <a:pt x="1071516" y="268742"/>
                    <a:pt x="1037535" y="333614"/>
                    <a:pt x="983989" y="330525"/>
                  </a:cubicBezTo>
                  <a:cubicBezTo>
                    <a:pt x="930443" y="327436"/>
                    <a:pt x="910878" y="238879"/>
                    <a:pt x="823351" y="213136"/>
                  </a:cubicBezTo>
                  <a:cubicBezTo>
                    <a:pt x="735824" y="187393"/>
                    <a:pt x="575186" y="146204"/>
                    <a:pt x="458827" y="176066"/>
                  </a:cubicBezTo>
                  <a:cubicBezTo>
                    <a:pt x="342468" y="205928"/>
                    <a:pt x="201394" y="288307"/>
                    <a:pt x="125194" y="392310"/>
                  </a:cubicBezTo>
                  <a:cubicBezTo>
                    <a:pt x="48994" y="496313"/>
                    <a:pt x="-10731" y="674456"/>
                    <a:pt x="1626" y="800083"/>
                  </a:cubicBezTo>
                  <a:cubicBezTo>
                    <a:pt x="13983" y="925710"/>
                    <a:pt x="123136" y="1058544"/>
                    <a:pt x="199336" y="1146071"/>
                  </a:cubicBezTo>
                  <a:cubicBezTo>
                    <a:pt x="275536" y="1233598"/>
                    <a:pt x="373360" y="1289204"/>
                    <a:pt x="458827" y="1325245"/>
                  </a:cubicBezTo>
                  <a:cubicBezTo>
                    <a:pt x="544295" y="1361286"/>
                    <a:pt x="646238" y="1358196"/>
                    <a:pt x="712141" y="1362315"/>
                  </a:cubicBezTo>
                  <a:cubicBezTo>
                    <a:pt x="778044" y="1366434"/>
                    <a:pt x="833649" y="1296412"/>
                    <a:pt x="854243" y="1349958"/>
                  </a:cubicBezTo>
                  <a:cubicBezTo>
                    <a:pt x="874837" y="1403504"/>
                    <a:pt x="812023" y="1573409"/>
                    <a:pt x="835707" y="1683590"/>
                  </a:cubicBezTo>
                  <a:cubicBezTo>
                    <a:pt x="859391" y="1793771"/>
                    <a:pt x="931473" y="1923517"/>
                    <a:pt x="996346" y="2011044"/>
                  </a:cubicBezTo>
                  <a:cubicBezTo>
                    <a:pt x="1061219" y="2098571"/>
                    <a:pt x="1143597" y="2141821"/>
                    <a:pt x="1224946" y="2208753"/>
                  </a:cubicBezTo>
                  <a:cubicBezTo>
                    <a:pt x="1306295" y="2275685"/>
                    <a:pt x="1398971" y="2335409"/>
                    <a:pt x="1484438" y="2412639"/>
                  </a:cubicBezTo>
                  <a:cubicBezTo>
                    <a:pt x="1569905" y="2489869"/>
                    <a:pt x="1632719" y="2604169"/>
                    <a:pt x="1737751" y="2672131"/>
                  </a:cubicBezTo>
                  <a:cubicBezTo>
                    <a:pt x="1842783" y="2740093"/>
                    <a:pt x="1992094" y="2788490"/>
                    <a:pt x="2114632" y="2820412"/>
                  </a:cubicBezTo>
                  <a:cubicBezTo>
                    <a:pt x="2237170" y="2852334"/>
                    <a:pt x="2461651" y="2879107"/>
                    <a:pt x="2472978" y="2863661"/>
                  </a:cubicBezTo>
                  <a:cubicBezTo>
                    <a:pt x="2484305" y="2848215"/>
                    <a:pt x="2274240" y="2780252"/>
                    <a:pt x="2182594" y="2727736"/>
                  </a:cubicBezTo>
                  <a:cubicBezTo>
                    <a:pt x="2090948" y="2675220"/>
                    <a:pt x="1993124" y="2628882"/>
                    <a:pt x="1923103" y="2548563"/>
                  </a:cubicBezTo>
                  <a:cubicBezTo>
                    <a:pt x="1853082" y="2468244"/>
                    <a:pt x="1806744" y="2342618"/>
                    <a:pt x="1762465" y="2245823"/>
                  </a:cubicBezTo>
                  <a:cubicBezTo>
                    <a:pt x="1718187" y="2149029"/>
                    <a:pt x="1691038" y="2036638"/>
                    <a:pt x="1657432" y="1967796"/>
                  </a:cubicBezTo>
                  <a:cubicBezTo>
                    <a:pt x="1623826" y="1898954"/>
                    <a:pt x="1589737" y="1864726"/>
                    <a:pt x="1560829" y="1832772"/>
                  </a:cubicBezTo>
                  <a:cubicBezTo>
                    <a:pt x="1531921" y="1800818"/>
                    <a:pt x="1507991" y="1751477"/>
                    <a:pt x="1503036" y="1711779"/>
                  </a:cubicBezTo>
                  <a:cubicBezTo>
                    <a:pt x="1498081" y="1672081"/>
                    <a:pt x="1511146" y="1622116"/>
                    <a:pt x="1531097" y="1594581"/>
                  </a:cubicBezTo>
                  <a:cubicBezTo>
                    <a:pt x="1551048" y="1567046"/>
                    <a:pt x="1589330" y="1546152"/>
                    <a:pt x="1622743" y="1546571"/>
                  </a:cubicBezTo>
                  <a:cubicBezTo>
                    <a:pt x="1656156" y="1546990"/>
                    <a:pt x="1701078" y="1620594"/>
                    <a:pt x="1731573" y="1597093"/>
                  </a:cubicBezTo>
                  <a:cubicBezTo>
                    <a:pt x="1762068" y="1573592"/>
                    <a:pt x="1755257" y="1510595"/>
                    <a:pt x="1805714" y="1405563"/>
                  </a:cubicBezTo>
                  <a:cubicBezTo>
                    <a:pt x="1856171" y="1300531"/>
                    <a:pt x="1994154" y="1006029"/>
                    <a:pt x="2034313" y="966899"/>
                  </a:cubicBezTo>
                  <a:cubicBezTo>
                    <a:pt x="2074472" y="927769"/>
                    <a:pt x="2048730" y="1117239"/>
                    <a:pt x="2046670" y="1170785"/>
                  </a:cubicBezTo>
                  <a:cubicBezTo>
                    <a:pt x="2044610" y="1224331"/>
                    <a:pt x="2038431" y="1252134"/>
                    <a:pt x="2021955" y="1288174"/>
                  </a:cubicBezTo>
                  <a:cubicBezTo>
                    <a:pt x="2005479" y="1324214"/>
                    <a:pt x="1925162" y="1384969"/>
                    <a:pt x="1941638" y="1399385"/>
                  </a:cubicBezTo>
                  <a:cubicBezTo>
                    <a:pt x="1958114" y="1413801"/>
                    <a:pt x="2051818" y="1379820"/>
                    <a:pt x="2120810" y="1374671"/>
                  </a:cubicBezTo>
                  <a:cubicBezTo>
                    <a:pt x="2189802" y="1369522"/>
                    <a:pt x="2309251" y="1424099"/>
                    <a:pt x="2355589" y="1343780"/>
                  </a:cubicBezTo>
                  <a:cubicBezTo>
                    <a:pt x="2401927" y="1263461"/>
                    <a:pt x="2373095" y="946304"/>
                    <a:pt x="2398838" y="892758"/>
                  </a:cubicBezTo>
                  <a:cubicBezTo>
                    <a:pt x="2424581" y="839212"/>
                    <a:pt x="2507989" y="1029712"/>
                    <a:pt x="2534762" y="1109001"/>
                  </a:cubicBezTo>
                  <a:cubicBezTo>
                    <a:pt x="2561535" y="1188290"/>
                    <a:pt x="2527554" y="1324215"/>
                    <a:pt x="2559476" y="136849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左丝带"/>
            <p:cNvSpPr/>
            <p:nvPr/>
          </p:nvSpPr>
          <p:spPr>
            <a:xfrm flipH="1">
              <a:off x="7781760" y="4576320"/>
              <a:ext cx="289080" cy="480600"/>
            </a:xfrm>
            <a:custGeom>
              <a:avLst/>
              <a:gdLst/>
              <a:ahLst/>
              <a:rect l="l" t="t" r="r" b="b"/>
              <a:pathLst>
                <a:path w="700106" h="1100876">
                  <a:moveTo>
                    <a:pt x="451021" y="25620"/>
                  </a:moveTo>
                  <a:cubicBezTo>
                    <a:pt x="460288" y="-14539"/>
                    <a:pt x="529280" y="-5272"/>
                    <a:pt x="568410" y="37977"/>
                  </a:cubicBezTo>
                  <a:cubicBezTo>
                    <a:pt x="607540" y="81226"/>
                    <a:pt x="667265" y="186258"/>
                    <a:pt x="685800" y="285112"/>
                  </a:cubicBezTo>
                  <a:cubicBezTo>
                    <a:pt x="704335" y="383966"/>
                    <a:pt x="707424" y="528128"/>
                    <a:pt x="679621" y="631101"/>
                  </a:cubicBezTo>
                  <a:cubicBezTo>
                    <a:pt x="651818" y="734074"/>
                    <a:pt x="576649" y="831898"/>
                    <a:pt x="518984" y="902949"/>
                  </a:cubicBezTo>
                  <a:cubicBezTo>
                    <a:pt x="461319" y="974000"/>
                    <a:pt x="385119" y="1024458"/>
                    <a:pt x="333632" y="1057409"/>
                  </a:cubicBezTo>
                  <a:cubicBezTo>
                    <a:pt x="282145" y="1090360"/>
                    <a:pt x="265669" y="1102717"/>
                    <a:pt x="210064" y="1100658"/>
                  </a:cubicBezTo>
                  <a:cubicBezTo>
                    <a:pt x="154459" y="1098599"/>
                    <a:pt x="0" y="1081093"/>
                    <a:pt x="0" y="1045052"/>
                  </a:cubicBezTo>
                  <a:cubicBezTo>
                    <a:pt x="0" y="1009011"/>
                    <a:pt x="140044" y="959584"/>
                    <a:pt x="210065" y="884414"/>
                  </a:cubicBezTo>
                  <a:cubicBezTo>
                    <a:pt x="280086" y="809244"/>
                    <a:pt x="370702" y="701122"/>
                    <a:pt x="420129" y="594030"/>
                  </a:cubicBezTo>
                  <a:cubicBezTo>
                    <a:pt x="469556" y="486938"/>
                    <a:pt x="507656" y="373668"/>
                    <a:pt x="512805" y="278933"/>
                  </a:cubicBezTo>
                  <a:cubicBezTo>
                    <a:pt x="517954" y="184198"/>
                    <a:pt x="441754" y="65779"/>
                    <a:pt x="451021" y="2562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右眉"/>
            <p:cNvSpPr/>
            <p:nvPr/>
          </p:nvSpPr>
          <p:spPr>
            <a:xfrm flipH="1">
              <a:off x="7227000" y="5106240"/>
              <a:ext cx="239040" cy="33120"/>
            </a:xfrm>
            <a:custGeom>
              <a:avLst/>
              <a:gdLst/>
              <a:ahLst/>
              <a:rect l="l" t="t" r="r" b="b"/>
              <a:pathLst>
                <a:path w="578614" h="76003">
                  <a:moveTo>
                    <a:pt x="575612" y="9856"/>
                  </a:moveTo>
                  <a:cubicBezTo>
                    <a:pt x="557356" y="3506"/>
                    <a:pt x="444246" y="35256"/>
                    <a:pt x="387493" y="33669"/>
                  </a:cubicBezTo>
                  <a:cubicBezTo>
                    <a:pt x="330740" y="32082"/>
                    <a:pt x="299387" y="3109"/>
                    <a:pt x="235093" y="331"/>
                  </a:cubicBezTo>
                  <a:cubicBezTo>
                    <a:pt x="170799" y="-2447"/>
                    <a:pt x="18797" y="13031"/>
                    <a:pt x="1731" y="17000"/>
                  </a:cubicBezTo>
                  <a:cubicBezTo>
                    <a:pt x="-15335" y="20969"/>
                    <a:pt x="98568" y="23350"/>
                    <a:pt x="132699" y="24144"/>
                  </a:cubicBezTo>
                  <a:cubicBezTo>
                    <a:pt x="166830" y="24938"/>
                    <a:pt x="175562" y="17397"/>
                    <a:pt x="206518" y="21763"/>
                  </a:cubicBezTo>
                  <a:cubicBezTo>
                    <a:pt x="237474" y="26129"/>
                    <a:pt x="285100" y="42401"/>
                    <a:pt x="318437" y="50338"/>
                  </a:cubicBezTo>
                  <a:cubicBezTo>
                    <a:pt x="351774" y="58275"/>
                    <a:pt x="376777" y="65816"/>
                    <a:pt x="406543" y="69388"/>
                  </a:cubicBezTo>
                  <a:cubicBezTo>
                    <a:pt x="436309" y="72960"/>
                    <a:pt x="470043" y="80897"/>
                    <a:pt x="497031" y="71769"/>
                  </a:cubicBezTo>
                  <a:cubicBezTo>
                    <a:pt x="524018" y="62641"/>
                    <a:pt x="593868" y="16206"/>
                    <a:pt x="575612" y="98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左眉"/>
            <p:cNvSpPr/>
            <p:nvPr/>
          </p:nvSpPr>
          <p:spPr>
            <a:xfrm flipH="1">
              <a:off x="6919920" y="5096880"/>
              <a:ext cx="251640" cy="50400"/>
            </a:xfrm>
            <a:custGeom>
              <a:avLst/>
              <a:gdLst/>
              <a:ahLst/>
              <a:rect l="l" t="t" r="r" b="b"/>
              <a:pathLst>
                <a:path w="609022" h="116014">
                  <a:moveTo>
                    <a:pt x="6311" y="62981"/>
                  </a:moveTo>
                  <a:cubicBezTo>
                    <a:pt x="23377" y="57028"/>
                    <a:pt x="82511" y="82031"/>
                    <a:pt x="137280" y="72506"/>
                  </a:cubicBezTo>
                  <a:cubicBezTo>
                    <a:pt x="192049" y="62981"/>
                    <a:pt x="256342" y="16943"/>
                    <a:pt x="334923" y="5831"/>
                  </a:cubicBezTo>
                  <a:cubicBezTo>
                    <a:pt x="413504" y="-5281"/>
                    <a:pt x="601226" y="2259"/>
                    <a:pt x="608767" y="5831"/>
                  </a:cubicBezTo>
                  <a:cubicBezTo>
                    <a:pt x="616308" y="9403"/>
                    <a:pt x="455176" y="10196"/>
                    <a:pt x="380167" y="27262"/>
                  </a:cubicBezTo>
                  <a:cubicBezTo>
                    <a:pt x="305158" y="44328"/>
                    <a:pt x="216258" y="94730"/>
                    <a:pt x="158711" y="108224"/>
                  </a:cubicBezTo>
                  <a:cubicBezTo>
                    <a:pt x="101164" y="121718"/>
                    <a:pt x="60286" y="114971"/>
                    <a:pt x="34886" y="108224"/>
                  </a:cubicBezTo>
                  <a:cubicBezTo>
                    <a:pt x="9486" y="101477"/>
                    <a:pt x="-10755" y="68934"/>
                    <a:pt x="6311" y="629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右眼"/>
            <p:cNvSpPr/>
            <p:nvPr/>
          </p:nvSpPr>
          <p:spPr>
            <a:xfrm flipH="1">
              <a:off x="7284240" y="5198760"/>
              <a:ext cx="155880" cy="39600"/>
            </a:xfrm>
            <a:custGeom>
              <a:avLst/>
              <a:gdLst/>
              <a:ahLst/>
              <a:rect l="l" t="t" r="r" b="b"/>
              <a:pathLst>
                <a:path w="377644" h="91435">
                  <a:moveTo>
                    <a:pt x="137105" y="60277"/>
                  </a:moveTo>
                  <a:cubicBezTo>
                    <a:pt x="166870" y="55912"/>
                    <a:pt x="207749" y="44402"/>
                    <a:pt x="241880" y="48371"/>
                  </a:cubicBezTo>
                  <a:cubicBezTo>
                    <a:pt x="276011" y="52340"/>
                    <a:pt x="319271" y="81311"/>
                    <a:pt x="341893" y="84089"/>
                  </a:cubicBezTo>
                  <a:cubicBezTo>
                    <a:pt x="364515" y="86867"/>
                    <a:pt x="376818" y="74564"/>
                    <a:pt x="377612" y="65039"/>
                  </a:cubicBezTo>
                  <a:cubicBezTo>
                    <a:pt x="378406" y="55514"/>
                    <a:pt x="364514" y="37258"/>
                    <a:pt x="346655" y="26939"/>
                  </a:cubicBezTo>
                  <a:cubicBezTo>
                    <a:pt x="328796" y="16620"/>
                    <a:pt x="301808" y="7096"/>
                    <a:pt x="270455" y="3127"/>
                  </a:cubicBezTo>
                  <a:cubicBezTo>
                    <a:pt x="239102" y="-842"/>
                    <a:pt x="194256" y="-1239"/>
                    <a:pt x="158537" y="3127"/>
                  </a:cubicBezTo>
                  <a:cubicBezTo>
                    <a:pt x="122818" y="7493"/>
                    <a:pt x="82337" y="19399"/>
                    <a:pt x="56143" y="29321"/>
                  </a:cubicBezTo>
                  <a:cubicBezTo>
                    <a:pt x="29949" y="39243"/>
                    <a:pt x="7327" y="52339"/>
                    <a:pt x="1374" y="62658"/>
                  </a:cubicBezTo>
                  <a:cubicBezTo>
                    <a:pt x="-4579" y="72977"/>
                    <a:pt x="10105" y="89249"/>
                    <a:pt x="20424" y="91233"/>
                  </a:cubicBezTo>
                  <a:cubicBezTo>
                    <a:pt x="30743" y="93217"/>
                    <a:pt x="49397" y="80120"/>
                    <a:pt x="63287" y="74564"/>
                  </a:cubicBezTo>
                  <a:cubicBezTo>
                    <a:pt x="77177" y="69008"/>
                    <a:pt x="107340" y="64642"/>
                    <a:pt x="137105" y="60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左眼"/>
            <p:cNvSpPr/>
            <p:nvPr/>
          </p:nvSpPr>
          <p:spPr>
            <a:xfrm flipH="1">
              <a:off x="6979680" y="5178240"/>
              <a:ext cx="159480" cy="48960"/>
            </a:xfrm>
            <a:custGeom>
              <a:avLst/>
              <a:gdLst/>
              <a:ahLst/>
              <a:rect l="l" t="t" r="r" b="b"/>
              <a:pathLst>
                <a:path w="386037" h="112139">
                  <a:moveTo>
                    <a:pt x="147246" y="52544"/>
                  </a:moveTo>
                  <a:cubicBezTo>
                    <a:pt x="170662" y="47384"/>
                    <a:pt x="195665" y="45797"/>
                    <a:pt x="221065" y="45400"/>
                  </a:cubicBezTo>
                  <a:cubicBezTo>
                    <a:pt x="246465" y="45003"/>
                    <a:pt x="275437" y="43416"/>
                    <a:pt x="299646" y="50163"/>
                  </a:cubicBezTo>
                  <a:cubicBezTo>
                    <a:pt x="323855" y="56910"/>
                    <a:pt x="352827" y="84691"/>
                    <a:pt x="366321" y="85882"/>
                  </a:cubicBezTo>
                  <a:cubicBezTo>
                    <a:pt x="379815" y="87073"/>
                    <a:pt x="394102" y="70801"/>
                    <a:pt x="380608" y="57307"/>
                  </a:cubicBezTo>
                  <a:cubicBezTo>
                    <a:pt x="367114" y="43813"/>
                    <a:pt x="315124" y="13650"/>
                    <a:pt x="285358" y="4919"/>
                  </a:cubicBezTo>
                  <a:cubicBezTo>
                    <a:pt x="255592" y="-3812"/>
                    <a:pt x="233765" y="950"/>
                    <a:pt x="202015" y="4919"/>
                  </a:cubicBezTo>
                  <a:cubicBezTo>
                    <a:pt x="170265" y="8888"/>
                    <a:pt x="127799" y="15635"/>
                    <a:pt x="94858" y="28732"/>
                  </a:cubicBezTo>
                  <a:cubicBezTo>
                    <a:pt x="61917" y="41829"/>
                    <a:pt x="16674" y="69609"/>
                    <a:pt x="4371" y="83500"/>
                  </a:cubicBezTo>
                  <a:cubicBezTo>
                    <a:pt x="-7932" y="97391"/>
                    <a:pt x="8340" y="113266"/>
                    <a:pt x="21040" y="112076"/>
                  </a:cubicBezTo>
                  <a:cubicBezTo>
                    <a:pt x="33740" y="110886"/>
                    <a:pt x="59537" y="86279"/>
                    <a:pt x="80571" y="76357"/>
                  </a:cubicBezTo>
                  <a:cubicBezTo>
                    <a:pt x="101605" y="66435"/>
                    <a:pt x="123830" y="57704"/>
                    <a:pt x="147246" y="525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嘴"/>
            <p:cNvSpPr/>
            <p:nvPr/>
          </p:nvSpPr>
          <p:spPr>
            <a:xfrm flipH="1">
              <a:off x="7158960" y="5409720"/>
              <a:ext cx="66600" cy="21240"/>
            </a:xfrm>
            <a:custGeom>
              <a:avLst/>
              <a:gdLst/>
              <a:ahLst/>
              <a:rect l="l" t="t" r="r" b="b"/>
              <a:pathLst>
                <a:path w="161633" h="49100">
                  <a:moveTo>
                    <a:pt x="58047" y="39109"/>
                  </a:moveTo>
                  <a:cubicBezTo>
                    <a:pt x="79478" y="35934"/>
                    <a:pt x="112419" y="31568"/>
                    <a:pt x="129484" y="27203"/>
                  </a:cubicBezTo>
                  <a:cubicBezTo>
                    <a:pt x="146550" y="22837"/>
                    <a:pt x="166790" y="17282"/>
                    <a:pt x="160440" y="12916"/>
                  </a:cubicBezTo>
                  <a:cubicBezTo>
                    <a:pt x="154090" y="8550"/>
                    <a:pt x="115593" y="2200"/>
                    <a:pt x="91384" y="1009"/>
                  </a:cubicBezTo>
                  <a:cubicBezTo>
                    <a:pt x="67175" y="-182"/>
                    <a:pt x="30265" y="-1769"/>
                    <a:pt x="15184" y="5772"/>
                  </a:cubicBezTo>
                  <a:cubicBezTo>
                    <a:pt x="103" y="13313"/>
                    <a:pt x="-1484" y="37919"/>
                    <a:pt x="897" y="46253"/>
                  </a:cubicBezTo>
                  <a:cubicBezTo>
                    <a:pt x="3278" y="54587"/>
                    <a:pt x="36616" y="42284"/>
                    <a:pt x="58047" y="39109"/>
                  </a:cubicBezTo>
                  <a:close/>
                </a:path>
              </a:pathLst>
            </a:custGeom>
            <a:solidFill>
              <a:srgbClr val="ff6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胭脂"/>
            <p:cNvSpPr/>
            <p:nvPr/>
          </p:nvSpPr>
          <p:spPr>
            <a:xfrm flipH="1">
              <a:off x="7275240" y="5270040"/>
              <a:ext cx="215280" cy="227520"/>
            </a:xfrm>
            <a:prstGeom prst="ellipse">
              <a:avLst/>
            </a:prstGeom>
            <a:gradFill rotWithShape="0">
              <a:gsLst>
                <a:gs pos="0">
                  <a:srgbClr val="ffb5d3"/>
                </a:gs>
                <a:gs pos="100000">
                  <a:srgbClr val="ffb5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" name="Group 31"/>
            <p:cNvGrpSpPr/>
            <p:nvPr/>
          </p:nvGrpSpPr>
          <p:grpSpPr>
            <a:xfrm>
              <a:off x="7767720" y="4989600"/>
              <a:ext cx="538920" cy="276840"/>
              <a:chOff x="7767720" y="4989600"/>
              <a:chExt cx="538920" cy="276840"/>
            </a:xfrm>
          </p:grpSpPr>
          <p:sp>
            <p:nvSpPr>
              <p:cNvPr id="155" name="任意多边形 26"/>
              <p:cNvSpPr/>
              <p:nvPr/>
            </p:nvSpPr>
            <p:spPr>
              <a:xfrm flipH="1">
                <a:off x="7957440" y="5033880"/>
                <a:ext cx="349200" cy="232560"/>
              </a:xfrm>
              <a:custGeom>
                <a:avLst/>
                <a:gdLst/>
                <a:ahLst/>
                <a:rect l="l" t="t" r="r" b="b"/>
                <a:pathLst>
                  <a:path w="845546" h="533052">
                    <a:moveTo>
                      <a:pt x="176915" y="155607"/>
                    </a:moveTo>
                    <a:cubicBezTo>
                      <a:pt x="239105" y="139205"/>
                      <a:pt x="304029" y="102302"/>
                      <a:pt x="373737" y="81800"/>
                    </a:cubicBezTo>
                    <a:cubicBezTo>
                      <a:pt x="443445" y="61298"/>
                      <a:pt x="516569" y="44895"/>
                      <a:pt x="595161" y="32594"/>
                    </a:cubicBezTo>
                    <a:cubicBezTo>
                      <a:pt x="673753" y="20293"/>
                      <a:pt x="837771" y="-15927"/>
                      <a:pt x="845289" y="7992"/>
                    </a:cubicBezTo>
                    <a:cubicBezTo>
                      <a:pt x="852807" y="31911"/>
                      <a:pt x="693573" y="115287"/>
                      <a:pt x="640267" y="176110"/>
                    </a:cubicBezTo>
                    <a:cubicBezTo>
                      <a:pt x="586961" y="236933"/>
                      <a:pt x="553474" y="313476"/>
                      <a:pt x="525454" y="372932"/>
                    </a:cubicBezTo>
                    <a:cubicBezTo>
                      <a:pt x="497434" y="432388"/>
                      <a:pt x="519987" y="538316"/>
                      <a:pt x="472148" y="532849"/>
                    </a:cubicBezTo>
                    <a:cubicBezTo>
                      <a:pt x="424309" y="527382"/>
                      <a:pt x="317697" y="400268"/>
                      <a:pt x="238422" y="340128"/>
                    </a:cubicBezTo>
                    <a:cubicBezTo>
                      <a:pt x="159147" y="279988"/>
                      <a:pt x="10847" y="210963"/>
                      <a:pt x="596" y="180210"/>
                    </a:cubicBezTo>
                    <a:cubicBezTo>
                      <a:pt x="-9655" y="149457"/>
                      <a:pt x="114725" y="172009"/>
                      <a:pt x="176915" y="15560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任意多边形 27"/>
              <p:cNvSpPr/>
              <p:nvPr/>
            </p:nvSpPr>
            <p:spPr>
              <a:xfrm flipH="1">
                <a:off x="7767360" y="4989600"/>
                <a:ext cx="244440" cy="275040"/>
              </a:xfrm>
              <a:custGeom>
                <a:avLst/>
                <a:gdLst/>
                <a:ahLst/>
                <a:rect l="l" t="t" r="r" b="b"/>
                <a:pathLst>
                  <a:path w="592015" h="629897">
                    <a:moveTo>
                      <a:pt x="239088" y="2997"/>
                    </a:moveTo>
                    <a:cubicBezTo>
                      <a:pt x="203551" y="-22972"/>
                      <a:pt x="235671" y="126695"/>
                      <a:pt x="222686" y="187518"/>
                    </a:cubicBezTo>
                    <a:cubicBezTo>
                      <a:pt x="209701" y="248341"/>
                      <a:pt x="198083" y="296179"/>
                      <a:pt x="161179" y="367937"/>
                    </a:cubicBezTo>
                    <a:cubicBezTo>
                      <a:pt x="124275" y="439695"/>
                      <a:pt x="11512" y="581843"/>
                      <a:pt x="1261" y="618064"/>
                    </a:cubicBezTo>
                    <a:cubicBezTo>
                      <a:pt x="-8990" y="654285"/>
                      <a:pt x="44999" y="596879"/>
                      <a:pt x="99672" y="585261"/>
                    </a:cubicBezTo>
                    <a:cubicBezTo>
                      <a:pt x="154345" y="573643"/>
                      <a:pt x="249338" y="559975"/>
                      <a:pt x="329297" y="548357"/>
                    </a:cubicBezTo>
                    <a:cubicBezTo>
                      <a:pt x="409256" y="536739"/>
                      <a:pt x="543888" y="525804"/>
                      <a:pt x="579425" y="515553"/>
                    </a:cubicBezTo>
                    <a:cubicBezTo>
                      <a:pt x="614962" y="505302"/>
                      <a:pt x="566440" y="515553"/>
                      <a:pt x="542521" y="486850"/>
                    </a:cubicBezTo>
                    <a:cubicBezTo>
                      <a:pt x="518602" y="458147"/>
                      <a:pt x="499467" y="448579"/>
                      <a:pt x="435909" y="343334"/>
                    </a:cubicBezTo>
                    <a:cubicBezTo>
                      <a:pt x="372351" y="238089"/>
                      <a:pt x="274625" y="28966"/>
                      <a:pt x="239088" y="299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灰辫子2"/>
            <p:cNvSpPr/>
            <p:nvPr/>
          </p:nvSpPr>
          <p:spPr>
            <a:xfrm flipH="1">
              <a:off x="7957440" y="5664600"/>
              <a:ext cx="767520" cy="660600"/>
            </a:xfrm>
            <a:custGeom>
              <a:avLst/>
              <a:gdLst/>
              <a:ahLst/>
              <a:rect l="l" t="t" r="r" b="b"/>
              <a:pathLst>
                <a:path w="1858169" h="1513524">
                  <a:moveTo>
                    <a:pt x="1842175" y="14057"/>
                  </a:moveTo>
                  <a:cubicBezTo>
                    <a:pt x="1889877" y="-15060"/>
                    <a:pt x="1822970" y="6624"/>
                    <a:pt x="1745531" y="28926"/>
                  </a:cubicBezTo>
                  <a:cubicBezTo>
                    <a:pt x="1668092" y="51228"/>
                    <a:pt x="1377541" y="147872"/>
                    <a:pt x="1377541" y="147872"/>
                  </a:cubicBezTo>
                  <a:lnTo>
                    <a:pt x="1076458" y="240799"/>
                  </a:lnTo>
                  <a:cubicBezTo>
                    <a:pt x="979814" y="270535"/>
                    <a:pt x="876356" y="296555"/>
                    <a:pt x="797678" y="326291"/>
                  </a:cubicBezTo>
                  <a:cubicBezTo>
                    <a:pt x="719000" y="356027"/>
                    <a:pt x="662005" y="387003"/>
                    <a:pt x="604390" y="419218"/>
                  </a:cubicBezTo>
                  <a:cubicBezTo>
                    <a:pt x="546775" y="451433"/>
                    <a:pt x="474912" y="512145"/>
                    <a:pt x="418536" y="567901"/>
                  </a:cubicBezTo>
                  <a:cubicBezTo>
                    <a:pt x="362160" y="623657"/>
                    <a:pt x="316936" y="676316"/>
                    <a:pt x="266136" y="753755"/>
                  </a:cubicBezTo>
                  <a:cubicBezTo>
                    <a:pt x="215336" y="831194"/>
                    <a:pt x="150907" y="936511"/>
                    <a:pt x="113736" y="1032535"/>
                  </a:cubicBezTo>
                  <a:cubicBezTo>
                    <a:pt x="76565" y="1128559"/>
                    <a:pt x="61697" y="1249984"/>
                    <a:pt x="43112" y="1329901"/>
                  </a:cubicBezTo>
                  <a:cubicBezTo>
                    <a:pt x="24527" y="1409818"/>
                    <a:pt x="-8927" y="1528145"/>
                    <a:pt x="2224" y="1512038"/>
                  </a:cubicBezTo>
                  <a:cubicBezTo>
                    <a:pt x="13375" y="1495931"/>
                    <a:pt x="61697" y="1338574"/>
                    <a:pt x="110019" y="1233257"/>
                  </a:cubicBezTo>
                  <a:cubicBezTo>
                    <a:pt x="158341" y="1127940"/>
                    <a:pt x="227107" y="978019"/>
                    <a:pt x="292156" y="880136"/>
                  </a:cubicBezTo>
                  <a:cubicBezTo>
                    <a:pt x="357205" y="782253"/>
                    <a:pt x="408005" y="717824"/>
                    <a:pt x="500312" y="645960"/>
                  </a:cubicBezTo>
                  <a:cubicBezTo>
                    <a:pt x="592619" y="574096"/>
                    <a:pt x="740682" y="502233"/>
                    <a:pt x="845999" y="448955"/>
                  </a:cubicBezTo>
                  <a:cubicBezTo>
                    <a:pt x="951316" y="395677"/>
                    <a:pt x="1029994" y="367180"/>
                    <a:pt x="1132214" y="326292"/>
                  </a:cubicBezTo>
                  <a:cubicBezTo>
                    <a:pt x="1234434" y="285404"/>
                    <a:pt x="1340990" y="255667"/>
                    <a:pt x="1459317" y="203628"/>
                  </a:cubicBezTo>
                  <a:cubicBezTo>
                    <a:pt x="1577644" y="151589"/>
                    <a:pt x="1794473" y="43174"/>
                    <a:pt x="1842175" y="14057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灰辫子1"/>
            <p:cNvSpPr/>
            <p:nvPr/>
          </p:nvSpPr>
          <p:spPr>
            <a:xfrm flipH="1">
              <a:off x="8219880" y="5770800"/>
              <a:ext cx="512280" cy="436680"/>
            </a:xfrm>
            <a:custGeom>
              <a:avLst/>
              <a:gdLst/>
              <a:ahLst/>
              <a:rect l="l" t="t" r="r" b="b"/>
              <a:pathLst>
                <a:path w="1239911" h="1000934">
                  <a:moveTo>
                    <a:pt x="1965" y="1000898"/>
                  </a:moveTo>
                  <a:cubicBezTo>
                    <a:pt x="11877" y="997800"/>
                    <a:pt x="55863" y="795840"/>
                    <a:pt x="102326" y="722118"/>
                  </a:cubicBezTo>
                  <a:cubicBezTo>
                    <a:pt x="148789" y="648396"/>
                    <a:pt x="201448" y="630430"/>
                    <a:pt x="280745" y="558567"/>
                  </a:cubicBezTo>
                  <a:cubicBezTo>
                    <a:pt x="360042" y="486704"/>
                    <a:pt x="418277" y="383865"/>
                    <a:pt x="578111" y="290938"/>
                  </a:cubicBezTo>
                  <a:cubicBezTo>
                    <a:pt x="737945" y="198011"/>
                    <a:pt x="1229838" y="15255"/>
                    <a:pt x="1239750" y="1006"/>
                  </a:cubicBezTo>
                  <a:cubicBezTo>
                    <a:pt x="1249662" y="-13243"/>
                    <a:pt x="801755" y="127387"/>
                    <a:pt x="637584" y="205445"/>
                  </a:cubicBezTo>
                  <a:cubicBezTo>
                    <a:pt x="473413" y="283503"/>
                    <a:pt x="339598" y="403689"/>
                    <a:pt x="254725" y="469357"/>
                  </a:cubicBezTo>
                  <a:cubicBezTo>
                    <a:pt x="169852" y="535025"/>
                    <a:pt x="158701" y="558567"/>
                    <a:pt x="128345" y="599455"/>
                  </a:cubicBezTo>
                  <a:cubicBezTo>
                    <a:pt x="97989" y="640343"/>
                    <a:pt x="63915" y="673797"/>
                    <a:pt x="42852" y="740704"/>
                  </a:cubicBezTo>
                  <a:cubicBezTo>
                    <a:pt x="21789" y="807611"/>
                    <a:pt x="-7947" y="1003996"/>
                    <a:pt x="1965" y="1000898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黑辫子2"/>
            <p:cNvSpPr/>
            <p:nvPr/>
          </p:nvSpPr>
          <p:spPr>
            <a:xfrm flipH="1">
              <a:off x="7884720" y="5642640"/>
              <a:ext cx="772560" cy="388440"/>
            </a:xfrm>
            <a:custGeom>
              <a:avLst/>
              <a:gdLst/>
              <a:ahLst/>
              <a:rect l="l" t="t" r="r" b="b"/>
              <a:pathLst>
                <a:path w="1870168" h="890436">
                  <a:moveTo>
                    <a:pt x="280637" y="699515"/>
                  </a:moveTo>
                  <a:cubicBezTo>
                    <a:pt x="376661" y="636944"/>
                    <a:pt x="485695" y="558885"/>
                    <a:pt x="578002" y="509944"/>
                  </a:cubicBezTo>
                  <a:cubicBezTo>
                    <a:pt x="670309" y="461003"/>
                    <a:pt x="734739" y="444276"/>
                    <a:pt x="834480" y="405866"/>
                  </a:cubicBezTo>
                  <a:cubicBezTo>
                    <a:pt x="934221" y="367456"/>
                    <a:pt x="1037061" y="317276"/>
                    <a:pt x="1176451" y="279486"/>
                  </a:cubicBezTo>
                  <a:cubicBezTo>
                    <a:pt x="1315841" y="241696"/>
                    <a:pt x="1555593" y="222491"/>
                    <a:pt x="1670822" y="179125"/>
                  </a:cubicBezTo>
                  <a:cubicBezTo>
                    <a:pt x="1786051" y="135759"/>
                    <a:pt x="1851720" y="47789"/>
                    <a:pt x="1867827" y="19291"/>
                  </a:cubicBezTo>
                  <a:cubicBezTo>
                    <a:pt x="1883934" y="-9207"/>
                    <a:pt x="1813310" y="85"/>
                    <a:pt x="1767466" y="8139"/>
                  </a:cubicBezTo>
                  <a:cubicBezTo>
                    <a:pt x="1721622" y="16193"/>
                    <a:pt x="1592763" y="67612"/>
                    <a:pt x="1592763" y="67612"/>
                  </a:cubicBezTo>
                  <a:cubicBezTo>
                    <a:pt x="1496739" y="101066"/>
                    <a:pt x="1341242" y="161159"/>
                    <a:pt x="1191320" y="208861"/>
                  </a:cubicBezTo>
                  <a:cubicBezTo>
                    <a:pt x="1041398" y="256563"/>
                    <a:pt x="820232" y="307983"/>
                    <a:pt x="693232" y="353827"/>
                  </a:cubicBezTo>
                  <a:cubicBezTo>
                    <a:pt x="566232" y="399671"/>
                    <a:pt x="544549" y="395335"/>
                    <a:pt x="429320" y="483925"/>
                  </a:cubicBezTo>
                  <a:cubicBezTo>
                    <a:pt x="314091" y="572515"/>
                    <a:pt x="25397" y="850057"/>
                    <a:pt x="1856" y="885369"/>
                  </a:cubicBezTo>
                  <a:cubicBezTo>
                    <a:pt x="-21685" y="920681"/>
                    <a:pt x="184613" y="762086"/>
                    <a:pt x="280637" y="6995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37"/>
            <p:cNvGrpSpPr/>
            <p:nvPr/>
          </p:nvGrpSpPr>
          <p:grpSpPr>
            <a:xfrm>
              <a:off x="7271640" y="5673240"/>
              <a:ext cx="607320" cy="604080"/>
              <a:chOff x="7271640" y="5673240"/>
              <a:chExt cx="607320" cy="604080"/>
            </a:xfrm>
          </p:grpSpPr>
          <p:grpSp>
            <p:nvGrpSpPr>
              <p:cNvPr id="161" name="Group 38"/>
              <p:cNvGrpSpPr/>
              <p:nvPr/>
            </p:nvGrpSpPr>
            <p:grpSpPr>
              <a:xfrm>
                <a:off x="7483680" y="6154200"/>
                <a:ext cx="395280" cy="123120"/>
                <a:chOff x="7483680" y="6154200"/>
                <a:chExt cx="395280" cy="123120"/>
              </a:xfrm>
            </p:grpSpPr>
            <p:pic>
              <p:nvPicPr>
                <p:cNvPr id="162" name="任意多边形 37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484400" y="6154560"/>
                  <a:ext cx="394200" cy="12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Text Box 40"/>
                <p:cNvSpPr/>
                <p:nvPr/>
              </p:nvSpPr>
              <p:spPr>
                <a:xfrm flipH="1">
                  <a:off x="7483680" y="6154200"/>
                  <a:ext cx="39528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4" name="Group 41"/>
              <p:cNvGrpSpPr/>
              <p:nvPr/>
            </p:nvGrpSpPr>
            <p:grpSpPr>
              <a:xfrm>
                <a:off x="7271640" y="5749560"/>
                <a:ext cx="474480" cy="167040"/>
                <a:chOff x="7271640" y="5749560"/>
                <a:chExt cx="474480" cy="167040"/>
              </a:xfrm>
            </p:grpSpPr>
            <p:pic>
              <p:nvPicPr>
                <p:cNvPr id="165" name="任意多边形 38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7271640" y="5749560"/>
                  <a:ext cx="474480" cy="16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Text Box 43"/>
                <p:cNvSpPr/>
                <p:nvPr/>
              </p:nvSpPr>
              <p:spPr>
                <a:xfrm flipH="1">
                  <a:off x="7273440" y="5751360"/>
                  <a:ext cx="47232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7" name="任意多边形 39"/>
              <p:cNvSpPr/>
              <p:nvPr/>
            </p:nvSpPr>
            <p:spPr>
              <a:xfrm flipH="1">
                <a:off x="7394040" y="5673240"/>
                <a:ext cx="97920" cy="66600"/>
              </a:xfrm>
              <a:custGeom>
                <a:avLst/>
                <a:gdLst/>
                <a:ahLst/>
                <a:rect l="l" t="t" r="r" b="b"/>
                <a:pathLst>
                  <a:path w="237703" h="152893">
                    <a:moveTo>
                      <a:pt x="975" y="14"/>
                    </a:moveTo>
                    <a:cubicBezTo>
                      <a:pt x="-7551" y="547"/>
                      <a:pt x="42006" y="20262"/>
                      <a:pt x="64919" y="41577"/>
                    </a:cubicBezTo>
                    <a:cubicBezTo>
                      <a:pt x="87832" y="62892"/>
                      <a:pt x="109680" y="110317"/>
                      <a:pt x="138455" y="127902"/>
                    </a:cubicBezTo>
                    <a:cubicBezTo>
                      <a:pt x="167230" y="145487"/>
                      <a:pt x="241298" y="162005"/>
                      <a:pt x="237568" y="147085"/>
                    </a:cubicBezTo>
                    <a:cubicBezTo>
                      <a:pt x="233838" y="132165"/>
                      <a:pt x="155507" y="63425"/>
                      <a:pt x="116075" y="38380"/>
                    </a:cubicBezTo>
                    <a:cubicBezTo>
                      <a:pt x="76643" y="13335"/>
                      <a:pt x="9501" y="-519"/>
                      <a:pt x="975" y="14"/>
                    </a:cubicBezTo>
                    <a:close/>
                  </a:path>
                </a:pathLst>
              </a:custGeom>
              <a:solidFill>
                <a:srgbClr val="66ccff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0:11:19Z</dcterms:created>
  <dc:creator>ACER</dc:creator>
  <dc:description/>
  <dc:language>en-US</dc:language>
  <cp:lastModifiedBy>a</cp:lastModifiedBy>
  <dcterms:modified xsi:type="dcterms:W3CDTF">2014-12-26T02:34:01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