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5B7552-1682-494C-A154-A7F88A20F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82BB94-0778-4C8C-9E4B-377160287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A2F858-A778-4B0B-A3A6-573B08F6F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D7E8FC-78EC-4F08-B392-69F23A36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8479FA-017F-48C2-9D83-CD2FD0700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484BAE-8314-48C9-96D9-2F701D6F5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680DD9-933B-4EEB-AFB0-4D3BDCDE4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54D665-952C-4C63-AE4C-61B420D10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9EED97-0104-48B5-8296-AABD54199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B0044C-9C16-45BD-8C1A-357F98BF5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F604B8-406D-479C-9A25-56119EA5E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4BABD3-349A-4285-93E6-90B48FE91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2CCFCF-3AE9-419B-8C52-DF1704AFA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0517FD-96AE-4F0F-918A-77C213D7A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895683-3571-4D15-963C-99A3B286B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F5E1E4-8D48-4AD7-B5F6-838030F7F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6005C6-E001-4784-88AE-99159D4F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619FBA-138F-4C39-AB75-3732FDD0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76F911-011F-4651-990C-164DF74AD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E79394-348D-4F5B-827E-3037DD3CD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588D8C-A727-4601-B58B-1B34D514A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4C2EE6-7049-4B63-B86B-BA0797E78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6CB7AE-DB52-478C-9EF9-62581A0F9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356C34-E499-43CD-89E3-9433ACA69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FDE66E-F516-4F9A-81BC-B31AC7CDC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6EC9A6-4F6B-4EDF-BA0E-385FCFC7F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5A6756-01F2-4BB5-A023-89C519465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00BEE3-9DD0-4CEF-8682-1370BD48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E6C217-355A-4A5E-AD80-9CFA7F154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1F6415-BFA2-49F6-9F2E-2D13CA2FA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6869-5830-48F2-A419-B7E4927B2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5A3792-188C-468B-8DF2-B5BEBC03A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46A459-5139-40F5-8EDF-08C30CCAF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F77F8F-4B57-4827-9F53-D30311BBF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999808-8593-4463-A09B-99B36A121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AC5F09-E343-4CC2-A76B-0C0872AA5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837ACE-500A-4947-A209-8ED08E55F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82B808-1347-4451-91B1-6BC383304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FEEDD3-C477-4E8A-8431-E4CCEFC0A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689A0A-08CC-4E7B-B6A8-CF8840B23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D564B7-6958-4E88-A4EC-32785D921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70A1-46B7-4CEE-817E-CEFADE3F7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469E4B-86D0-4B23-94EF-3AECA1AE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615173-08AC-43EA-A246-EA77C74FA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0CE3A2-C822-4BE7-A4F2-745D60E67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1A8B84-7ECA-4CC7-A6DB-E956B8932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817FCC-98A6-4275-B450-81752624F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05F24F-AFBF-4613-A276-2E1EBD9DE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31453F-D48A-4286-9B19-29604DB9C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84446C-524E-4017-9880-E3582417F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4C0C66-4C31-4EF3-822D-C253C08B2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D5E241-1805-4427-92F0-C88AEBC49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3D67-1FCC-4B3E-94D1-90BCB78E1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1DAE38-39CF-4484-B28F-00B07ABF7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09E68D-04E3-431B-8EE0-29A7CFD26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C927F3-A3A4-4EC6-87BF-7D888407A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BDE632-A356-4A30-A509-69B96897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2E9B65-D638-4FF0-B0DF-64007BE54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42C1C3-43A7-49B4-9486-A35C955E9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15FBAB-3557-41CB-BB9A-A846B47CC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F7B9C9-7C3D-498C-855E-3749A3D8F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39E97C-563B-4A0A-8BFE-C36EED967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44ED3D-F61D-46E1-A904-492FC4436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7E12-E9E5-4B03-BDDF-23755D350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BF369D-9008-444C-80D2-89167D661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2EE591-BEE4-43EE-9DA8-F3BDD6171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B60D1C-F86A-447D-9250-BEFA604CB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53B187-7EC5-4115-9576-010B88262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6FB4FF-7DDB-4DF7-8E12-FD93FA68E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240521-806F-44A5-B5B8-97C980AE9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D4CBDE-4F48-48DA-AAF9-885C89031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EF31DD-85C4-42F0-B95C-58926CFB2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EF6082-04E4-4D6B-A726-985342940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2F50-A7EF-49ED-BAF5-9DA0BE670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4F75-86F3-468C-A6DB-E6B93EB6D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4F01-E0BE-41F2-8E22-0D16A2B48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FE9A-6B7D-4138-A1AC-AF81F289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B096-6CB1-431E-B1FA-C5AB8683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0EC2-F543-4181-84C4-743187E5A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C074-E283-4321-BCF1-B1ECFF512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9910-35BD-460D-B507-9AD9557C8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5CAF1-C68C-473B-9A5B-E46C6EF41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D8373-9163-4FC5-BFF0-11FCA8142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B583E-0833-4BF7-8D34-E4FCE9DDE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2F61B-BA4E-480B-A098-14BFBB633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03B90-7A87-40C9-AF86-CBD9BA169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2A544-969E-4694-94FE-850C71844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3E321-CE28-4336-B5DE-B23501F16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0ABF1-ED65-4965-B17C-8F50AC799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556C7-13FD-4993-984F-1C204D60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F4BF1-4CDD-486E-9DEF-D560FB82B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84515-7EF1-4418-B5B4-BD2DF4418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EF027-96CD-466D-872A-A7EB69666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50056-EAC7-433A-BFC0-07107095E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B72AF-1666-4493-9765-2510D80D0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E6F79-1FF2-4057-BA4D-6700A600E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AE4DC-38A8-49A2-923D-E65B3DF49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6DCDD-2FD1-4E3E-8219-C005BF51A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A6D33-A01A-44E2-9BEB-AB32F72FE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99C0A-A731-4F34-AA73-882D94B68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5C53B-CC7A-4047-9909-86B7E376D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0BAEF-B6D5-4AEC-B1B6-E7A55DE5D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63E09-930F-46D0-98CE-4DBF05C9E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19DAB-5285-4B02-9699-A0E371027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1318F-B472-46B0-B870-F12A8260A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B871A-B3D1-4852-B506-0CC5B58C2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72139-70BA-4972-9838-75E902A4D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2B99C-0C1F-4CCD-B559-68CD27EFB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FC451-DB86-42DA-A42F-2202FECE9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1ACDE-AE7A-4891-A4EE-DB63D0AA5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E7916-5649-45DD-8813-7C7BDC26C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09929-2D0D-4273-921C-29172D40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B10E5-A9C5-4418-8B37-7012A02E8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DC9F5-118D-4791-AC8C-655094A7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382F7-80C5-4A85-BDCC-F26A6ACD5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89399-9B5A-44A5-9440-C694CD47F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1C59A-C27D-4F90-B95F-205A58E7D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204DA-700C-4E54-AF50-18D742C15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2CEF8-5A56-4F5C-9E29-4C7FCDC88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CEB348-FC8E-4C12-835A-0CE413A82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5CB1DD-45F3-4298-A8FB-E60541E75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FFC9C-AAFA-4146-A234-187729DD0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C2B97-9BA9-4322-A675-AC7FB9555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579CB2-590A-4DC7-BC62-35C8F41C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E3E5FC-6868-4BD5-AFE6-8AA7CB9BB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C3F2DE-753E-40D8-9BEE-BAD10F712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09370-CCFD-482F-A8A1-EEB80CDC9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DE734-394D-4A57-B27E-3F486991F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1AB73-B354-4622-8761-F35B80F82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E391F7-21CB-414A-B144-198BB076C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F483F2-84B5-418A-A4CA-CCCD25183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BA5481-4694-48AA-927D-30341EF31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B2ACB9-AEB0-4E00-B8B5-668B72806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87FC1B-7AAB-4781-9088-5BCD876C2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D12539-6B53-4C07-BEA6-6999BA35E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3C6F36-C3FD-4A9A-B22B-67496841A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193D1F-4E98-4685-9B04-02C67BB1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B7B691-233C-4ADA-A446-30AA21B2B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C04826-D24B-462C-A80C-E5D52911A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560FA8-8EAA-4890-B7FE-CF810BCC7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ECE768-CA79-416F-A930-1837F0F1B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7FB4DC-1A81-4F85-AC77-70409AA93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D6B596-818E-4259-B6C8-2120E516A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D860FD-8B77-4A70-A742-C2D6BB9E9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15235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58a7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6558a7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2285640"/>
            <a:ext cx="7315200" cy="38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690840" indent="-26568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062720" indent="-2124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487880" indent="-2124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1913040" indent="-2124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1913040" indent="-2124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1913040" indent="-2124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064B2-5D53-4911-80F1-45CBFE498ED1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D3974-F0BB-49D1-8C54-4418973FE3D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A1B9A-19AD-4697-8D01-381B5AFC662F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BAA96-831E-4642-8C1A-2FA6C72E84D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6EEA9-8DFF-48DC-9FF5-AFE9E4F7D00E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9F5C1-54E8-4CBD-A8BC-B8530647C70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125F9-45E5-493E-B37E-8786E9999929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0AA68-2263-4331-9192-BF2FA20FE96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04985-139A-453C-B56E-24FFA10195F6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E80F7-943B-40DD-9F5E-4D5FC73F9BE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8BBA4-6730-4312-B012-A63F35D89102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3C572-A24F-4AB2-AE59-289890CAE25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5235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58a7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6558a7"/>
              </a:solidFill>
              <a:latin typeface="Microsoft Sans Serif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90720" y="2285640"/>
            <a:ext cx="7315200" cy="38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690840" indent="-26568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062720" indent="-2124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487880" indent="-2124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1913040" indent="-2124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1913040" indent="-2124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1913040" indent="-2124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57F62-003E-49AD-B3FA-D4B5C8202D5B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46D6A-AFBC-4CBB-9CDB-C3CCA0FB1F8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AAC7D-EC37-41E6-AEF3-4F1ED8BF904F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EC4F0-4BC8-421B-AB50-B45542DC9F7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8641C-FDF1-44FA-92B6-C14D7A9D834D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E4D7D-B484-4DCB-84B0-099AE7CECC0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B3950-8DCE-41D2-BA83-62CF2805BCBA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F1259-BB0A-4D25-A1E9-272C0039A50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C359D-9A72-4F53-A7AE-A902DD50C059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CD65F-D01E-481D-8CCB-B817ECA8A9F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DD8FC-1F42-4574-B70E-5D0C38E25C53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88581-4523-4F73-AC9B-A9B1FF85409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990720" y="487692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Microsoft Sans Serif"/>
              </a:rPr>
              <a:t>夏威夷风光</a:t>
            </a:r>
            <a:r>
              <a:rPr b="0" lang="zh-CN" sz="3600" spc="-1" strike="noStrike">
                <a:solidFill>
                  <a:srgbClr val="ffffff"/>
                </a:solidFill>
                <a:latin typeface="Microsoft Sans Serif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Microsoft Sans Serif"/>
              </a:rPr>
              <a:t>模板</a:t>
            </a:r>
            <a:endParaRPr b="0" lang="en-US" sz="3600" spc="-1" strike="noStrike">
              <a:solidFill>
                <a:srgbClr val="6558a7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9072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6558a7"/>
              </a:solidFill>
              <a:latin typeface="Microsoft Sans Serif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990720" y="2285640"/>
            <a:ext cx="7315200" cy="38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057400" y="457200"/>
            <a:ext cx="6781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6558a7"/>
              </a:solidFill>
              <a:latin typeface="Microsoft Sans Serif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057400" y="1677600"/>
            <a:ext cx="678168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7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4d4d4d"/>
                </a:solidFill>
                <a:latin typeface="Arial"/>
              </a:endParaRPr>
            </a:p>
          </p:txBody>
        </p:sp>
        <p:pic>
          <p:nvPicPr>
            <p:cNvPr id="57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8T20:13:27Z</dcterms:created>
  <dc:creator>SmileTemplates.com</dc:creator>
  <dc:description/>
  <dc:language>en-US</dc:language>
  <cp:lastModifiedBy>a</cp:lastModifiedBy>
  <dcterms:modified xsi:type="dcterms:W3CDTF">2014-12-15T17:42:23Z</dcterms:modified>
  <cp:revision>24</cp:revision>
  <dc:subject/>
  <dc:title>Name of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