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8375-EA39-480B-BB94-4D0A3526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4D65-7A88-44B9-A548-2C11A140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A2C50-8D27-4ADB-B8E7-6A1A66DF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E887-9F96-4A9C-A2B3-121C042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A588-B621-4592-B616-C984AC2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2411-7F30-4E06-9B45-2B714D01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6A42-3BEB-488D-8994-1E1DB1E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13A13-7245-41BF-A297-664F564D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E91DB-589A-426F-BCEF-4260B690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A3A79-8BDC-403B-ADD0-5DC84A4A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52284-E175-4EC5-AB40-CEEC2D87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4EED7-FD15-4715-B2BC-F6CA4753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BF3E-41D8-480E-B102-5DA66286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488DC-6DAA-4139-92D5-CAAF809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CD075-5A07-474B-8581-689C483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49B6F-CAF6-4682-BCD2-F6122504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B308-D34F-451B-9250-3C80BCFA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7C2E9-BE67-49CE-970A-36FD1A9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E733F-AAEE-438F-858B-36077713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38C51-B844-4BE5-8F45-E7473EC5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CA12-7606-4AA2-8601-B3E96052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2B8C9-0C1B-4824-B1B5-E45A343A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74AEE-DC9D-4A3A-A6D5-F8E7DD87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63CF8-737F-426D-996F-A35EAFDA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C2BE8-8D15-4DDE-84FA-5703E62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5B8F8-349B-4901-B046-BFAB92A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B3FB6-641E-4419-A24A-63B76007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DE6EF-4692-4C4C-B698-5448A29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CF82B-CD96-4BCE-B129-E57D070B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BBD4B-3A16-45FA-9CC2-21063A4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BF6-3651-4930-B414-236E8DC3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38B6B-0CC6-4369-A48A-C3E7DF6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86897-629D-4950-B9E9-27082D2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523A0-8906-4949-89BF-195CDB54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86174-79CD-485C-9F6E-416416D9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10376-838F-41D8-A05E-EBA64E3F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F2F43-65A4-47B3-8D10-560A98CB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1F3F4-D595-4D70-A4E2-DC3AF705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C53AA-9773-4BA2-B7EE-40B9E436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C72CB-0E32-402C-AC24-D3376FCF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65FB0-CA38-4FC8-B6E1-533629E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20E-F8E2-475B-B2CA-DC67DE96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ECE40-65DE-4C60-A226-176B947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59EC0-00F0-4A2C-8287-7900887A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E3510-AA65-4B8B-8A72-552BB383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C4F07-8AA0-40C4-BBA2-9D03860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DE305-050E-4465-AF00-0FA633EF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E63E8-A57C-4054-BC8C-81368E59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46FC2-92AD-4CF9-8510-2EFC9531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43D8B-0E99-4495-B2FE-C28CDA8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E4029-1A7E-45AC-A514-A86B63B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15023-2DD8-46B2-A7F8-A4AC2DB8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8F8-3D35-4DE3-AC52-4D09A75B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23148-53D4-422C-BAAF-6496A6A1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5422-360B-4B8B-98C7-64E661E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91AE1-7815-4BB4-BF96-C2ED528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63AC6-DFC2-48DD-92A6-7A505DD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897B7-56AF-4660-86E5-02F57251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98CFE-48F5-4914-8B2E-8C0E9CD8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FC41-6458-4A25-ADA2-E3599F1A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9501-0818-4E83-8079-AD7C2BE1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F8002-C340-4CEF-8914-D5F73159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61A88-3795-4CDB-AEE7-CDCAC2E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AC0-440E-4DFE-A137-03F9AFF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CD10E-3AFB-41D5-9663-9CBF7AFA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A3393-CA17-45EA-94F7-0F90F1E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2C06B-E27C-41FA-BDB1-3D694963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2AB70-5769-4992-B4A5-79F73C4D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8DC5E-C877-4589-8C04-24C115A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B206A-C946-4F32-AA98-31D7D5F5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B56F1-80CD-4B2B-952F-A8491BD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B5656-415F-488B-85DE-5894CE56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9E0B9-16C9-4AEA-8E00-7199FEC7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DCD-AF31-4FF6-9B79-242DD33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06B-B93E-4562-A408-B935D36D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EBA-63E2-4840-AD40-52C9A31C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9FE-90A0-4F6D-BF61-2EF89B31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912-84AA-48EE-9CF6-2AB1EB2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E3C-3638-4931-8BDB-F3391CF5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DB8-EF02-4C8C-90D2-D449E1B4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0A4-711C-4C3C-84BB-97F3E4EB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6197-C1EC-4547-934B-269BAC46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261-8F42-4BCB-B9A7-8319CCF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232B-0457-4E90-9F2E-2D2EAE82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160F-27EF-423D-AC7B-3D002333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4992-BC79-406A-8611-C9FEC45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CF2A-E4A4-4294-A00C-FFC154D5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B6CB-E8B5-4EC2-9C65-DBD8503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7933-39CD-47A4-B1CB-D49DFA68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B6CD-3647-4C3B-9ED5-F584B332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B94-5D97-47F9-9098-9F81DDFC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C53-2A1C-4E3B-A0B4-E12D77E2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8D2C-2640-4D1F-A674-348EA1E2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FE45-5547-45B0-AA39-2A8FC22D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029A-F02E-49D6-B131-A93463C2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1C8B-501D-46F5-AA59-555E21D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E5FA-B293-4C73-ACD9-906A9DC7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4EA7-48E8-4E3C-B279-F4569E79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2F70-94FE-4558-9C19-5A1CC6E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B367-E273-4EC4-A15C-C489D963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754E-7F6A-44F1-95A6-36536FB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17E8-0595-483A-A107-1665A5C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8597-8357-4503-98D3-A83FE9D6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F63A-AFA6-4E73-8426-A210DC7F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BE9C-CBA1-409D-A724-2F8F841F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1E7C-150E-4F42-96A9-D222E5A1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B971-1C0E-4297-B89D-DA41201F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6FCB5-D786-40E4-88D5-4E7D45C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D47F-3BA5-4CFB-AC24-14F2C0B8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777F-81DA-43D2-B989-53F2399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14A4-7773-4E32-B39D-327FC268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113D-C763-43E4-96ED-2680531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126D-00AC-45C0-A082-33914F1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4048-7327-4B42-A337-BEFA10B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A9E8-BBAF-419A-B759-BCAE92B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355D-1DBE-4F23-BF62-CE2853F5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5550-F9C3-4365-81BE-0D680ACF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982B-1763-4E5D-B021-E5DACCF4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D66C-5C73-4954-AF17-9B9DF05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58B0-E200-45E2-8911-9FD0A31C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CE33-A81E-4694-B25D-4B4B4A30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0F16-8550-477D-A1F0-6738CAA0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8B39-7234-4180-BBF1-397D5315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4049-E4D3-436D-BBED-D1B2FC6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2E9E-0AF2-4616-8A2B-EB027AD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6985-3D5F-4853-9F01-8C8D2B83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3F6AC-95D8-4E73-AA95-4060FCE0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2E96-FF26-49E2-8510-7C07093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73DC5-DE02-4F17-80E4-23B6DC2F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F659-0C16-4692-A3A4-1C3A7F86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D030-4A33-4B58-A16A-4C5652B1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327A-C16C-47DE-A0E8-BDD2F7C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EF599-76F4-442E-8AA0-B7B39AF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40802-28D9-4683-BB87-8C89187B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B939-7A90-4D07-9D6F-3BDE4853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DA12-08FA-4D50-B5FF-3A6CE2B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25C5-19DB-447A-91E8-0DAEB80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17F6-C5BD-4BF4-A0F2-0931A147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FE10-8EC4-431F-B7FE-C7D7FF80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E2F0-789E-46C3-B9BD-3386CF6E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808C-F58F-4C39-91DA-F27DCA68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6A857-897A-42DD-9865-1B799C9B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8D4FA-0CDD-4887-B624-41E2F6B7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B04F3-2B68-46D1-AF2B-8D040F48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103-E6E2-42BF-AB95-68C346380E3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70E5-B976-4F6D-8E45-7F2D25A4C3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C54-53D1-41F4-B50D-7B4670AB4C6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B1CC-9C50-495A-8998-B7533D24D8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C07-880E-4A42-96FA-EDF96FC153D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F1BE-6058-4855-B34F-92D630DD7A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A311-10DA-4509-BF66-6E322EAD68F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F8F8-85D1-4FB8-9EE4-3F6F4142AC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86E-BDD8-49C4-9395-153B0C64946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05D9-D4A3-4F3D-9F4F-34C7C5AE25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A11E-8D38-46D8-B138-85A84B04D3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DDEB-3B05-42B8-8AD1-1C2CB9B903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A196-D301-42CA-9BED-6D51E9E749A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02C6-0A33-4EA5-BCA2-2B4CADCB26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7CA-4540-4E3F-89E7-313572C2A11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2C0-204C-4493-86E8-85069BC462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2742-B799-456F-A744-A340D265D51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AD59-1EEE-4819-B922-D941508D76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A4F4-49E9-4AFF-82CD-4B863A018AF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6E2A-269F-4E07-AC7F-A9013D8CFB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99FD-9451-424A-BB16-55ED557516A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366-EA18-4B47-A535-232379A200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493-FC0C-478A-B2BF-5645A655563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E681-C69A-44A6-A5A9-4B01163E3C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教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演示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6:35:06Z</dcterms:created>
  <dc:creator>歆勳劆氙</dc:creator>
  <dc:description/>
  <dc:language>en-US</dc:language>
  <cp:lastModifiedBy>a</cp:lastModifiedBy>
  <dcterms:modified xsi:type="dcterms:W3CDTF">2014-12-31T03:40:47Z</dcterms:modified>
  <cp:revision>16</cp:revision>
  <dc:subject/>
  <dc:title>氇皵鞚?旌愲Ν韯?霐旍瀽鞚?歆€霃勳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311042</vt:lpwstr>
  </property>
</Properties>
</file>