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759-A834-4033-9B38-5E380BA2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1B3-2F19-4117-A8DA-3A4D5234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E48-CAF3-4EFC-A67E-AC2AC01B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712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1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712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DCE-1412-46A1-87CC-E41F9758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4070-0FA9-4D98-B1C6-B3E7698B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40FD-50EF-4268-941C-6B97B9AE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238-BB81-419D-81E3-1D5B4037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E74-9618-4F26-96B8-E493A51F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DF51-41C9-4152-91AC-5E5A773C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41480" y="365040"/>
            <a:ext cx="7772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22EF-57EA-4608-AFBE-F5A88209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890E-3346-4137-96BA-A2ACA55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48A-E04E-40AA-873F-52F93481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8D09-D560-4222-B07E-F7AB02E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9AE3-572D-4154-B101-17AA4D6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7A1D-628C-498B-8B9A-CA0C605E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1B83-8F09-49E4-8D49-A766C12B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6948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9712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41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6948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9712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8BA5-7E4E-40D4-A652-E186A7B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790-74B1-44DF-A0B7-5917BA81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4C7-377A-44EC-83BD-0BE56722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FD8-A6B2-4F46-88AC-D9A616C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1480" y="365040"/>
            <a:ext cx="7772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2B1-DDCD-4EF0-8EA8-339B5FC7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BB6-0FD8-497D-9019-50A8C30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416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14E-0A99-40E5-86FD-1BB2842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4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416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148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7A0-34B3-48E1-9EA8-95CBE69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03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819000" y="0"/>
            <a:ext cx="214560" cy="68580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41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724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56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3394-68A8-42BC-8B15-E102F9E6949E}" type="slidenum"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033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819000" y="0"/>
            <a:ext cx="214560" cy="68580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360"/>
              <a:ext cx="452736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"/>
            <p:cNvPicPr/>
            <p:nvPr/>
          </p:nvPicPr>
          <p:blipFill>
            <a:blip r:embed="rId4"/>
            <a:stretch/>
          </p:blipFill>
          <p:spPr>
            <a:xfrm>
              <a:off x="2737440" y="0"/>
              <a:ext cx="640656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Rectangle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Rectangle 9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Rectangle 10"/>
          <p:cNvGrpSpPr/>
          <p:nvPr/>
        </p:nvGrpSpPr>
        <p:grpSpPr>
          <a:xfrm>
            <a:off x="901800" y="4254480"/>
            <a:ext cx="8242200" cy="2603520"/>
            <a:chOff x="901800" y="4254480"/>
            <a:chExt cx="8242200" cy="2603520"/>
          </a:xfrm>
        </p:grpSpPr>
        <p:pic>
          <p:nvPicPr>
            <p:cNvPr id="52" name="Rectangle 10" descr=""/>
            <p:cNvPicPr/>
            <p:nvPr/>
          </p:nvPicPr>
          <p:blipFill>
            <a:blip r:embed="rId6"/>
            <a:stretch/>
          </p:blipFill>
          <p:spPr>
            <a:xfrm>
              <a:off x="901800" y="4254480"/>
              <a:ext cx="824220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2"/>
            <p:cNvSpPr/>
            <p:nvPr/>
          </p:nvSpPr>
          <p:spPr>
            <a:xfrm>
              <a:off x="903240" y="4257720"/>
              <a:ext cx="824076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" name="Straight Connector 12" descr=""/>
          <p:cNvPicPr/>
          <p:nvPr/>
        </p:nvPicPr>
        <p:blipFill>
          <a:blip r:embed="rId7"/>
          <a:stretch/>
        </p:blipFill>
        <p:spPr>
          <a:xfrm>
            <a:off x="2693880" y="4211640"/>
            <a:ext cx="6462720" cy="92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041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8724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56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D391-3CCE-4DCB-86FA-2B72B464DE5C}" type="slidenum"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2200" y="423720"/>
            <a:ext cx="5937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运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48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148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4:25:34Z</dcterms:created>
  <dc:creator>lenovo</dc:creator>
  <dc:description/>
  <cp:keywords>XS-普屏 4：3;SC-深黄色;BG-深色;DH-静态</cp:keywords>
  <dc:language>en-US</dc:language>
  <cp:lastModifiedBy>a</cp:lastModifiedBy>
  <dcterms:modified xsi:type="dcterms:W3CDTF">2014-12-26T05:23:37Z</dcterms:modified>
  <cp:revision>7</cp:revision>
  <dc:subject>TP-体育竞技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