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6614-BEA0-4DC9-9FC6-0AC60E795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7277-2207-4AE3-8A2E-950953F93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C438-8AB8-4CFD-90F7-99572B16F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6D3E-BEA6-4C6A-94D4-7B326A13F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3640" y="13932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9258-1A87-4E83-95CA-64BA3EBAD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471C-B85B-40B3-88E7-2061C0903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0EAF-C694-4D40-92CF-8B828FDA5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79DB-EC46-495B-9E63-907E5DE5A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3640" y="13932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0844-3C88-45FA-9E7A-8B0E7F9F1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B971-6BB7-477E-A428-199D23C83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6114-5152-477E-A562-36205646E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397D-BC2B-47D7-B188-B8F504FB9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b6e1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b6e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ea01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be4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fld id="{FFC5F938-774C-4F1F-88C1-DE634AA8A7C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0"/>
            <a:ext cx="7236000" cy="927000"/>
          </a:xfrm>
          <a:prstGeom prst="rect">
            <a:avLst/>
          </a:prstGeom>
          <a:gradFill rotWithShape="0">
            <a:gsLst>
              <a:gs pos="0">
                <a:srgbClr val="94bc45"/>
              </a:gs>
              <a:gs pos="100000">
                <a:srgbClr val="4d901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30" descr="2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6372360" y="0"/>
            <a:ext cx="2771640" cy="9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4bc45"/>
              </a:gs>
              <a:gs pos="100000">
                <a:srgbClr val="4d901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7" descr="2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1557360"/>
            <a:ext cx="9151920" cy="3052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1"/>
          <p:cNvSpPr/>
          <p:nvPr/>
        </p:nvSpPr>
        <p:spPr>
          <a:xfrm rot="10800000">
            <a:off x="0" y="155700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4"/>
          <p:cNvSpPr/>
          <p:nvPr/>
        </p:nvSpPr>
        <p:spPr>
          <a:xfrm rot="10800000">
            <a:off x="0" y="4580640"/>
            <a:ext cx="914400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b6e1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b6e1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ea01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be4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9800" y="4797000"/>
            <a:ext cx="5399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旋转楼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60480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i="1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7019BD52-C23E-4A94-9E94-68A97E72F0AB}" type="slidenum">
              <a:rPr b="0" i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1393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96be46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</cp:lastModifiedBy>
  <dcterms:modified xsi:type="dcterms:W3CDTF">2014-12-31T04:52:00Z</dcterms:modified>
  <cp:revision>68</cp:revision>
  <dc:subject/>
  <dc:title>单击此处添加标题文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