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E69-9EE4-4363-89FC-FAE7C2C4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E5-012D-42A9-8646-19A988F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785-AA30-4C94-AE1C-D4B605A9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7EF-F6BF-405E-BF67-85145305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7F5-C999-46C2-94C5-AB8ED61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46F-C1D1-4DB5-A1BD-77C9AF9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28-F62E-4CD3-8D72-39E64AC7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5EB-1457-436B-88CC-18BFE32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8CD-AEB4-41BE-BC54-44A12C5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420-569F-4527-AE6A-D417BB0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BC8-E6AC-436F-B406-EF364E6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CDD-99F8-4ACE-9DB1-914D84F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1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2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3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4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5AD-647A-404F-888F-2821FD8FDB9D}" type="datetime">
              <a:rPr b="1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4B5D-5EE2-4AA1-96F6-E1931235EDC0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2130120"/>
            <a:ext cx="817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音乐乐器课</a:t>
            </a: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PPT</a:t>
            </a: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模板下载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b2c15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457200" y="650232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81DB-1EBF-48A5-A54D-1DDFC827481D}" type="datetime">
              <a:rPr b="1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23a5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！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8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6:31:34Z</dcterms:created>
  <dc:creator>Administrator</dc:creator>
  <dc:description/>
  <dc:language>en-US</dc:language>
  <cp:lastModifiedBy>a</cp:lastModifiedBy>
  <dcterms:modified xsi:type="dcterms:W3CDTF">2014-12-31T04:02:34Z</dcterms:modified>
  <cp:revision>2</cp:revision>
  <dc:subject/>
  <dc:title>Musical instru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09990</vt:lpwstr>
  </property>
</Properties>
</file>