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B2A-0947-4294-8FED-A0B909A0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C990-EFE5-4573-998C-8072D849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2163-BCCE-48EA-A6AE-91631186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0239-0DAD-4132-B181-F314A386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EB90-C17C-4D8B-8655-BB3BF3EC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CC8F-B90C-459D-9FD4-0C068363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72F8-7D23-4B1A-A104-46C0FF27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F42B-C23C-49E3-8D4D-F33FE94A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EC7D-56FF-4944-8073-F45D871F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62A4-6058-4B12-8A7F-44441D45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E06E-5A3D-43E9-91B2-DEC1CFC1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5C90-B20D-4037-86AF-78B696F4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09EB-DC20-4871-BF4E-6817664A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33BE-DAD7-44DF-9777-8CA3808A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ED89-7C48-457B-B803-C707E68C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E64E-F5D9-4C75-870C-D27447F8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F111-5F93-4672-AA4B-E52C91E1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5CEA4-2E1B-4EEC-B1AE-1A8460F8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7684B-D8EA-4BA1-8565-EB55B97D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DD302-BA55-4F6A-AE3B-30354B57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FCD92-9B26-47BC-88A6-C75264A0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CB65C-4B5A-4962-89EF-4B620DE3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267F-90A2-43F4-8DB9-8858F826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25F32-42DD-42A1-9021-CD778453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C322C-695E-4961-91F1-2AFA5104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E95E8-BA25-48CB-81D3-70BCE39D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652C3-19A4-47E0-9F4C-3218B3D3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C731F-5B54-4342-9F17-D499056B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E8E3C-FEB7-4724-B6D9-9942C657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EBA1F-FF0A-484B-BC64-2F319569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041F-CB43-41B2-BEA2-1683B4B3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A7AD-0E9E-4482-BEE6-5DABF1CA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74C3-0AB1-4217-8643-E7DE8D2F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51C0-D8BC-43E6-BE2B-6620DD05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F2EB-D9D7-4C8D-8C8D-66C3AF23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2391-BBAC-4453-A47E-5CB424FD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4516-5F13-468F-B3BC-328C0D5386E0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4AAE-22E3-4C98-94E9-22BE5144964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CECF-CF36-49EF-975C-F642F00E82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927F-EB73-4C7A-B2D3-E7F863D3EF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"/>
          <p:cNvPicPr/>
          <p:nvPr/>
        </p:nvPicPr>
        <p:blipFill>
          <a:blip r:embed="rId1"/>
          <a:stretch/>
        </p:blipFill>
        <p:spPr>
          <a:xfrm>
            <a:off x="-28440" y="-19080"/>
            <a:ext cx="93484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2"/>
          <p:cNvPicPr/>
          <p:nvPr/>
        </p:nvPicPr>
        <p:blipFill>
          <a:blip r:embed="rId1"/>
          <a:stretch/>
        </p:blipFill>
        <p:spPr>
          <a:xfrm>
            <a:off x="-173160" y="3240"/>
            <a:ext cx="9353520" cy="68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3"/>
          <p:cNvPicPr/>
          <p:nvPr/>
        </p:nvPicPr>
        <p:blipFill>
          <a:blip r:embed="rId1"/>
          <a:stretch/>
        </p:blipFill>
        <p:spPr>
          <a:xfrm>
            <a:off x="-27000" y="0"/>
            <a:ext cx="920916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4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5"/>
          <p:cNvPicPr/>
          <p:nvPr/>
        </p:nvPicPr>
        <p:blipFill>
          <a:blip r:embed="rId1"/>
          <a:stretch/>
        </p:blipFill>
        <p:spPr>
          <a:xfrm>
            <a:off x="1440" y="-19080"/>
            <a:ext cx="91807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5-27T01:19:21Z</dcterms:modified>
  <cp:revision>1</cp:revision>
  <dc:subject/>
  <dc:title>PowerPoint 演示文稿</dc:title>
</cp:coreProperties>
</file>