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8000" y="437760"/>
            <a:ext cx="710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99680" y="1500120"/>
            <a:ext cx="79614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9680" y="3887280"/>
            <a:ext cx="79614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437760"/>
            <a:ext cx="710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9680" y="1500120"/>
            <a:ext cx="388512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9560" y="1500120"/>
            <a:ext cx="388512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99680" y="3887280"/>
            <a:ext cx="388512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579560" y="3887280"/>
            <a:ext cx="388512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68000" y="437760"/>
            <a:ext cx="710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99680" y="1500120"/>
            <a:ext cx="25632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191400" y="1500120"/>
            <a:ext cx="25632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883120" y="1500120"/>
            <a:ext cx="25632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9680" y="3887280"/>
            <a:ext cx="25632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191400" y="3887280"/>
            <a:ext cx="25632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883120" y="3887280"/>
            <a:ext cx="25632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079734-DD99-42DD-B5F9-D85D56BF31E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000" y="437760"/>
            <a:ext cx="710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99680" y="1500120"/>
            <a:ext cx="796140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F8C033-EF7E-4ECC-8DAE-1C083B12141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000" y="437760"/>
            <a:ext cx="710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99680" y="1500120"/>
            <a:ext cx="796140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D4D3ED-FD53-4990-8810-1C7E091179F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000" y="437760"/>
            <a:ext cx="710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99680" y="1500120"/>
            <a:ext cx="388512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9560" y="1500120"/>
            <a:ext cx="388512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7723DB-734D-41C2-BE79-EE451578B4F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437760"/>
            <a:ext cx="710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032B86-57FA-4315-A936-2753EE1E457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68000" y="437760"/>
            <a:ext cx="710388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5E005D-EE67-40B9-A8D3-A219FFF19EA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000" y="437760"/>
            <a:ext cx="710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99680" y="1500120"/>
            <a:ext cx="388512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9560" y="1500120"/>
            <a:ext cx="388512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99680" y="3887280"/>
            <a:ext cx="388512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744D31-9DBA-47D7-9A69-22C01EB2BCD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68000" y="437760"/>
            <a:ext cx="710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99680" y="1500120"/>
            <a:ext cx="796140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000" y="437760"/>
            <a:ext cx="710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99680" y="1500120"/>
            <a:ext cx="388512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579560" y="1500120"/>
            <a:ext cx="388512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9560" y="3887280"/>
            <a:ext cx="388512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E7D474-18F2-4B36-BC7D-18D4E02ED29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000" y="437760"/>
            <a:ext cx="710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99680" y="1500120"/>
            <a:ext cx="388512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79560" y="1500120"/>
            <a:ext cx="388512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99680" y="3887280"/>
            <a:ext cx="79614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75494F-FDF4-4771-8082-0BAA9338290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000" y="437760"/>
            <a:ext cx="710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99680" y="1500120"/>
            <a:ext cx="79614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9680" y="3887280"/>
            <a:ext cx="79614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5AC61F-3213-4D1E-AF81-16BCB64A715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000" y="437760"/>
            <a:ext cx="710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99680" y="1500120"/>
            <a:ext cx="388512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9560" y="1500120"/>
            <a:ext cx="388512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99680" y="3887280"/>
            <a:ext cx="388512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579560" y="3887280"/>
            <a:ext cx="388512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EADE06-9504-47F1-9B2D-4FD951C3079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000" y="437760"/>
            <a:ext cx="710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99680" y="1500120"/>
            <a:ext cx="25632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191400" y="1500120"/>
            <a:ext cx="25632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883120" y="1500120"/>
            <a:ext cx="25632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9680" y="3887280"/>
            <a:ext cx="25632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191400" y="3887280"/>
            <a:ext cx="25632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5883120" y="3887280"/>
            <a:ext cx="25632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997851-B230-4633-9DF7-BC7D57A0A83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68000" y="437760"/>
            <a:ext cx="710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99680" y="1500120"/>
            <a:ext cx="796140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8000" y="437760"/>
            <a:ext cx="710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99680" y="1500120"/>
            <a:ext cx="388512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579560" y="1500120"/>
            <a:ext cx="388512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437760"/>
            <a:ext cx="710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68000" y="437760"/>
            <a:ext cx="710388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8000" y="437760"/>
            <a:ext cx="710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99680" y="1500120"/>
            <a:ext cx="388512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579560" y="1500120"/>
            <a:ext cx="388512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99680" y="3887280"/>
            <a:ext cx="388512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000" y="437760"/>
            <a:ext cx="710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99680" y="1500120"/>
            <a:ext cx="388512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79560" y="1500120"/>
            <a:ext cx="388512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9560" y="3887280"/>
            <a:ext cx="388512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8000" y="437760"/>
            <a:ext cx="710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99680" y="1500120"/>
            <a:ext cx="388512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79560" y="1500120"/>
            <a:ext cx="388512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9680" y="3887280"/>
            <a:ext cx="79614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437760"/>
            <a:ext cx="710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9680" y="1500120"/>
            <a:ext cx="796140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68000" y="437760"/>
            <a:ext cx="710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99680" y="1500120"/>
            <a:ext cx="796140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Num" idx="1"/>
          </p:nvPr>
        </p:nvSpPr>
        <p:spPr>
          <a:xfrm>
            <a:off x="0" y="6545160"/>
            <a:ext cx="9144000" cy="2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21DFC-5A99-4B8F-A5AC-FA3B0B005AF0}" type="slidenum">
              <a:rPr b="0" i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6"/>
          <p:cNvSpPr/>
          <p:nvPr/>
        </p:nvSpPr>
        <p:spPr>
          <a:xfrm>
            <a:off x="571680" y="1287360"/>
            <a:ext cx="8572320" cy="10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奥巴马教你职场必须要学会的十种话</a:t>
            </a: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000" y="437760"/>
            <a:ext cx="710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9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、神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Picture 2" descr="http://obamamedia.files.wordpress.com/2008/02/obama-5-1024.png"/>
          <p:cNvPicPr/>
          <p:nvPr/>
        </p:nvPicPr>
        <p:blipFill>
          <a:blip r:embed="rId2"/>
          <a:srcRect l="0" t="3127" r="0" b="16667"/>
          <a:stretch/>
        </p:blipFill>
        <p:spPr>
          <a:xfrm>
            <a:off x="0" y="1357200"/>
            <a:ext cx="9144000" cy="5500800"/>
          </a:xfrm>
          <a:prstGeom prst="rect">
            <a:avLst/>
          </a:prstGeom>
          <a:ln w="0">
            <a:noFill/>
          </a:ln>
        </p:spPr>
      </p:pic>
      <p:sp>
        <p:nvSpPr>
          <p:cNvPr id="103" name="矩形 4"/>
          <p:cNvSpPr/>
          <p:nvPr/>
        </p:nvSpPr>
        <p:spPr>
          <a:xfrm>
            <a:off x="1285920" y="1500120"/>
            <a:ext cx="242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建设无核世界！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000" y="437760"/>
            <a:ext cx="710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、不说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Picture 4" descr="http://blogs.wvgazette.com/watchdog/files/2009/03/obama.jpeg"/>
          <p:cNvPicPr/>
          <p:nvPr/>
        </p:nvPicPr>
        <p:blipFill>
          <a:blip r:embed="rId2"/>
          <a:stretch/>
        </p:blipFill>
        <p:spPr>
          <a:xfrm>
            <a:off x="0" y="1357200"/>
            <a:ext cx="9144000" cy="5500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11111"/>
                </a:solidFill>
                <a:latin typeface="Arial"/>
              </a:rPr>
              <a:t>使用规范说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0000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0000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8" descr="Barack Obama arrives on stage during his election night rally in Chicago"/>
          <p:cNvPicPr/>
          <p:nvPr/>
        </p:nvPicPr>
        <p:blipFill>
          <a:blip r:embed="rId2"/>
          <a:stretch/>
        </p:blipFill>
        <p:spPr>
          <a:xfrm>
            <a:off x="0" y="1357200"/>
            <a:ext cx="9144000" cy="550080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000" y="437760"/>
            <a:ext cx="710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、假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矩形 7"/>
          <p:cNvSpPr/>
          <p:nvPr/>
        </p:nvSpPr>
        <p:spPr>
          <a:xfrm>
            <a:off x="0" y="2598840"/>
            <a:ext cx="542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华尔街必须变革。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http://graphics8.nytimes.com/images/2008/08/18/us/19obama_600.jpg"/>
          <p:cNvPicPr/>
          <p:nvPr/>
        </p:nvPicPr>
        <p:blipFill>
          <a:blip r:embed="rId2"/>
          <a:stretch/>
        </p:blipFill>
        <p:spPr>
          <a:xfrm>
            <a:off x="0" y="1700280"/>
            <a:ext cx="9144000" cy="48006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000" y="437760"/>
            <a:ext cx="710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、套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矩形 4"/>
          <p:cNvSpPr/>
          <p:nvPr/>
        </p:nvSpPr>
        <p:spPr>
          <a:xfrm>
            <a:off x="4286160" y="2143080"/>
            <a:ext cx="478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我感谢布什总统对我们国家的服务，以及他在这次权力更迭过程中表现出的大度与合作。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4" descr="http://inplacenews.files.wordpress.com/2008/08/obama-0161.jpg"/>
          <p:cNvPicPr/>
          <p:nvPr/>
        </p:nvPicPr>
        <p:blipFill>
          <a:blip r:embed="rId2"/>
          <a:stretch/>
        </p:blipFill>
        <p:spPr>
          <a:xfrm>
            <a:off x="0" y="1357200"/>
            <a:ext cx="9144000" cy="55008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000" y="437760"/>
            <a:ext cx="710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、空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矩形 3"/>
          <p:cNvSpPr/>
          <p:nvPr/>
        </p:nvSpPr>
        <p:spPr>
          <a:xfrm>
            <a:off x="0" y="250020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关于（关闭）关塔那摩（监狱），我们曾设立有明确的期限，这期限已经错过。我将不会给出一个确切的日期，因为这其中有许多事情将要依靠与国会的合作。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http://img.timeinc.net/time/daily/2009/0904/obama_charm_0403.jpg"/>
          <p:cNvPicPr/>
          <p:nvPr/>
        </p:nvPicPr>
        <p:blipFill>
          <a:blip r:embed="rId2"/>
          <a:srcRect l="0" t="0" r="8106" b="0"/>
          <a:stretch/>
        </p:blipFill>
        <p:spPr>
          <a:xfrm>
            <a:off x="0" y="1285920"/>
            <a:ext cx="9144000" cy="557208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000" y="437760"/>
            <a:ext cx="710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、反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矩形 4"/>
          <p:cNvSpPr/>
          <p:nvPr/>
        </p:nvSpPr>
        <p:spPr>
          <a:xfrm>
            <a:off x="571680" y="2714760"/>
            <a:ext cx="5072040" cy="45972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布什是个“好人”，但老做糟糕选择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http://blog.aapg.org/geodc/wp-content/uploads/2008/11/barack_obama_at_las_vegas_presidential_forum.jpg"/>
          <p:cNvPicPr/>
          <p:nvPr/>
        </p:nvPicPr>
        <p:blipFill>
          <a:blip r:embed="rId2"/>
          <a:stretch/>
        </p:blipFill>
        <p:spPr>
          <a:xfrm>
            <a:off x="0" y="1357200"/>
            <a:ext cx="9144000" cy="550080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000" y="437760"/>
            <a:ext cx="710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、废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矩形 4"/>
          <p:cNvSpPr/>
          <p:nvPr/>
        </p:nvSpPr>
        <p:spPr>
          <a:xfrm>
            <a:off x="0" y="1428840"/>
            <a:ext cx="5143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如果你走的道路正确</a:t>
            </a:r>
            <a:r>
              <a:rPr b="0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并坚持走下去</a:t>
            </a:r>
            <a:r>
              <a:rPr b="0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,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最终你会成功的</a:t>
            </a:r>
            <a:r>
              <a:rPr b="0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!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10" descr="http://static8.photo.sina.com.cn/bmiddle/61716bf2t75f4c2f275c7&amp;690"/>
          <p:cNvPicPr/>
          <p:nvPr/>
        </p:nvPicPr>
        <p:blipFill>
          <a:blip r:embed="rId2"/>
          <a:srcRect l="0" t="0" r="0" b="9881"/>
          <a:stretch/>
        </p:blipFill>
        <p:spPr>
          <a:xfrm>
            <a:off x="0" y="1357200"/>
            <a:ext cx="9144000" cy="55008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000" y="437760"/>
            <a:ext cx="710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、荤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矩形 3"/>
          <p:cNvSpPr/>
          <p:nvPr/>
        </p:nvSpPr>
        <p:spPr>
          <a:xfrm>
            <a:off x="1500120" y="1714680"/>
            <a:ext cx="421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我穿哪种内裤都好看。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000" y="437760"/>
            <a:ext cx="710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、真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" name="图片 6" descr="幻灯片1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000" y="437760"/>
            <a:ext cx="7103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、醉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Picture 2" descr="http://www.asksam.com/ebooks/obama-speeches/barack-Obama-Speeches.jpg"/>
          <p:cNvPicPr/>
          <p:nvPr/>
        </p:nvPicPr>
        <p:blipFill>
          <a:blip r:embed="rId2"/>
          <a:srcRect l="0" t="6067" r="0" b="0"/>
          <a:stretch/>
        </p:blipFill>
        <p:spPr>
          <a:xfrm>
            <a:off x="0" y="1357200"/>
            <a:ext cx="9144000" cy="5500800"/>
          </a:xfrm>
          <a:prstGeom prst="rect">
            <a:avLst/>
          </a:prstGeom>
          <a:ln w="0">
            <a:noFill/>
          </a:ln>
        </p:spPr>
      </p:pic>
      <p:sp>
        <p:nvSpPr>
          <p:cNvPr id="100" name="矩形 4"/>
          <p:cNvSpPr/>
          <p:nvPr/>
        </p:nvSpPr>
        <p:spPr>
          <a:xfrm>
            <a:off x="214200" y="1859040"/>
            <a:ext cx="5572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我们仍然是这个地球上最繁荣、最强大的国家。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我们有信心再次领导世界。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7T18:23:49Z</dcterms:created>
  <dc:creator>小田</dc:creator>
  <dc:description>Nordri设计工作室ppt模版发布供大家免费下载使用。版权为Nordri设计工作室所有。您可以自行使用、修改、复制本模版。转载、发表或以其它方式利用本模版上内容，如果您需更进一步的服务，请和我们联系。</dc:description>
  <cp:keywords>ppt幻灯设计/ppt模板设计</cp:keywords>
  <dc:language>en-US</dc:language>
  <cp:lastModifiedBy>a</cp:lastModifiedBy>
  <dcterms:modified xsi:type="dcterms:W3CDTF">2014-12-31T04:54:35Z</dcterms:modified>
  <cp:revision>1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