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6B8-3E6A-46F9-AC0E-C679FCC6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7D5-C096-4027-8810-138AC94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61483-2340-4D75-9B55-288BC9E8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0BCD9-E9AB-4EDC-B44C-57BF58A7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CF048-954C-426D-BBFE-9E1234F7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485C0-A42B-4F6E-9A2F-77FCBB28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EB8AC1-A17F-4247-9E4D-A46DD01B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E6F4C-B665-4B3D-A587-F2EFED8C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86A17-A768-49A2-B566-4CF5D93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0CFFA-E03A-47E0-8369-19E3724E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B61AA-C3BE-4011-9D49-94D95E80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10CE3E-F426-4500-A031-62640E91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3417-124C-46D3-8832-BBA916A8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47C3F-F428-4AFE-B9D9-CC4E5CED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843A2-E95F-4FBF-A788-3E97B02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DAAE5-8E61-4E13-B53D-2D114DDF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2A55E-E7E2-4322-B76E-CC91501C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49103-DAB7-499C-B264-3C897D6F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0E2E0-8589-4367-A705-A693A6F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73D41F-8FB1-470C-B531-C3521516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A2FCE-B93C-4493-AAD8-5E67A368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2436F-9F0B-48D7-9CA9-65E5CC49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D7A87-F627-44C3-BE28-F6C5DD0B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1CA-B9C0-4B95-8BFE-59E8B319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488AD-209E-4850-AD46-5A194C17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0D909-09B1-40BC-9FD9-BE45E3C6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213A5-B08B-48C0-AB12-BA7A531A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B2A8A-206E-4B4A-A6BB-F95099D5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C2FDD-ABC6-4F93-BB08-50C98E38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17C85-4ED0-4973-94C5-0B8247BC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3F00D-CEF0-4861-95AF-0CFBD6A8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FD287-D135-41D3-9E57-F61C413D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B6B37-4313-4582-BF29-2F6A6515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C55AD-102C-4D6B-AAFC-9BC06739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B96AD-A5DE-40A6-A2AB-C7A45C88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30658-F0F9-4139-A99F-2FF54C11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98211-A29E-4064-A7DF-00F3CBCE1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FAF0E-3E19-4E52-B30A-7DD1AD0B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8A3C3-F931-4E80-8A4E-30C76788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98A38-A288-4302-ACF0-B1F51280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A6A9F-620B-4D4F-8CEC-D9F5F779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A145E-E25B-4A0B-ABCA-88DEEA78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3EF39-DC22-4FEA-B16A-3BBBED7E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2B51E-3826-402E-8DEB-E06A9856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A2ACA-E48B-4F34-9DF8-EE913CBC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2A72-F012-4D70-A0AE-AAACBB86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D8D1D-F4C4-4A90-A0B8-071B4700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FD6867-0DFE-453C-8BF1-D81475CC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D2C03-4C8A-4FCF-BC0C-944C8BBE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5AADE-4D20-4C6F-AFBA-78A04DA5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8A4CE-95B7-4E97-96B7-1DC6C63A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AA010-0DDF-4CD6-A5FB-3A5E42CB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10D64-EAA2-4470-947E-73552A63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0D287-75C0-40A9-ACC1-A27F9E42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2EC5F9-A1FA-4AED-BF8C-F79D2958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F80A8-4829-4289-9301-5BC73F3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DF94-3353-4B71-9763-302CB7EE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34CDF-8112-49A2-AEF6-85A71F2D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EB3C79-7159-48C2-B6E8-EAAA8038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E969F-1789-44D2-AB12-A8E60307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5B1FE-AAAC-4166-8E4B-F2CF4CCA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B17A94-B3E0-4329-87E3-48C43D24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DD12E-4749-431C-A68E-C67DA947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B06B9-8B44-42AE-8317-2A3CB5B7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8A833-5941-44D1-A1DE-15D622C7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EBA19-D3D7-4F91-A327-523253FA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8A008-751E-4B2B-AE5E-2BDA7B92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821B-4156-4479-925B-76DE8E71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4C34B3-BDE0-44F2-976C-3AB661D4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79071-BF10-4797-82A8-7F716A0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1806F-7AA0-4ED6-86D7-72B206A9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6A8B5-CED5-4731-8462-15585C2E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F225B5-726A-49E0-B48D-A9BD3AF6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E0912-26F3-4513-83B3-3E046293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AA98C-0F2D-494D-9151-917B4FD7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4CD1B-A514-4C7E-9F15-9C79739A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317DCF-D047-4503-8088-0AA4A0EC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5F54-C8AE-4C7A-9769-14EE964C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18D7-C402-407F-A6AA-510479CA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270F-A118-47D9-A04F-AF1E2EE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5F8-2729-44D1-BA14-32F78172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ABBC-3757-469B-BBB4-7FCF12BB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F41E-177D-4DDC-A8EC-46253BB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BFEC-A37E-4C06-89D2-3E84945D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339B-9EA9-4F62-8D90-5FC02607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F53C-9815-4013-B2E8-70C56D58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7ED2E-3860-4C6B-B96A-1E63F867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E170-E113-44E0-9395-900A10B6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38BCD-ED8F-4ACC-B2AB-67086A43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9AAC2-EDC6-4F4D-954C-A8E685F5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C7D0E-D02B-4FE2-8834-5953F11F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AB4-B4E1-4C50-9CDC-D8E8D5AD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E72A5-7669-444C-AC0E-DFFF2BDF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BBF7-2BBD-472E-8AC1-0402137D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B4CA-EC32-46C1-980A-8E991E03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6140-1376-4055-85C7-3679A6EB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F87F7-0E43-4DE7-B8DB-22BE825C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FF42-BC33-4153-8DCC-1C89D0D7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92D71-C986-4764-832C-1FCBB5024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98262-C0F6-4FE3-84F8-4C125A4E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7D75-6544-4697-8240-555D2904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B0271-7685-4D33-8E82-416E50AC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33E-FA28-484A-8174-A4834379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DB7E0-113B-4B95-8780-7825A4A8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8BE2-40A0-49A8-AA89-9E74A164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9B44-37CD-4023-8529-7D6F1576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F7BED-E1CE-4D16-8970-C48C6DFB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1918-5A97-4316-88A1-7159A392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D9787-85E5-4A10-B053-B7F7F6A7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63BAD-9D37-4C68-B3D7-D831F03A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EB09D-38A6-43C2-812A-B1CEDA06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C220-B237-45DC-883D-283E57B76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A54ED-1C9E-4EE6-9BB3-CA7C74B41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6F4-F926-4E81-8F7F-D2F1E0EB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CF6D-245F-4F97-8FD8-055BEEFF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B0DE3-E222-41D5-9209-56F11326C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9CC01-C7AC-44ED-A083-22A0DEF9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4D203-44DA-4CF6-A4C3-E9196D31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37E71-24B6-4BF6-AD56-265DB963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E4031-902D-4BFA-9B58-C55DDEFD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B8761-6A63-40FC-8135-A70DFB1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6E83C-0DE2-4AC7-85E2-30F618E4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945C-CDB0-4CDB-98D9-455E9EFE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2E1E7-622A-463E-9E3C-565CA3922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039-FBA3-4276-B558-4081882D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2CB01-BAE5-4B29-A808-0044B54F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DF2C9-D97D-441F-858F-C153AC79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BEFA4-D7FD-4141-ABA3-3A5144B1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1C3A1-FD86-423B-BBEA-59B91E16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8355A-B5A1-4D73-B0C9-04002D47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A931-7CF3-4DAC-8D14-D5E004F6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22AC4-DA3B-470C-BF20-7E18448F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0BC05-387E-4E70-B9E3-2A23082A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2B6D9-9836-448C-9806-C6C92ABB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7993E-0F4D-4627-A997-83028409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2B1-A04E-4A66-8C4C-0543B8F2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1796A-87AD-4614-A248-A86DBC19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E7839-2201-46E3-A08E-1FB4D2F1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03FA2-C290-43FD-B13D-8E622756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6240A-BBC9-4C56-8CE6-92BC7CCA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CF9C6-6830-420A-93A0-8BDC2604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1B609-FE79-4383-B5A1-1C86C915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5EECE-F9A7-4F52-9A17-79864AEBD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B9C0F-4DD9-4126-8756-E804C1B2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F6567-0073-40EC-9504-52A9C6D89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57276-0769-4C6A-95AF-E73D21DA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DA1-98A8-4EF1-A8BA-B5BEFE46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F37DE-F919-4027-9D8A-5BBF8FD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9C598-4735-484E-83B1-040460EB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E1F5B-E323-4ED8-B88B-5F4DCD3E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93F55-F427-4850-82D8-AA7131AC3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BF11-C45F-4950-A30F-8769D89F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D9FBA-9CF4-4A87-A688-7CA065331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E4684-7623-4D7F-94CB-E0C685E3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95690-F84B-4D38-AD0D-AECFF8C1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FAAA0-354D-4CB1-AC65-6E2A1ECA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95166-1DEA-4C66-BDEA-E054B890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DEFC-C71A-434A-B839-B03D6E33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C5935-46B0-4B39-A581-35369005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9CC42-2D02-460C-8C61-9D498F85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686D5-8240-4A1D-B4EC-7C7A555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DD095-0E3C-446E-88B9-32F8A63C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02DFF-A5F1-4B1A-879F-76B8B65E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F9738-0DF1-4BD6-BE64-A49F1F5C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DA7CA-4DF4-4A89-8198-606FDE9E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4FE3D-B75A-4C4D-9697-2CA72A87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3F994-8F4E-4529-BE76-C911AD51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28C00-A380-44CE-AAA5-CAF8AE45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BC58-8474-422A-90E3-B87D09D3FE5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DA50-C968-44E5-9C73-8CDCA6FB89B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D41C-E860-443A-BA67-9391F47437A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F55F-CD11-45C1-B1A1-08C7CD7D994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EC6B-16C7-47F7-A385-DDFAEF6278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57F2-BB76-420E-B5B5-80A253CA38E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1AAD-1BDC-4DB8-9DB4-67F170B917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1C4E-FCFF-4EC7-84E3-D340B0148E3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DE89-686E-4294-BD8B-F52E8ABE74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2424-D900-4D0A-BA06-6E2E1BB8043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8BE6-5797-42AD-BAC2-10616CEFD55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41C6-D1F3-43AF-BF72-E5A2247414E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95FE-99B4-41A0-AC3D-C2619F836B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6"/>
          <p:cNvSpPr/>
          <p:nvPr/>
        </p:nvSpPr>
        <p:spPr>
          <a:xfrm>
            <a:off x="304920" y="609480"/>
            <a:ext cx="853416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Rounded MT Bold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AD8-A386-4640-9843-093327EE4170}" type="slidenum">
              <a:rPr b="0" lang="en-US" sz="1400" spc="-1" strike="noStrike">
                <a:solidFill>
                  <a:srgbClr val="ffffff"/>
                </a:solidFill>
                <a:latin typeface="Arial Rounded MT Bold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F91-D30E-47E0-92BE-63261C728EF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D9F2-BA2D-4393-8E5F-333B73CBFF7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DC31-325C-4B79-BB90-E6DA647AAEC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FBD1-A7B8-45B8-994C-101FF59CCD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3786-69AB-4123-A204-94790C85062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98DE-971C-4666-89EA-4F21A37943C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082D-DADC-4AAF-8153-82F6593E7799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569C-75E1-4A7A-A92A-B2FF6C4979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53CC-2EF9-4D4F-BBFA-98F7B1E219B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15A-3800-4D2B-8538-9B306B9554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5276D-39E3-48A3-A259-4F1E9AD0DEE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76C1-461F-45E9-BA08-784C95B62B5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AutoShape 2"/>
          <p:cNvSpPr/>
          <p:nvPr/>
        </p:nvSpPr>
        <p:spPr>
          <a:xfrm>
            <a:off x="228600" y="609480"/>
            <a:ext cx="868680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职场达人动画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动态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2"/>
          <p:cNvSpPr/>
          <p:nvPr/>
        </p:nvSpPr>
        <p:spPr>
          <a:xfrm>
            <a:off x="-604800" y="609480"/>
            <a:ext cx="9367920" cy="1143000"/>
          </a:xfrm>
          <a:prstGeom prst="roundRect">
            <a:avLst>
              <a:gd name="adj" fmla="val 50000"/>
            </a:avLst>
          </a:prstGeom>
          <a:solidFill>
            <a:srgbClr val="003399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-604800" y="609480"/>
            <a:ext cx="9367920" cy="1143000"/>
          </a:xfrm>
          <a:prstGeom prst="roundRect">
            <a:avLst>
              <a:gd name="adj" fmla="val 50000"/>
            </a:avLst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5:53:19Z</dcterms:created>
  <dc:creator/>
  <dc:description/>
  <dc:language>en-US</dc:language>
  <cp:lastModifiedBy>a</cp:lastModifiedBy>
  <dcterms:modified xsi:type="dcterms:W3CDTF">2014-12-31T04:55:10Z</dcterms:modified>
  <cp:revision>4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