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5F0B-74D3-481D-ABEE-29617320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E3D4-B5A6-4A1D-9D52-0490ED7F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9365-30AA-4A8D-99B5-FAB1B52F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B4BC-A2CE-4E47-838C-4FC456EF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6CA4-C95E-4AEE-9B8F-95316CCF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E3E5-501E-468E-99ED-94D0BC6E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E9EE-94DE-4FAF-9011-3F0D78F9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2AB8-DE7E-4390-B223-33753104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73F5-A5BA-4DFD-B849-E6BB0CC8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4C8D-746A-4B68-87C3-DD097EAD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6B1C-32E6-48CF-BB51-1FCC23BD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F072-3498-4A71-A5D7-7946B99BD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9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9366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93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87da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9366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9366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b66d4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9366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9366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9366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D8DA-716A-4408-823B-227B89BC557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D46A-F760-438B-8072-25F5EB11DE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9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9366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93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87da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9366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9366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b66d4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9366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9366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9366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403812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7dd21"/>
                </a:solidFill>
                <a:latin typeface="Verdana"/>
              </a:rPr>
              <a:t>烛灯</a:t>
            </a:r>
            <a:r>
              <a:rPr b="1" lang="zh-CN" sz="4000" spc="-1" strike="noStrike">
                <a:solidFill>
                  <a:srgbClr val="c7dd21"/>
                </a:solidFill>
                <a:latin typeface="Verdana"/>
              </a:rPr>
              <a:t>ppt</a:t>
            </a:r>
            <a:r>
              <a:rPr b="1" lang="zh-CN" sz="4000" spc="-1" strike="noStrike">
                <a:solidFill>
                  <a:srgbClr val="c7dd21"/>
                </a:solidFill>
                <a:latin typeface="Verdana"/>
              </a:rPr>
              <a:t>模板</a:t>
            </a:r>
            <a:endParaRPr b="1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209680" y="53341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c7dd2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419366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2e4f56"/>
                </a:solidFill>
                <a:latin typeface="Arial"/>
              </a:endParaRPr>
            </a:p>
          </p:txBody>
        </p:sp>
        <p:pic>
          <p:nvPicPr>
            <p:cNvPr id="12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2e4f5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7T22:48:35Z</dcterms:created>
  <dc:creator>Administrator</dc:creator>
  <dc:description/>
  <dc:language>en-US</dc:language>
  <cp:lastModifiedBy>a</cp:lastModifiedBy>
  <dcterms:modified xsi:type="dcterms:W3CDTF">2014-12-15T17:56:53Z</dcterms:modified>
  <cp:revision>1</cp:revision>
  <dc:subject/>
  <dc:title>潮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