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A9F-FD8C-4581-A1B4-4EE7C43C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5B1-4C7F-4064-B123-8BBE54A8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34DCD-868A-4F32-9E80-C35D2A79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62B28-24CB-408E-A635-F2B50494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F9454-3215-47C5-9D40-F9FE19F2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A1DD9-BF60-4EC1-A2D0-2244640A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32AC3-33BF-456C-835A-BFBE1328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4D821-802C-45D2-88AB-745A994E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1AE24-7FAE-4F31-8714-6BF1A9F4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481F3-ADD3-476C-8E6E-A4C23971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CBA23-240E-4856-B97A-0A401782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B3010-433A-40AB-9960-1A60A618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881-05F0-4E52-94E3-D5D19914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52A1E-B0C5-4A41-8108-E8921741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A8715-E8B2-47FE-88ED-0538C65A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8798A-AC9D-4476-99E5-57DA246D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C9CBA-6A28-463B-B072-BE53A12A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9C10A-3E3A-4A01-BB76-ED2D6251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72764-F4C1-48B0-8449-3CA95844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E188D-B3AD-413F-9CDC-4B81CDC9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DB6AB-0921-49DE-97E6-7AA63782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0F7DC-1419-4D50-85DC-0B08C890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20661-E7D4-4399-B5D9-B6680D15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63A-B4D0-4A84-84CC-2DA58E25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C9781-C31D-495F-80AF-8A265289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D82A68-AAF1-43B8-9485-F4B654FA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BC470C-69EA-4CFE-B3CD-5F4099CB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220761-57B0-4DE4-85F6-0282DC3D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621A7A-4DEE-429F-89D4-681B5FE5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4D7221-FC23-4BC0-8489-6F520689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DD8E70-9364-4C9B-AF1D-D3C63454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50F931-7A53-4D8B-AB04-CD5C1C92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15206C-5937-4498-9F63-D864AFEE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D4CF7E-15AA-4268-905C-202D1DD7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C03F-9FBF-46D8-971E-B53E4EAD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C65653-7FFA-4489-A155-643FCB54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7E49E3-1BC4-48B3-AE76-35325A99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363728-15B4-4B31-B744-7688597E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1C852-6727-492D-8F6B-07FC47B8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25528-73D9-4011-8000-0B7F59A8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97138-0EA7-4455-8CD6-C4DBC946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70FC0-97A5-481A-B409-E9D89EA9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DD204-1E28-4C81-B50F-EAD1A9E0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50904-0C36-4B08-B0E5-64B9477E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3522C-2A6B-4C9D-A5AE-11B2D50F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7E76-EC7B-4817-8B55-CC7944D9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B60FB-598B-4F04-939C-DC870E42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C1244-AA56-4F9C-BF6F-E92EADCF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C894E-5A33-4A7F-9F01-8F744E36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7C603-58FD-4111-814F-F599BCD9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70B73-FDAA-434E-B136-BFA2C0D9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0E7F21-D4D6-4F40-B4DD-624E9B55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05DA18-B5D6-4A54-9A97-5DD7E111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BD39A2-1D9A-4D14-BE42-4201585B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B2B62E-C231-4BC6-9351-251224A3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D529BC-E919-4BA0-874C-3C4C04CA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59A2-6B66-4564-A2B2-F8FD8F1D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BFC219-0568-4757-9F7E-34C7B17A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8DE7EC-3C2F-4573-AB22-E1BB2587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A5143A-81FB-491B-A62E-2423164B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957C16-ABB2-4319-850A-8D2A63CA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5E3E43-6204-476D-9D52-983E39AB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80DF78-E9FE-45A5-97C5-08BEFDE9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0CF2F9-7F50-4E55-AF1D-E0B36339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EF8A8C-7360-440E-B9B4-6160DC38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BFEBE7-46A4-442B-BB05-374E434B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5A3246-53FD-4B00-AD9C-DE5A7D62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1F5A-D7B1-4F84-B363-F0AFD750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56F200-0DB7-43B1-B536-33CB7C83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C11A37-223C-45A5-B1CE-BDF17F4F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E9710C-2E4F-4F81-BD09-9A1EE856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EDD9CD-BE91-46AF-9334-08B4E068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B71ED7-77ED-4947-B113-D4610CA8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55E80D-D725-4C01-8580-1028B69B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1DED1EA-D15A-4BAC-87E1-7C71FB6C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851888-84C8-4267-A83C-E7708C81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D70A38-262A-4FB5-A9FB-5B3E14AD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89D62C-8A6A-4F23-B98E-933FE60D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0B08-59BD-4C06-88B7-119350DE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B87784-820B-4329-884E-FA9B3BB0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1B6377-3D13-4A17-B135-B6920D10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0C81F8C-2236-426C-B881-AE104251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EFAB27-F80D-4FEF-B948-E93CCDE3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AB03E0-673F-4B9E-B6ED-3DD650D0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B110CB0-24FD-4713-9F41-B13FA20D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4F6620-EFA4-4237-BD0F-EC00B52F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DD5A31-CC5A-40D2-80B9-12ABA5BE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D06700-26E6-4595-A713-B8DF5071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6F812B-ECD4-4053-A3FE-A69315D4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F33B-4053-4A5E-A4F3-0E4A2283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538AE5-907B-4037-84FE-4B883F20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E56B863-4987-4A02-BEB7-4025B99C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E46CFE-BED8-4994-B6F2-5063A68C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5EAA34-5F56-46F2-A3F3-92093281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6DF69A-D901-4478-9807-5B11314B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610E8CB-1F76-4064-B3F3-7016DAFC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1E14D5-45CF-4D9D-9DA7-FAE57EF4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D6EEF0-852D-4201-9C44-314C6C3F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4B831CF-BCB0-40AE-8723-8A5DB536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46F90E-95EE-40CD-B8F1-5E8DFAC9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E83F-8092-44A2-A19C-EEBAC2D9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3684D1-A575-40AB-BD1D-FB1B682D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614ACD-13DD-47E9-A432-030F67A8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B2A23A-910B-4B25-AFA3-730DD217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856-34D8-406C-967E-0566B2C0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63BB-F952-4EF9-9DE9-47DC527E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80C8-8EA9-4983-BB9B-CE9302E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170F-43BB-4B72-A2AF-3D880B87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C249-9106-48E9-ADD4-4F79ADE8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F2FE-4FD7-4B4C-BAEA-03881E0C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A467-060E-41E0-A301-CE476FE5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FD73F-FCA4-410B-9BD9-88897C2F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8E8B3-47FD-49D0-94B2-8AB0BC83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8A57-810D-453B-984F-F1C32D1C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E93A4-0C6F-4F4D-8C8E-C2EC2ABC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D14-7885-4170-9BB8-839F49D0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8B8CD-C601-4AE2-82FE-710CB531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5593-F39B-4B85-824B-187375B6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F0C1-2C6E-457D-BE0A-C2F4D754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71AD-6A35-4083-9A91-DBA10C01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51EA3-634C-49D9-A825-00823E97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1421-3161-44B5-9B8E-4D28B08B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8FEE-53DD-4FD0-8D73-BF8AAB38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C7261-BBFA-441C-8E59-DC2F0AAB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23CCD-51F7-4811-B866-09CA46D2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8412F-9494-4F35-895B-511B49FE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3D6-28F9-44DC-B632-4256F1D6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DFA19-6345-4062-9A81-7106B5E8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2012D-38A4-4945-B05E-47CC08E4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C1DEB-F439-4D02-B120-381192E0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28FE6-D2A1-4CCC-927B-F2856D26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737A-86E5-4D58-974A-9C7465DD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E693A-17E7-4572-918A-F4860DFA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C086F-C872-4D9B-992E-C0459FA2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8384A-06BB-4506-9C6C-8ECA896D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E53F-8FAF-4135-BDB8-FDA4472B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757-C92C-453A-9128-7ED601EA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243-27BC-4D24-939D-93605A6C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FA2C12-2677-4E3D-8003-85360657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61A96A-0FCA-46D9-A904-833B0C97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5EB6B4-092D-43E6-BAB7-590FE038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BBA712-51EE-47D4-8FBA-113921CC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84AE53-49E9-43C2-80A2-7B6E0DF6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C83BF4-BA94-4AB1-8576-27333510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3C3F3C-B193-4C7A-B94E-4C31C8AC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FCBB7B-B256-4493-B9D7-42CE3739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9D6F32-58F3-49E7-B52C-55A741A6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94B-4362-43F7-BACE-92468D50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CA4D98-B61E-43B6-8B7A-611F1E48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AF684E-E476-407B-A7B3-25514921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FC8807-FCDA-464E-9905-2F0997F3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F32626-6407-4FF7-A93C-537668AC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953412-75CE-4788-8144-372C345B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F409D8-D549-4482-911D-183E9648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705F33-C854-466D-82BE-4DCC1C84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D02A33-CC79-4CFB-BCD2-EF79FED2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B815A1-5001-4F79-B091-E5E44C7B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584C33-7647-4DEC-A955-413612A8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978-F5FE-4825-A4EF-5E7EF9B0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F4B362-FC30-48B0-A88C-025900CB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029CC6-22CE-4622-93F1-9DC3DF13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06B988-3D6C-4637-9D09-E37A6716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755540-9A1C-44CF-A8ED-5883B451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91A856-E4DF-49DD-9F60-B3B51ECC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1BEA5A-DB8F-4C01-8444-36397492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4FE50B-3A88-41CE-B0D3-BA0B093D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317274-31A5-437E-9DD1-41A50F1E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41CEF7-D95C-4939-87DB-87ABF6DE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18F3F0-0F05-4B7A-8E85-C3D1A14B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BE8-BE99-45EE-A01A-B968CD4F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E31E0F-6F09-4555-B324-265CC84E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B810CA-865C-4CE8-A730-0DB7145F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BA415A-9EEF-4B61-8D92-AC30EE2C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366D94-E0E5-4EB6-A238-14DFB53F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BF772B-EF2F-4DE7-958B-8F0D614A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868B4A-E336-47D2-B6FB-B5EC1341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FF2359-7E26-4367-8350-079AA58A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E7FF9-A51E-41BF-85F0-50D0D130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D2E56-12D3-46CF-A966-38EC8E13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D5EA4-497D-453F-AE9C-FD5E957C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7714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0713-D84F-472B-9A30-71A7A440E3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C398-60F2-47B2-B17D-8476BF49CC69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6D9E-3F6E-44D3-A409-4B436434893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ED03-A911-4C3F-9057-4E7D02611B5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36BB-2BBF-4AA8-8BEE-2238EAFD70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B39D-6B05-49AD-BC2C-76776B2DB805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AB51-7741-4879-8A16-0198496F40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D3FC-74B6-4FCE-8297-6572EA326ACF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23FC-9883-404B-A3B9-F32CF1A889D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A544-F929-4473-A169-98B28BF01E6C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E3E5-3D08-4DE5-A6A5-A766296482B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54A9-DE51-461C-9B22-032824DE2462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7BEE-BEA5-4D55-8F3E-073DF229874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195D-AF68-42E7-BE63-ECE569FF935C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346E-6912-4DBE-B700-196BACCBDF5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23840"/>
            <a:ext cx="7931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720" y="915840"/>
            <a:ext cx="793116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646E-A146-4035-BC85-2F161B6AA5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6560" y="9158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49B7-1A50-485C-81B8-F6FD11090F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D976-5B47-4C6C-AE3B-ABB842C82CE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B6F8-EEE6-4DC7-826E-DFD26F4F720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66560" y="7714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020000" y="4876560"/>
            <a:ext cx="21333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4A99-556A-4F01-871C-6677939A2BB7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1B3E-9E0E-48D7-B324-9F87AB27F2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F0B9-7CDB-4612-A483-5010F1A7FD44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001D-C0AF-4008-9091-96F0FCDF7D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1633-D02E-4570-BACA-A44D527B81A7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1F7C-431D-4EF8-9793-06F1DB1B49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1C12-16AB-4878-B941-11782E054104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8511-2964-4F16-AF48-39C95859D7E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24000" y="3652560"/>
            <a:ext cx="597672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324000" y="4373640"/>
            <a:ext cx="4176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66560" y="9158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66560" y="7714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931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56720" y="915840"/>
            <a:ext cx="793116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55640" y="4444560"/>
            <a:ext cx="446580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Arial"/>
              </a:rPr>
              <a:t>谢谢欣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66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4:03:26Z</dcterms:created>
  <dc:creator/>
  <dc:description/>
  <cp:keywords/>
  <dc:language>en-US</dc:language>
  <cp:lastModifiedBy>a</cp:lastModifiedBy>
  <dcterms:modified xsi:type="dcterms:W3CDTF">2014-05-26T01:17:35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