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BA0-99D8-4C13-A698-A9B8245E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36F-34A0-4E2A-84D0-B530F03F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95D-8880-4B12-9FFD-E2AE09FB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05F-B4D5-45D1-9E0B-B51F8BE4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A42A-666F-4C89-A325-4F5F807D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450-55AC-4AA2-9EE4-9A68181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DAAF-A1D8-42F0-902F-89C8141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90D-64F9-4AC3-BD2F-3A25B97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E197-A168-4054-AA14-B558DA02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58B5-DBBA-4E52-BE1A-C3AFEF9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AD9-FBB3-4E06-B1ED-764D7A5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5A2-91C8-47CA-8C1F-E6D3C082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0561-1F03-451C-A291-BECF40C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4FDE-1631-44B9-AE1B-31EFFE8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B9F2-AF9B-4CC7-ADE8-452A99D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A2B-23C3-4E0F-A1F8-138E9886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3E4-73F1-4A6E-8244-425C41A9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8FF1-400E-4900-A435-3AAA3359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522A-6AAD-43F3-8F83-2008922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4194-9646-4CA7-8103-6159A84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DBC6-D88E-48CD-B2F3-A487D93E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A16E-6A57-472A-888A-AC5A467A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8E8-CB5F-4531-9350-948A9DD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B3F6-0A65-45A6-97DC-A7D2026A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DEE4-D9F6-4B3E-BD3B-3EF426A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CDA2-0EFB-4398-A462-4B58838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8015-5ABE-4232-AE17-33D81BD9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B80C-A566-48AD-9D48-8CB33E0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216F-4DD4-4E36-91CC-CBFB7D64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2FB7-FA6A-4F6B-9450-FC4DB6FC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AD5-59D2-4357-BC5E-D1E2B7F9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234-8B4C-4D98-9590-5EC61B30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F71-3BCD-447D-8531-EA4FA762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382-7CBE-4C75-928C-B30A28A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019-61CC-4379-A9A4-47FFE83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5A5-9568-48FF-8E1C-1AD74DB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5E2-D4F9-47A1-AE30-C7514B51D89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7A63-4EFA-4AFE-9F0B-2B0F2621C0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D88D-6D0E-4AAB-B8DC-D8E4ED7F34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3BC-035B-457A-8290-DFFADBED7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中国风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目录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过度-01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neirong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ZUIH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未标题-2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2T01:41:24Z</dcterms:modified>
  <cp:revision>1</cp:revision>
  <dc:subject/>
  <dc:title>PowerPoint 演示文稿</dc:title>
</cp:coreProperties>
</file>