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7.jpeg" ContentType="image/jpe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8A0C-9CC8-4EA7-A476-CC4CCF7B6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CD79-48F4-4319-9A95-A0F011A72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56F8-253A-48AA-96D5-D7C64A798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1017-65C8-482E-BCD6-AB20B2B9F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6B23D-FB5F-4C7D-A653-4D4287CE5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7039C-4BC4-45B1-8804-DFD17C35E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067A7-2B7F-43A2-83C9-410E00859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6700E-BB4D-4E0A-8679-DD8E8EE27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80D61-A8E8-4A55-AE61-DCD254D7F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A4D4E-A64B-4D34-9347-C66523439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72D11-A126-4538-B9FC-402E1A723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859E-27C4-4ABB-92A8-19A0834CC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CAB8B-5827-4BA4-AF0D-41B17736A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22FAF-B7A3-439C-BE10-8012822CB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D6F97-23BF-4F2C-8E03-A18436000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3470A-6A82-4CEC-88BB-3044F763F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8EC8D-39F1-495B-B6B5-789F789E5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0AF500-43AA-425C-9274-CC030E455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514389-F250-4BC0-9CAC-523B2C08E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F1A545-4575-4648-BE71-10E6A6517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8FB0A4-1A4F-4203-94E6-BE66844EA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8103CD-7124-4BE0-9F63-39011205F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8DE6-A69D-432F-8A3B-A089E32D9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BD9A08-1211-46A2-820A-874678F1F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C3D467-76AC-46A6-97FA-E80E477D7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944639-E8FD-4C86-B102-7B1BBBA01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76936B-1520-4201-9401-C90D340FC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727DD7-B6AA-49BD-A679-42984B512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588297-EEB4-439D-B697-E79F6B009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C9ABB4-3756-4E1E-98B6-E9F6ECB8B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F2DE-20B4-4B20-BFCE-B3C7AD101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060C-4517-440A-86AB-079C1A049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B416-BA40-44F6-95E1-ECEA70A54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0BAE-3E94-4C69-983C-25FF968D6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E98B-A7EC-4023-9609-E932297B7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4F25-3DA4-4596-91D4-891698B00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6440F-CA52-4E13-81BB-A14194973E29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59A2A-7A86-4C8E-BC79-73A788CD76BD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BFBC5-E1AE-4407-8BA2-EED6FFF2831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A9169-4830-4A99-89D1-2BFA71B0865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934f06046b1e378e75a629ce65b1d146."/>
          <p:cNvPicPr/>
          <p:nvPr/>
        </p:nvPicPr>
        <p:blipFill>
          <a:blip r:embed="rId1"/>
          <a:stretch/>
        </p:blipFill>
        <p:spPr>
          <a:xfrm>
            <a:off x="-31680" y="-17640"/>
            <a:ext cx="9212040" cy="684864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3"/>
          <p:cNvSpPr/>
          <p:nvPr/>
        </p:nvSpPr>
        <p:spPr>
          <a:xfrm>
            <a:off x="6610320" y="822240"/>
            <a:ext cx="1851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6878520" y="824040"/>
            <a:ext cx="18082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Arial"/>
                <a:ea typeface="方正大黑繁体"/>
              </a:rPr>
              <a:t>中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Arial"/>
                <a:ea typeface="方正大黑繁体"/>
              </a:rPr>
              <a:t>国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Arial"/>
                <a:ea typeface="方正大黑繁体"/>
              </a:rPr>
              <a:t>历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Arial"/>
                <a:ea typeface="方正大黑繁体"/>
              </a:rPr>
              <a:t>史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1938240" y="790560"/>
            <a:ext cx="5658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第一单元 侵略与反抗……………………………………………………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第二单元 近代化的探索…………………………………………………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第三单元 新民主主义革命的兴起………………………………………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第四单元 中华民族的抗日战争…………………………………………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第五单元 人民解放战争的胜利…………………………………………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9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第六单元 经济和社会生活………………………………………………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第七单元 科学技术与思想文化…………………………………………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课 科学技术与思想文化中国历史大事年表（近代部分）…………………………………………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3"/>
          <p:cNvSpPr/>
          <p:nvPr/>
        </p:nvSpPr>
        <p:spPr>
          <a:xfrm flipH="1">
            <a:off x="7884360" y="25560"/>
            <a:ext cx="1258920" cy="678816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8101080" y="1197000"/>
            <a:ext cx="7603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微软雅黑"/>
              </a:rPr>
              <a:t>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微软雅黑"/>
              </a:rPr>
              <a:t>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5" descr="未标题-2"/>
          <p:cNvPicPr/>
          <p:nvPr/>
        </p:nvPicPr>
        <p:blipFill>
          <a:blip r:embed="rId1"/>
          <a:stretch/>
        </p:blipFill>
        <p:spPr>
          <a:xfrm>
            <a:off x="-2114640" y="-1889280"/>
            <a:ext cx="4164120" cy="1071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1692360" y="2708280"/>
            <a:ext cx="583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7200" spc="-1" strike="noStrike">
                <a:solidFill>
                  <a:srgbClr val="003366"/>
                </a:solidFill>
                <a:latin typeface="黑体"/>
                <a:ea typeface="黑体"/>
              </a:rPr>
              <a:t> </a:t>
            </a:r>
            <a:r>
              <a:rPr b="1" i="1" lang="zh-CN" sz="7200" spc="-1" strike="noStrike">
                <a:solidFill>
                  <a:srgbClr val="003366"/>
                </a:solidFill>
                <a:latin typeface="黑体"/>
                <a:ea typeface="黑体"/>
              </a:rPr>
              <a:t>侵略与反抗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395280" y="404640"/>
            <a:ext cx="2592360" cy="140832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395280" y="658800"/>
            <a:ext cx="2708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黑体"/>
              </a:rPr>
              <a:t>第一单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5" descr="未标题-1"/>
          <p:cNvPicPr/>
          <p:nvPr/>
        </p:nvPicPr>
        <p:blipFill>
          <a:blip r:embed="rId1"/>
          <a:srcRect l="0" t="0" r="28855" b="30556"/>
          <a:stretch/>
        </p:blipFill>
        <p:spPr>
          <a:xfrm>
            <a:off x="5730840" y="2133720"/>
            <a:ext cx="344952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未标题-1"/>
          <p:cNvPicPr/>
          <p:nvPr/>
        </p:nvPicPr>
        <p:blipFill>
          <a:blip r:embed="rId1"/>
          <a:stretch/>
        </p:blipFill>
        <p:spPr>
          <a:xfrm>
            <a:off x="2268360" y="765000"/>
            <a:ext cx="4392720" cy="621360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3"/>
          <p:cNvSpPr/>
          <p:nvPr/>
        </p:nvSpPr>
        <p:spPr>
          <a:xfrm>
            <a:off x="0" y="260280"/>
            <a:ext cx="9144000" cy="50472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撒"/>
          <p:cNvPicPr/>
          <p:nvPr/>
        </p:nvPicPr>
        <p:blipFill>
          <a:blip r:embed="rId2"/>
          <a:srcRect l="52143" t="0" r="0" b="0"/>
          <a:stretch/>
        </p:blipFill>
        <p:spPr>
          <a:xfrm>
            <a:off x="-42840" y="260280"/>
            <a:ext cx="2311200" cy="68580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撒"/>
          <p:cNvPicPr/>
          <p:nvPr/>
        </p:nvPicPr>
        <p:blipFill>
          <a:blip r:embed="rId3"/>
          <a:srcRect l="0" t="0" r="48029" b="0"/>
          <a:stretch/>
        </p:blipFill>
        <p:spPr>
          <a:xfrm>
            <a:off x="6661080" y="120600"/>
            <a:ext cx="2519280" cy="6858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01300000329092124687783769330"/>
          <p:cNvPicPr/>
          <p:nvPr/>
        </p:nvPicPr>
        <p:blipFill>
          <a:blip r:embed="rId4"/>
          <a:stretch/>
        </p:blipFill>
        <p:spPr>
          <a:xfrm>
            <a:off x="4780080" y="1339920"/>
            <a:ext cx="3889080" cy="273672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7"/>
          <p:cNvSpPr/>
          <p:nvPr/>
        </p:nvSpPr>
        <p:spPr>
          <a:xfrm>
            <a:off x="612720" y="2854440"/>
            <a:ext cx="4159440" cy="192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微软雅黑"/>
                <a:ea typeface="微软雅黑"/>
              </a:rPr>
              <a:t>1</a:t>
            </a:r>
            <a:r>
              <a:rPr b="1" lang="zh-CN" sz="2400" spc="-1" strike="noStrike">
                <a:solidFill>
                  <a:srgbClr val="333399"/>
                </a:solidFill>
                <a:latin typeface="微软雅黑"/>
                <a:ea typeface="微软雅黑"/>
              </a:rPr>
              <a:t>、政治上：专制集权、吏治腐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微软雅黑"/>
                <a:ea typeface="微软雅黑"/>
              </a:rPr>
              <a:t>2</a:t>
            </a:r>
            <a:r>
              <a:rPr b="1" lang="zh-CN" sz="2400" spc="-1" strike="noStrike">
                <a:solidFill>
                  <a:srgbClr val="333399"/>
                </a:solidFill>
                <a:latin typeface="微软雅黑"/>
                <a:ea typeface="微软雅黑"/>
              </a:rPr>
              <a:t>、经济上：客观存在的自然经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微软雅黑"/>
                <a:ea typeface="微软雅黑"/>
              </a:rPr>
              <a:t>3</a:t>
            </a:r>
            <a:r>
              <a:rPr b="1" lang="zh-CN" sz="2400" spc="-1" strike="noStrike">
                <a:solidFill>
                  <a:srgbClr val="333399"/>
                </a:solidFill>
                <a:latin typeface="微软雅黑"/>
                <a:ea typeface="微软雅黑"/>
              </a:rPr>
              <a:t>、军事上：武器落后、训练松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微软雅黑"/>
                <a:ea typeface="微软雅黑"/>
              </a:rPr>
              <a:t>4</a:t>
            </a:r>
            <a:r>
              <a:rPr b="1" lang="zh-CN" sz="2400" spc="-1" strike="noStrike">
                <a:solidFill>
                  <a:srgbClr val="333399"/>
                </a:solidFill>
                <a:latin typeface="微软雅黑"/>
                <a:ea typeface="微软雅黑"/>
              </a:rPr>
              <a:t>、外交上：关闭政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微软雅黑"/>
                <a:ea typeface="微软雅黑"/>
              </a:rPr>
              <a:t>5</a:t>
            </a:r>
            <a:r>
              <a:rPr b="1" lang="zh-CN" sz="2400" spc="-1" strike="noStrike">
                <a:solidFill>
                  <a:srgbClr val="333399"/>
                </a:solidFill>
                <a:latin typeface="微软雅黑"/>
                <a:ea typeface="微软雅黑"/>
              </a:rPr>
              <a:t>、阶级矛盾十分尖锐，人民起义不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324000" y="1125360"/>
            <a:ext cx="386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康俪金黑W8(P)"/>
                <a:ea typeface="华康俪金黑W8(P)"/>
              </a:rPr>
              <a:t>第</a:t>
            </a:r>
            <a:r>
              <a:rPr b="0" lang="zh-CN" sz="3200" spc="-1" strike="noStrike">
                <a:solidFill>
                  <a:srgbClr val="ff0000"/>
                </a:solidFill>
                <a:latin typeface="华康俪金黑W8(P)"/>
                <a:ea typeface="华康俪金黑W8(P)"/>
              </a:rPr>
              <a:t>1</a:t>
            </a:r>
            <a:r>
              <a:rPr b="0" lang="zh-CN" sz="3200" spc="-1" strike="noStrike">
                <a:solidFill>
                  <a:srgbClr val="ff0000"/>
                </a:solidFill>
                <a:latin typeface="华康俪金黑W8(P)"/>
                <a:ea typeface="华康俪金黑W8(P)"/>
              </a:rPr>
              <a:t>课    鸦片战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9"/>
          <p:cNvSpPr/>
          <p:nvPr/>
        </p:nvSpPr>
        <p:spPr>
          <a:xfrm>
            <a:off x="333360" y="2085840"/>
            <a:ext cx="443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一、鸦片战争前的中国形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0" descr="4122317_080457037879_2"/>
          <p:cNvPicPr/>
          <p:nvPr/>
        </p:nvPicPr>
        <p:blipFill>
          <a:blip r:embed="rId5"/>
          <a:srcRect l="0" t="0" r="0" b="8099"/>
          <a:stretch/>
        </p:blipFill>
        <p:spPr>
          <a:xfrm>
            <a:off x="4829040" y="4156200"/>
            <a:ext cx="3840120" cy="235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934f06046b1e378e75a629ce65b1d146."/>
          <p:cNvPicPr/>
          <p:nvPr/>
        </p:nvPicPr>
        <p:blipFill>
          <a:blip r:embed="rId1"/>
          <a:stretch/>
        </p:blipFill>
        <p:spPr>
          <a:xfrm>
            <a:off x="34920" y="1700280"/>
            <a:ext cx="9136080" cy="51577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" descr="彩电"/>
          <p:cNvPicPr/>
          <p:nvPr/>
        </p:nvPicPr>
        <p:blipFill>
          <a:blip r:embed="rId2"/>
          <a:srcRect l="24495" t="40648" r="0" b="0"/>
          <a:stretch/>
        </p:blipFill>
        <p:spPr>
          <a:xfrm>
            <a:off x="-19080" y="44280"/>
            <a:ext cx="3649680" cy="40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46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7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Administrator</dc:creator>
  <dc:description/>
  <cp:keywords/>
  <dc:language>en-US</dc:language>
  <cp:lastModifiedBy>a</cp:lastModifiedBy>
  <dcterms:modified xsi:type="dcterms:W3CDTF">2014-05-22T01:19:37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2</vt:lpwstr>
  </property>
</Properties>
</file>