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5759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FACC-BD3D-428C-B7F7-F543E4BAB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32892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08E2-B148-4755-90A9-45F11E1A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3DF3-A984-46FF-B2F1-113F8FFB5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DC81-3A38-49C3-9CDD-B57DC8838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95E1-25D3-48CC-B7DD-F94EE3A2E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8822-DC58-4E0A-890B-5A20079D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E3D8-2FE6-4E1B-9901-926B4177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4924-A037-4B1A-8A83-B2808AA0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E16C-55EC-4257-B706-480F152D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85AA-B366-422F-9961-A4F03E2B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E875-0A8C-4E59-900A-5257D553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786F-0043-4F0B-B148-79D5284C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38AB-76CD-441C-8C97-13201C55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2C05-CD24-432D-86A9-1E2EACB3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32892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A07B-0F4D-4A3A-AC8C-76D40D2E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BACE-C92B-4569-9500-062E60F8B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7689-BA37-4FF7-A521-0B25FB590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51A5-FC89-4A78-A7D7-2A9DF33F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2892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85DD-97AA-48E4-932E-CFDF0EF3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B511-63E4-48A0-A10F-DED3B6AB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6657-20EF-4CF6-9A05-8CFF3AB1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B4C2-4F3F-46FB-8F07-F5CB77E4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6B8B-A74E-4067-936D-98FF353C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7D9E-6740-4CD6-9F68-24191C84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take_a_seat_and_enjoy_autumn-wallpaper-1920x1080"/>
          <p:cNvPicPr/>
          <p:nvPr/>
        </p:nvPicPr>
        <p:blipFill>
          <a:blip r:embed="rId2"/>
          <a:srcRect l="0" t="62086" r="0" b="7741"/>
          <a:stretch/>
        </p:blipFill>
        <p:spPr>
          <a:xfrm>
            <a:off x="0" y="4276800"/>
            <a:ext cx="9144000" cy="1552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5244840"/>
            <a:ext cx="28958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9498-221A-46A3-AD1D-F957487924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2720" y="233280"/>
            <a:ext cx="66340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052720" y="1344240"/>
            <a:ext cx="663408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5244840"/>
            <a:ext cx="28958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6CA6-E7ED-44BE-AC2C-7D87F42CF3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take_a_seat_and_enjoy_autumn-wallpaper-1920x1080"/>
          <p:cNvPicPr/>
          <p:nvPr/>
        </p:nvPicPr>
        <p:blipFill>
          <a:blip r:embed="rId2"/>
          <a:srcRect l="3152" t="0" r="78043" b="-269"/>
          <a:stretch/>
        </p:blipFill>
        <p:spPr>
          <a:xfrm>
            <a:off x="-31680" y="3240"/>
            <a:ext cx="1938240" cy="583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-11160" y="3182760"/>
            <a:ext cx="9155160" cy="2014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25440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1840f"/>
                </a:solidFill>
                <a:latin typeface="Arial"/>
              </a:rPr>
              <a:t>坐看朝阳风景</a:t>
            </a:r>
            <a:r>
              <a:rPr b="1" lang="zh-CN" sz="4000" spc="-1" strike="noStrike">
                <a:solidFill>
                  <a:srgbClr val="c1840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c1840f"/>
                </a:solidFill>
                <a:latin typeface="Arial"/>
              </a:rPr>
              <a:t>模板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4336920"/>
            <a:ext cx="64008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c184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52720" y="233280"/>
            <a:ext cx="66340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052720" y="1344240"/>
            <a:ext cx="663408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58400"/>
            <a:ext cx="820728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155240"/>
            <a:ext cx="842472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279360"/>
            <a:ext cx="1388880" cy="293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4"/>
          <p:cNvSpPr/>
          <p:nvPr/>
        </p:nvSpPr>
        <p:spPr>
          <a:xfrm>
            <a:off x="541440" y="3546360"/>
            <a:ext cx="82818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08:42:41Z</dcterms:created>
  <dc:creator>Administrator</dc:creator>
  <dc:description/>
  <dc:language>en-US</dc:language>
  <cp:lastModifiedBy>a</cp:lastModifiedBy>
  <dcterms:modified xsi:type="dcterms:W3CDTF">2014-12-31T04:56:30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