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BA331-D944-4B1A-A0A6-10F63CE8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B7B56-FB24-4665-BE31-F02A38B3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A6478-B7B9-43ED-B29E-FA24E439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A7875-1F95-48E5-8A7D-2A1D0DD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B9CC3-1CC3-4C23-9009-D7F1917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288EB-60AD-4324-AA81-E16E113E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4D49-4280-41E6-B824-C6FB70E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4E4B-AC70-40BC-91A6-C2D7F98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EBBF6-D8DF-4B88-A182-06BC6B5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473CF-93B5-4F3A-9507-828E73C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D8118-7836-49A1-BA7F-E71C7245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966F-001F-42F1-98D9-095118B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13B50DBE-AC7C-4339-8571-16D62635410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334-3387-4348-BF09-C63D5BA0909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6FE-8DCB-4923-B36C-13F714B71F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4998600"/>
            <a:ext cx="74851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足球场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63640" y="5769000"/>
            <a:ext cx="75103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de-DE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de-DE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de-DE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/>
  <dc:description/>
  <dc:language>en-US</dc:language>
  <cp:lastModifiedBy>a</cp:lastModifiedBy>
  <dcterms:modified xsi:type="dcterms:W3CDTF">2014-12-15T17:42:01Z</dcterms:modified>
  <cp:revision>25</cp:revision>
  <dc:subject/>
  <dc:title>Silves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