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647-6B3E-40E5-AB72-0B5E9F1F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D54-E31E-4ED1-833A-55FF124A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0EA-F0DF-400E-A717-A172F3AE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705-90B1-4372-ACA3-F7A3C9B8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D99-F935-4115-944B-5ABD5DC4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47C6-4C21-4D07-A78B-22D6E3CB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BE11-BF77-41A1-8F05-B877CA48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B1D-E7FD-4F66-A41C-54DB2F04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5653-026C-49FE-935D-397F2BA9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FD0E-7C78-4A3F-ABD5-EB93E61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915-1FB3-48B5-A3A5-63549260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E2D3-1181-4461-A2BC-8D3B9C32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095-B2E1-421B-9781-5CC3998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0CAB-FFD3-4F89-BCF9-8B13A15F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7625-27AA-43FA-AC5A-572B4928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5328-E38F-4EC7-A9D2-C4222E76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61CB-E959-4DF1-B25A-9C809A97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BD2B-0D07-486A-8404-9F06909A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6BD-82E3-417D-96D2-A47BC464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345-FAB3-4AC7-AB55-1483E40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E6A-96B9-4EE9-963E-0C0C4F9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6E2-0410-4B24-8591-93D797B4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7D4-B933-4E2B-96A1-7D6F0E6E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EBC-69FF-4677-A101-2714C57E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BD36-BC0E-4A37-B460-4B8CB1F96E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560" y="571320"/>
            <a:ext cx="6157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714680"/>
            <a:ext cx="8086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16F-1D2E-4405-90C3-3359FF21A3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D4FA-5218-4139-B92A-9ACC254CCC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"/>
          <p:cNvSpPr/>
          <p:nvPr/>
        </p:nvSpPr>
        <p:spPr>
          <a:xfrm>
            <a:off x="5875200" y="585468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8880" y="50004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760" y="1928880"/>
            <a:ext cx="820728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1:09:29Z</dcterms:created>
  <dc:creator/>
  <dc:description/>
  <cp:keywords/>
  <dc:language>en-US</dc:language>
  <cp:lastModifiedBy>a</cp:lastModifiedBy>
  <dcterms:modified xsi:type="dcterms:W3CDTF">2014-05-21T02:37:31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