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A4348-B27E-4415-9D0B-E010D9C4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D850-D71F-4C74-9D05-B6414EC9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A409B-3181-4BAA-BBCF-C0335717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FE613-69E2-4F0F-A431-79DA0F1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80C50-564C-4038-A3FD-B8D6FE9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D5D87-98B9-46CE-9EA5-E79EEAE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ED91-911A-4AA5-96ED-110069F5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917C-1D8D-4097-A1A6-AA5FC13E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CC55-77BA-426D-A4BF-3E474AEF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BAADE-B594-4A32-B15C-65CB3A6E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9A77-5D2E-4387-B2F8-E4F28E6B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FBB0C-D898-4A7E-A0E0-A8BF8AC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25684-9A7C-41FF-A8E4-2F59743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85697-6EB8-4AF7-A22B-DEA10354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09CC5-7915-498D-A8BA-383D228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BC19D-D3CD-4939-A7D1-0CE7A62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6F39-CAC0-48DC-A6D3-D5108599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C44C9-788C-45AF-92FD-B565BA5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A362-840A-47DC-A08B-BC89686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C16CA-799E-4F11-9CFD-132DB50B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10E0-4377-40BE-B0AC-306C094B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E1A3E-71C3-465B-BC61-F39C7C58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860A6-6148-4C60-8019-2CC9DAA1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43636-6A38-42EA-868E-A8A1ECF5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0B7C-63DA-46B3-A45F-E0DAEDF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973E8-3F20-407B-9D1C-49ED3A4B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B075-5FF2-4F5F-A9F4-0CA59C2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9F00C-E7B5-4BAC-8DDD-00C57FE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3EC4F-03C0-4E2E-A30E-645CF4C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67090-4F5F-4F86-AFEC-30D7640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32B-2694-4EA3-965D-5E25BDC4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FA92-3C58-45F6-AD5D-8D17EF3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1FDC7-8FAC-4656-8D74-340E0C83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6DE26-D255-4B0C-91A1-BA35F5C1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0A69F-D2AB-4523-9887-3A0A1C26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48AFA-6524-4DF9-B68E-03C4BF4B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BC8E4-8228-4493-96C6-327A1F6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24635-A59B-41C0-8D5C-680C0C2A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E94EA-1A2E-42EB-95FA-FE98A165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094AC-BFAD-4A3D-8997-F0DF302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3199D-DF5D-4958-A246-BE6DD67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370-1A23-4C02-9224-99EF3837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3DADF-0611-4543-BEC6-973002F2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E1DEB-2E7C-4D61-AA36-FDA48A4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4B83F-E1CE-4126-B606-56D029E7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CC04-B543-4E9C-8F18-FC008F39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CDF9C-F823-4FDB-9E1B-6123CF20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E2232-C394-426A-A7FB-E0AA6F4E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AD0A5-2C51-4A4B-9FB3-88842E49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F09EF-8631-47BB-991F-CACE9DC2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E5DF-9D9E-476F-AF97-7327099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AD15C-979B-4258-BA84-BE1F3100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C31-5466-4FDC-9E91-1678D48B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A4E92-9637-4988-85BA-BDC3E0C2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372E3-8CA0-431B-BB02-FB2C8EF8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2C82-32E6-41F3-8A22-B300D54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78B0-76A3-4D16-BFD4-37A594E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CF715-0034-4983-B8D1-118F76D9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5BF40-86B0-45CC-965D-89E31C3E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FAB32-7BF5-46B0-9A96-8750CC6A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5798C-A703-429F-9C9B-B39BDC7D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0B5E2-B897-489E-B40F-5495E18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FFEBA-7412-4B82-B62A-3D7391C8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7EB-97F6-4E2D-9597-F6614D7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84C54-1665-4BED-9D9B-80F1A6F6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21997-8821-4DC7-8F45-B029FBA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EBD0E-B5A3-4255-9799-AB678013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24008-CF70-4F49-B02A-A44A171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CE82C-01B7-4931-8308-769FFB0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260C7-FBD0-4994-A8E5-05227E9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44CE9-37AB-446F-8023-EDF8D1CB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90201-32E9-4297-8382-BBE1564D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13B8F-590B-4774-A4B0-CA217ADC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2C0-BEB6-44E2-8EA3-73A5437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2AF-4A0F-4303-A010-E50DEE37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D68-8D37-4B8A-804E-BEF642D5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7EC-5DCC-41A7-A1E3-F6DCE95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AF0-35C6-4114-A3B4-3E5FF8E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2A3-C442-4932-A95D-419DA302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782-81D6-4A27-BA05-EDBF1584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51A-2339-4A02-A573-2A6D6DB8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B845-D067-429B-A646-548E3B38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C8F3-A1F0-437B-83F9-3AA3F8AD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4078-7040-4F65-9842-9C4B3D3D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FFF7-C2FA-4B81-A215-9C8E751D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A9F1-7C61-4823-AA79-1239D9DD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55A7-56E9-4400-A244-EFC95A2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4C32-B1D8-4DF4-A51A-F54A451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9658-836F-4AAC-A3E8-F40383FE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6EA-922E-416D-9C8B-1521ECF1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0695-98B3-425A-9B14-D00A7944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BB9B-F25E-4383-8AF2-E1189A22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0A97-7A70-43D3-82F1-294E9D7E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5442-B526-4CEA-9872-36500A80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D7ED-F75C-4AE6-9E53-D8DD7546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D377-0292-4E2C-8432-D19022B0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9DAB-972D-4FAA-AB84-62DA511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4B94-1991-45A1-8F31-CE73200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C4C1-A39B-43F2-AB19-CAA8F23A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B572-9524-4CA9-8F33-ECD5525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6345D-B347-4939-98DB-2FBB875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F046-574B-44E1-806A-0E54D1A8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F689-38DF-4A29-B018-F9DBDB9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1EED-CF7E-43AE-80C1-C393DAEF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2F73-2FC1-4D5E-A449-8120D6F2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3420E-3829-4734-A0CA-68A10BAF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1AD3-AF8E-4197-B407-BFBE54A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B6E4-ACC7-406F-9024-8CBD7E57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643A-5866-467C-A0BA-4FB4B457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6159-B150-468C-B0D9-57A60C0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14B1-CD24-4222-9A88-C37795D4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BB3F-9155-43EB-B05D-2E0AEAD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1754-1D69-4914-839D-4859C99A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D486-793B-41B3-9024-CE70C15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623D-92B8-41CA-93B1-8514EC42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44E6-4E06-4E9D-9B9A-E51928ED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F30D-9A8B-46C2-B5BE-472CF6C2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998E2-F797-42C0-84A1-00540623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9455-0001-43D4-90CA-31E3978D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A65E-ABC2-4A80-BC60-95E4B097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B21E-CCAA-4216-B41A-81EDE292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54322-D9E5-4E09-9E79-4EB13F84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B5494-5F69-49D5-B486-34E02349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13492-902E-4196-8B45-CBF48E0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1B90-86AD-4E90-8CA7-D56C075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3CF2-F526-4E0E-BE49-49D59CD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13E4-17D9-494A-B586-6E31741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B04C-03D2-45C7-84E5-60FAB89E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D009B-A96C-471D-8721-B6175C50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4717-4DD5-41E1-94A5-88AAE2D9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9E38-96E4-4582-B6F9-B84B902B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2078E-DB77-4D3F-9F15-68B3884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53E5-D07F-4874-986D-59CAF557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FE88F-3F35-496B-9C46-6FDCAFED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5C68-B81C-425C-B3C7-F3DE2ED6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5E62-0E8E-45CC-A46E-9B6B2A6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055B9-BF63-4815-B63F-6A3B281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148C1-F6B7-4B51-A8FD-0E0DA6E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EBF1-24AE-4663-8B60-AF3EEA32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176AC-D7B3-4E06-B1A2-072435E1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2B3B0-0DA3-4762-A75C-95AC3497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BAA4E-65D9-4E07-990D-AA35533B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1265D-A6CA-4DA2-A805-2EECE4D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70F8-5349-4409-8838-569150F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-6480" y="-1440"/>
            <a:ext cx="916956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C745-9FAB-4548-B14E-9AADE0B72D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1980-35F6-48DB-AB58-56B49FE40B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C00-1F9D-41EF-A199-DC55668257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7DFF-883F-44E6-AC20-55B074CD9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5ADA-0822-4A3F-9FA0-960271E881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715B-BBEA-4DED-A9FE-6B43D5DDD8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48E-29C7-41FE-BF57-C44F9301E8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81CB-B5DE-4358-AFF2-4FBD576E19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5B66-EF85-4ADC-B951-70382EF817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C0DF-1EAF-46A6-9E30-2CA7E6073B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70F9-282A-428D-BBF3-90F750172E3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93B-4A21-4377-8F56-DDE4F3DE8C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g1"/>
          <p:cNvPicPr/>
          <p:nvPr/>
        </p:nvPicPr>
        <p:blipFill>
          <a:blip r:embed="rId2"/>
          <a:stretch/>
        </p:blipFill>
        <p:spPr>
          <a:xfrm>
            <a:off x="-6480" y="-1440"/>
            <a:ext cx="9169560" cy="6873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082-7776-48A1-B3E1-6B1F579427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385-DC7A-4029-853C-D455EF0DF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EEC-9F96-4561-B05E-F8A6FD11C8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51A8-65E3-4DCF-9950-37371E07F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DAF3-2D5B-49B1-A9DD-B8D3B306C1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738-2993-415D-AA31-F2E95A27F5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C81-1A10-4D56-86EA-F7CAC47E00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A18C-3D9B-48C3-80D7-97D5638404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7C2-6A3E-4199-9650-6265BC63E5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080-181F-497F-A61B-C70B8E7D2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DB4-9B32-4DD7-8A24-B88766A37B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27A2-860F-4FF4-A980-B3C2EB7E00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79280" y="1701360"/>
            <a:ext cx="5902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693800" y="3171600"/>
            <a:ext cx="59025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</cp:lastModifiedBy>
  <dcterms:modified xsi:type="dcterms:W3CDTF">2014-05-24T09:41:17Z</dcterms:modified>
  <cp:revision>2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