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B6F-0641-4967-9211-82689D3F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098-3AA0-4A5E-BF9F-B29F06EE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6E7-3385-4A02-ABC9-3C2D19DD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DFF-7066-45F6-B669-5AB10143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01C-62F8-48F7-81B5-E16801E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34F-6AD8-45A4-8244-C012F616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7CE-FC70-46EF-B4A9-B5664F2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FF5-E85F-4EB9-B895-01D1D335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9F5-FF35-45CB-99E9-52234B82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00A-F037-470E-9E02-7644DD4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380-8BDB-44EC-8E6B-5A452467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87E-A69E-490A-B417-5C994B2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491B-428B-4097-BCC7-78C36545F46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576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道路施工安全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665840" y="47322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40000" y="206280"/>
            <a:ext cx="6346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1200240"/>
            <a:ext cx="634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5480" y="480384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6:38:27Z</dcterms:created>
  <dc:creator>Ric6000</dc:creator>
  <dc:description/>
  <dc:language>en-US</dc:language>
  <cp:lastModifiedBy>Ric6000</cp:lastModifiedBy>
  <dcterms:modified xsi:type="dcterms:W3CDTF">2015-01-08T08:38:03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