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191-7DC2-45C7-B412-09EC295B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7A1-09CC-4CED-AF23-4CEDD69A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D46-3A54-4623-A99E-E78A80B3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DB4-17BB-4B63-BADB-FA8C1ADC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E37-DED4-4DAB-BB70-941FA63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5C1-C0C1-4416-B5AF-95E7E54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B38-10D2-4212-90AC-52406D5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B27-06BA-4448-9D99-02904EA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C65-8834-4CA2-8A1B-35FC5DF1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3DC-5F33-4011-8D10-E5AB015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2C6-2721-4E76-9395-E232D54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76E-8892-4477-A8B1-79A060D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516F-D9CB-40C9-B54B-C7B408AF5B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0e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7" descr="yun-01.png"/>
          <p:cNvPicPr/>
          <p:nvPr/>
        </p:nvPicPr>
        <p:blipFill>
          <a:blip r:embed="rId1"/>
          <a:stretch/>
        </p:blipFill>
        <p:spPr>
          <a:xfrm>
            <a:off x="3240" y="581040"/>
            <a:ext cx="12188880" cy="33926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yifu-01.png"/>
          <p:cNvPicPr/>
          <p:nvPr/>
        </p:nvPicPr>
        <p:blipFill>
          <a:blip r:embed="rId2"/>
          <a:stretch/>
        </p:blipFill>
        <p:spPr>
          <a:xfrm>
            <a:off x="0" y="0"/>
            <a:ext cx="12188880" cy="4356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zhezhi.png"/>
          <p:cNvPicPr/>
          <p:nvPr/>
        </p:nvPicPr>
        <p:blipFill>
          <a:blip r:embed="rId3"/>
          <a:stretch/>
        </p:blipFill>
        <p:spPr>
          <a:xfrm>
            <a:off x="7669080" y="1847880"/>
            <a:ext cx="6107400" cy="6107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 rot="20400000">
            <a:off x="9167760" y="4546800"/>
            <a:ext cx="1689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晾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晒</a:t>
            </a: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心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情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0356840" y="64483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0e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11" descr="yun-01.png"/>
          <p:cNvPicPr/>
          <p:nvPr/>
        </p:nvPicPr>
        <p:blipFill>
          <a:blip r:embed="rId1"/>
          <a:stretch/>
        </p:blipFill>
        <p:spPr>
          <a:xfrm>
            <a:off x="3240" y="581040"/>
            <a:ext cx="12188880" cy="3392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yifu-01.png"/>
          <p:cNvPicPr/>
          <p:nvPr/>
        </p:nvPicPr>
        <p:blipFill>
          <a:blip r:embed="rId2"/>
          <a:stretch/>
        </p:blipFill>
        <p:spPr>
          <a:xfrm>
            <a:off x="0" y="0"/>
            <a:ext cx="9518760" cy="3402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zhezhi03-01.png"/>
          <p:cNvPicPr/>
          <p:nvPr/>
        </p:nvPicPr>
        <p:blipFill>
          <a:blip r:embed="rId3"/>
          <a:stretch/>
        </p:blipFill>
        <p:spPr>
          <a:xfrm>
            <a:off x="8121600" y="3143160"/>
            <a:ext cx="3210120" cy="2529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5"/>
          <p:cNvSpPr/>
          <p:nvPr/>
        </p:nvSpPr>
        <p:spPr>
          <a:xfrm>
            <a:off x="8832600" y="318132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情日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8875440" y="402912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里路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8899200" y="498636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中记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 rot="20400000">
            <a:off x="8806320" y="1889640"/>
            <a:ext cx="1689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晾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晒</a:t>
            </a: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心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情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" descr="yun-02-01-01.png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yifu-02-01.png"/>
          <p:cNvPicPr/>
          <p:nvPr/>
        </p:nvPicPr>
        <p:blipFill>
          <a:blip r:embed="rId2"/>
          <a:stretch/>
        </p:blipFill>
        <p:spPr>
          <a:xfrm>
            <a:off x="0" y="0"/>
            <a:ext cx="705024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zhezhi02-02-01.png"/>
          <p:cNvPicPr/>
          <p:nvPr/>
        </p:nvPicPr>
        <p:blipFill>
          <a:blip r:embed="rId3"/>
          <a:stretch/>
        </p:blipFill>
        <p:spPr>
          <a:xfrm>
            <a:off x="6837480" y="3551400"/>
            <a:ext cx="4114800" cy="94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7643880" y="363060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情日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6" descr="yun-02-01-01.png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" descr="zhezhi02-01.png"/>
          <p:cNvPicPr/>
          <p:nvPr/>
        </p:nvPicPr>
        <p:blipFill>
          <a:blip r:embed="rId2"/>
          <a:stretch/>
        </p:blipFill>
        <p:spPr>
          <a:xfrm>
            <a:off x="4719600" y="1724040"/>
            <a:ext cx="2752920" cy="630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5496480" y="1746360"/>
            <a:ext cx="1232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情日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4187880" y="2468520"/>
            <a:ext cx="378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片笑声让我想起我的那些花儿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我生命每个角落静静为我开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曾以为我会永远守在他身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我们已经离去在人海茫茫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都老了吧　他们在哪里呀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就这样各自奔天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371240" y="64404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0e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片 8" descr="yun-01.png"/>
          <p:cNvPicPr/>
          <p:nvPr/>
        </p:nvPicPr>
        <p:blipFill>
          <a:blip r:embed="rId1"/>
          <a:stretch/>
        </p:blipFill>
        <p:spPr>
          <a:xfrm>
            <a:off x="3240" y="581040"/>
            <a:ext cx="12188880" cy="3392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yifu-01.png"/>
          <p:cNvPicPr/>
          <p:nvPr/>
        </p:nvPicPr>
        <p:blipFill>
          <a:blip r:embed="rId2"/>
          <a:stretch/>
        </p:blipFill>
        <p:spPr>
          <a:xfrm>
            <a:off x="0" y="0"/>
            <a:ext cx="12188880" cy="4356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0" descr="zhezhi.png"/>
          <p:cNvPicPr/>
          <p:nvPr/>
        </p:nvPicPr>
        <p:blipFill>
          <a:blip r:embed="rId3"/>
          <a:stretch/>
        </p:blipFill>
        <p:spPr>
          <a:xfrm>
            <a:off x="7669080" y="1847880"/>
            <a:ext cx="6107400" cy="6107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1"/>
          <p:cNvSpPr/>
          <p:nvPr/>
        </p:nvSpPr>
        <p:spPr>
          <a:xfrm rot="20400000">
            <a:off x="9457920" y="4675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70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a</cp:lastModifiedBy>
  <dcterms:modified xsi:type="dcterms:W3CDTF">2015-01-08T08:20:2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