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D845-3BB0-4537-8479-E25E8E39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C52-7F01-4981-A776-2775C9F2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A0A-E7EA-4E41-9762-3CEE5951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F298-A1E7-4E47-AC49-80D660CE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3ECF-65A8-42C0-BEB5-089852ED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7424-AAC0-438F-97AA-B9BDCF6F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60B1-D21D-4FD7-9FCB-43936022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C8E1-44F5-4574-889D-CBB84955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FC00-4D50-4923-8066-00322434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2CE3-C66E-4C69-9748-6651DC49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06BC-159F-4DC9-AE2D-630E94C9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23F-E04E-428C-95BF-B21BB207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C3AA-659D-4638-AA2A-497AABC8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4B4D-52A4-4050-BFFB-CD876DA7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CC1D-FAFB-41F5-81C9-807E6CB3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0541-E80B-4F28-8843-F4A9BD7E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72CD-BB51-4FEF-A3E7-DD39AD71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43F-C504-40D6-BF87-06AFE229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DFC-3CDE-4C2C-8915-E9756FC4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2822-4C6C-4559-9366-AD878C9B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E38-CBE3-4729-9860-7E92C49E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426-003C-4499-8A00-ABBE50D3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61A-46F6-47C1-8662-83E4D53A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257-F084-4820-BD93-2C8034E1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4808-56C9-45F9-A0CB-808295B1EEC1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0307-E0B4-44CD-BE5E-EA9396C294DB}" type="slidenum"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620640"/>
            <a:ext cx="693396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Impact"/>
                <a:ea typeface="宋体"/>
              </a:rPr>
              <a:t>工程桥梁</a:t>
            </a:r>
            <a:r>
              <a:rPr b="0" lang="zh-CN" sz="44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162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720" y="533160"/>
            <a:ext cx="4876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380880" y="48769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380880" y="28954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6720" y="2602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  <a:ea typeface="宋体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4" name="Picture 14" descr="bridge_outline_qx"/>
          <p:cNvPicPr/>
          <p:nvPr/>
        </p:nvPicPr>
        <p:blipFill>
          <a:blip r:embed="rId1"/>
          <a:stretch/>
        </p:blipFill>
        <p:spPr>
          <a:xfrm>
            <a:off x="3960720" y="990720"/>
            <a:ext cx="2313000" cy="1734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5" name="Picture 17" descr="bridge_outline_sld"/>
          <p:cNvPicPr/>
          <p:nvPr/>
        </p:nvPicPr>
        <p:blipFill>
          <a:blip r:embed="rId2"/>
          <a:stretch/>
        </p:blipFill>
        <p:spPr>
          <a:xfrm>
            <a:off x="6450120" y="990720"/>
            <a:ext cx="2313000" cy="1734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6" name="Picture 20" descr="bridge_outline_trs"/>
          <p:cNvPicPr/>
          <p:nvPr/>
        </p:nvPicPr>
        <p:blipFill>
          <a:blip r:embed="rId3"/>
          <a:stretch/>
        </p:blipFill>
        <p:spPr>
          <a:xfrm>
            <a:off x="3960720" y="3048120"/>
            <a:ext cx="2313000" cy="1734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7" name="Picture 23" descr="bridge_outline_prt"/>
          <p:cNvPicPr/>
          <p:nvPr/>
        </p:nvPicPr>
        <p:blipFill>
          <a:blip r:embed="rId4"/>
          <a:stretch/>
        </p:blipFill>
        <p:spPr>
          <a:xfrm>
            <a:off x="6450120" y="3048120"/>
            <a:ext cx="2313000" cy="1734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663840" y="623736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3:31:48Z</dcterms:created>
  <dc:creator/>
  <dc:description/>
  <dc:language>en-US</dc:language>
  <cp:lastModifiedBy>king</cp:lastModifiedBy>
  <dcterms:modified xsi:type="dcterms:W3CDTF">2015-01-08T08:42:5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