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8FE-4049-498F-BC54-02D2F134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78360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FC2-DB0C-4DF0-A414-662F0CC8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78360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78360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1E2-A328-483C-A6C1-A550D0E5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78360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378360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378360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0F0-5BAD-421A-BD97-CFC36134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2742-0E57-4002-BD3C-81CFC915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C2E1-69AB-429C-8BBE-183FD118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871A-40A7-48BA-A7C8-90FB4D98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9F6C-A02A-4455-804A-E58E8DC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1C54-F46A-43A5-8A2A-9F9D208B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8E1E-2682-4902-8A38-73EE377E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78360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5C07-55E1-4CD2-8E4D-A05DECB0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776-EF51-465B-B9B6-6674F7B4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78360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F225-BACE-46FF-BBF1-676E2B3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78360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355F-C224-4955-91C9-1893EF7A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78360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6569-4E27-4FDE-BF71-49481A00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78360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78360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7531-36E4-4C66-BC7C-F6F007EA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78360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78360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78360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3070-7252-4048-986B-5A8982BF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20B-1AD5-4978-B4EC-2AF82670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CAC-037D-451F-8268-15F947FC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9EB-B8D0-4978-BCB5-1DAB7FB7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928-DD89-4BCA-934C-7B98646A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78360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7CA-9564-4E57-83BC-14814266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78360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12A-3AAB-4C63-A11E-BD0DA9E4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8360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7DC-B879-4AC9-931B-F8F8F3B3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" name=""/>
          <p:cNvSpPr/>
          <p:nvPr/>
        </p:nvSpPr>
        <p:spPr>
          <a:xfrm>
            <a:off x="8305920" y="0"/>
            <a:ext cx="83808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98AC-06AC-4F5B-B5C4-CAAC8EE8E75F}" type="slidenum">
              <a:rPr b="1" lang="en-US" sz="10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400960" y="76320"/>
            <a:ext cx="666720" cy="61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FE4C-E6D9-4310-9786-B7AA86E1E9EA}" type="slidenum">
              <a:rPr b="0" lang="en-US" sz="10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80808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国外金融学</a:t>
            </a:r>
            <a:r>
              <a:rPr b="0" lang="zh-CN" sz="3600" spc="-1" strike="noStrike">
                <a:solidFill>
                  <a:srgbClr val="ffcc00"/>
                </a:solidFill>
                <a:latin typeface="Impact"/>
                <a:ea typeface="宋体"/>
              </a:rPr>
              <a:t>PPT</a:t>
            </a: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模板下载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877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877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lements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90760" y="152280"/>
            <a:ext cx="2125800" cy="1594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27440" y="152280"/>
            <a:ext cx="2125800" cy="1594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65920" y="152280"/>
            <a:ext cx="2125800" cy="1594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2125800" cy="1594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238640" y="3119400"/>
            <a:ext cx="666720" cy="619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35240" y="62485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eclipse</dc:creator>
  <dc:description/>
  <dc:language>en-US</dc:language>
  <cp:lastModifiedBy>eclipse</cp:lastModifiedBy>
  <dcterms:modified xsi:type="dcterms:W3CDTF">2015-01-08T07:00:29Z</dcterms:modified>
  <cp:revision>21</cp:revision>
  <dc:subject/>
  <dc:title>Silly Mi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