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EE1-9967-4277-B1E4-EE567C58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108-FFA3-468A-82F2-B1DEFD2B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2BC-6C47-49F9-894B-9638906E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EE0-C65B-4EC6-B697-AF92AB9C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E42-6A90-4E35-96FD-4E610104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719-EE26-4399-8C28-6268B0C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3B4-DC0E-490B-9B15-9FA188A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E1E-FBEC-4D3E-9532-4FB014F2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690-1EDF-4FDD-A294-018606D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840-0AF3-4A2C-AA40-F8EAE76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DE8-AAFD-40D1-A1EA-B05F9D2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B7E-4CD7-42B5-BD4E-C4DDBF7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1CC-9E47-4D0C-B8B6-25E683DA4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3280" y="3432240"/>
            <a:ext cx="702144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国外简约蓝色抽象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6002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264312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72296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5:32:28Z</dcterms:created>
  <dc:creator/>
  <dc:description/>
  <dc:language>en-US</dc:language>
  <cp:lastModifiedBy>Mediac</cp:lastModifiedBy>
  <dcterms:modified xsi:type="dcterms:W3CDTF">2015-01-08T07:11:3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