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9AE-4948-44F3-8DB9-5CA9BE8C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134-C822-40EF-A1C5-7487664C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6F7-B75E-4244-86D5-7FE8FF8C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A36-0B79-4587-BE4D-C6537015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9D1-B338-4CF0-BBDF-AA1E55A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66C-ED89-4F78-8433-6B327E8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636-47C2-41C6-9482-F29AF77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BFF-02AB-41B7-803F-866027A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13F-2514-4F1B-9F7F-E1DC6A0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E69-2B78-4A1F-AAF3-8001775C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2EB-D71C-46F5-A114-DCB0956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F68-0A9E-4DB3-925B-DE1DF0A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816-BCAF-47C3-8CF8-AE62A87E30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B94-EB61-4721-A2B9-0FBC4BAABA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33640" y="784080"/>
            <a:ext cx="7080480" cy="3371760"/>
            <a:chOff x="1133640" y="784080"/>
            <a:chExt cx="7080480" cy="3371760"/>
          </a:xfrm>
        </p:grpSpPr>
        <p:grpSp>
          <p:nvGrpSpPr>
            <p:cNvPr id="42" name=""/>
            <p:cNvGrpSpPr/>
            <p:nvPr/>
          </p:nvGrpSpPr>
          <p:grpSpPr>
            <a:xfrm>
              <a:off x="1133640" y="784080"/>
              <a:ext cx="7080480" cy="3344760"/>
              <a:chOff x="1133640" y="784080"/>
              <a:chExt cx="7080480" cy="3344760"/>
            </a:xfrm>
          </p:grpSpPr>
          <p:sp>
            <p:nvSpPr>
              <p:cNvPr id="43" name="Freeform 5"/>
              <p:cNvSpPr/>
              <p:nvPr/>
            </p:nvSpPr>
            <p:spPr>
              <a:xfrm>
                <a:off x="3878640" y="789120"/>
                <a:ext cx="42480" cy="3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3" y="0"/>
                      <a:pt x="6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6" y="1"/>
                      <a:pt x="3" y="1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6"/>
              <p:cNvSpPr/>
              <p:nvPr/>
            </p:nvSpPr>
            <p:spPr>
              <a:xfrm>
                <a:off x="3271680" y="893880"/>
                <a:ext cx="80280" cy="158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6" y="3"/>
                    </a:moveTo>
                    <a:cubicBezTo>
                      <a:pt x="7" y="1"/>
                      <a:pt x="0" y="2"/>
                      <a:pt x="4" y="1"/>
                    </a:cubicBezTo>
                    <a:cubicBezTo>
                      <a:pt x="9" y="1"/>
                      <a:pt x="14" y="1"/>
                      <a:pt x="19" y="1"/>
                    </a:cubicBezTo>
                    <a:cubicBezTo>
                      <a:pt x="17" y="4"/>
                      <a:pt x="9" y="0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>
                <a:off x="4793400" y="1036440"/>
                <a:ext cx="40680" cy="17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cubicBezTo>
                      <a:pt x="7" y="2"/>
                      <a:pt x="1" y="4"/>
                      <a:pt x="0" y="1"/>
                    </a:cubicBezTo>
                    <a:cubicBezTo>
                      <a:pt x="3" y="2"/>
                      <a:pt x="8" y="0"/>
                      <a:pt x="1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8"/>
              <p:cNvSpPr/>
              <p:nvPr/>
            </p:nvSpPr>
            <p:spPr>
              <a:xfrm>
                <a:off x="5332320" y="1703880"/>
                <a:ext cx="15840" cy="45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2" y="4"/>
                    </a:moveTo>
                    <a:cubicBezTo>
                      <a:pt x="2" y="2"/>
                      <a:pt x="1" y="0"/>
                      <a:pt x="3" y="0"/>
                    </a:cubicBezTo>
                    <a:cubicBezTo>
                      <a:pt x="2" y="2"/>
                      <a:pt x="2" y="5"/>
                      <a:pt x="4" y="6"/>
                    </a:cubicBezTo>
                    <a:cubicBezTo>
                      <a:pt x="1" y="6"/>
                      <a:pt x="3" y="9"/>
                      <a:pt x="3" y="11"/>
                    </a:cubicBezTo>
                    <a:cubicBezTo>
                      <a:pt x="0" y="10"/>
                      <a:pt x="2" y="6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706400" y="1749960"/>
                <a:ext cx="17640" cy="42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10"/>
                    </a:moveTo>
                    <a:cubicBezTo>
                      <a:pt x="2" y="7"/>
                      <a:pt x="0" y="2"/>
                      <a:pt x="2" y="0"/>
                    </a:cubicBezTo>
                    <a:cubicBezTo>
                      <a:pt x="2" y="3"/>
                      <a:pt x="4" y="9"/>
                      <a:pt x="1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4990680" y="2995560"/>
                <a:ext cx="12240" cy="71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" h="17">
                    <a:moveTo>
                      <a:pt x="3" y="2"/>
                    </a:moveTo>
                    <a:cubicBezTo>
                      <a:pt x="1" y="5"/>
                      <a:pt x="3" y="13"/>
                      <a:pt x="2" y="17"/>
                    </a:cubicBezTo>
                    <a:cubicBezTo>
                      <a:pt x="1" y="15"/>
                      <a:pt x="0" y="0"/>
                      <a:pt x="3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>
                <a:off x="2720160" y="3269520"/>
                <a:ext cx="5400" cy="496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0" y="0"/>
                    </a:moveTo>
                    <a:cubicBezTo>
                      <a:pt x="1" y="2"/>
                      <a:pt x="1" y="10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3"/>
              <p:cNvSpPr/>
              <p:nvPr/>
            </p:nvSpPr>
            <p:spPr>
              <a:xfrm>
                <a:off x="3243600" y="2808720"/>
                <a:ext cx="28080" cy="338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1" y="0"/>
                    </a:moveTo>
                    <a:cubicBezTo>
                      <a:pt x="4" y="1"/>
                      <a:pt x="3" y="4"/>
                      <a:pt x="7" y="3"/>
                    </a:cubicBezTo>
                    <a:cubicBezTo>
                      <a:pt x="7" y="4"/>
                      <a:pt x="4" y="4"/>
                      <a:pt x="4" y="3"/>
                    </a:cubicBezTo>
                    <a:cubicBezTo>
                      <a:pt x="3" y="3"/>
                      <a:pt x="3" y="5"/>
                      <a:pt x="2" y="6"/>
                    </a:cubicBezTo>
                    <a:cubicBezTo>
                      <a:pt x="0" y="8"/>
                      <a:pt x="4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3154320" y="1113120"/>
                <a:ext cx="21240" cy="33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4" y="8"/>
                    </a:moveTo>
                    <a:cubicBezTo>
                      <a:pt x="2" y="7"/>
                      <a:pt x="1" y="6"/>
                      <a:pt x="0" y="4"/>
                    </a:cubicBezTo>
                    <a:cubicBezTo>
                      <a:pt x="1" y="4"/>
                      <a:pt x="3" y="4"/>
                      <a:pt x="4" y="4"/>
                    </a:cubicBezTo>
                    <a:cubicBezTo>
                      <a:pt x="3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3" y="6"/>
                      <a:pt x="4" y="7"/>
                      <a:pt x="4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2766600" y="3876480"/>
                <a:ext cx="33840" cy="24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3"/>
                    </a:moveTo>
                    <a:cubicBezTo>
                      <a:pt x="7" y="4"/>
                      <a:pt x="7" y="5"/>
                      <a:pt x="7" y="6"/>
                    </a:cubicBezTo>
                    <a:cubicBezTo>
                      <a:pt x="3" y="6"/>
                      <a:pt x="4" y="2"/>
                      <a:pt x="0" y="2"/>
                    </a:cubicBezTo>
                    <a:cubicBezTo>
                      <a:pt x="0" y="0"/>
                      <a:pt x="3" y="1"/>
                      <a:pt x="3" y="0"/>
                    </a:cubicBezTo>
                    <a:cubicBezTo>
                      <a:pt x="6" y="0"/>
                      <a:pt x="1" y="2"/>
                      <a:pt x="5" y="1"/>
                    </a:cubicBezTo>
                    <a:cubicBezTo>
                      <a:pt x="2" y="3"/>
                      <a:pt x="6" y="5"/>
                      <a:pt x="7" y="2"/>
                    </a:cubicBezTo>
                    <a:cubicBezTo>
                      <a:pt x="7" y="2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2793240" y="3977640"/>
                <a:ext cx="28440" cy="30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0"/>
                    </a:moveTo>
                    <a:cubicBezTo>
                      <a:pt x="1" y="1"/>
                      <a:pt x="2" y="2"/>
                      <a:pt x="4" y="1"/>
                    </a:cubicBezTo>
                    <a:cubicBezTo>
                      <a:pt x="3" y="4"/>
                      <a:pt x="7" y="6"/>
                      <a:pt x="4" y="7"/>
                    </a:cubicBezTo>
                    <a:cubicBezTo>
                      <a:pt x="2" y="5"/>
                      <a:pt x="2" y="3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7"/>
              <p:cNvSpPr/>
              <p:nvPr/>
            </p:nvSpPr>
            <p:spPr>
              <a:xfrm>
                <a:off x="2987280" y="784080"/>
                <a:ext cx="1181160" cy="48024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8"/>
              <p:cNvSpPr/>
              <p:nvPr/>
            </p:nvSpPr>
            <p:spPr>
              <a:xfrm>
                <a:off x="3428640" y="79272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2"/>
                    </a:moveTo>
                    <a:cubicBezTo>
                      <a:pt x="6" y="3"/>
                      <a:pt x="3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3" y="1"/>
                      <a:pt x="7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9"/>
              <p:cNvSpPr/>
              <p:nvPr/>
            </p:nvSpPr>
            <p:spPr>
              <a:xfrm>
                <a:off x="3891240" y="808920"/>
                <a:ext cx="67680" cy="14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3">
                    <a:moveTo>
                      <a:pt x="16" y="0"/>
                    </a:moveTo>
                    <a:cubicBezTo>
                      <a:pt x="12" y="2"/>
                      <a:pt x="6" y="2"/>
                      <a:pt x="0" y="3"/>
                    </a:cubicBezTo>
                    <a:cubicBezTo>
                      <a:pt x="4" y="1"/>
                      <a:pt x="10" y="0"/>
                      <a:pt x="1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0"/>
              <p:cNvSpPr/>
              <p:nvPr/>
            </p:nvSpPr>
            <p:spPr>
              <a:xfrm>
                <a:off x="5065200" y="822960"/>
                <a:ext cx="55080" cy="194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12" y="0"/>
                    </a:moveTo>
                    <a:cubicBezTo>
                      <a:pt x="11" y="1"/>
                      <a:pt x="11" y="2"/>
                      <a:pt x="13" y="2"/>
                    </a:cubicBezTo>
                    <a:cubicBezTo>
                      <a:pt x="10" y="5"/>
                      <a:pt x="6" y="2"/>
                      <a:pt x="0" y="3"/>
                    </a:cubicBezTo>
                    <a:cubicBezTo>
                      <a:pt x="2" y="0"/>
                      <a:pt x="7" y="0"/>
                      <a:pt x="12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1"/>
              <p:cNvSpPr/>
              <p:nvPr/>
            </p:nvSpPr>
            <p:spPr>
              <a:xfrm>
                <a:off x="5138280" y="826560"/>
                <a:ext cx="37440" cy="15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1"/>
                    </a:moveTo>
                    <a:cubicBezTo>
                      <a:pt x="4" y="0"/>
                      <a:pt x="5" y="2"/>
                      <a:pt x="9" y="2"/>
                    </a:cubicBezTo>
                    <a:cubicBezTo>
                      <a:pt x="8" y="3"/>
                      <a:pt x="0" y="4"/>
                      <a:pt x="1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2"/>
              <p:cNvSpPr/>
              <p:nvPr/>
            </p:nvSpPr>
            <p:spPr>
              <a:xfrm>
                <a:off x="3099600" y="826560"/>
                <a:ext cx="38880" cy="21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2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4" y="2"/>
                      <a:pt x="9" y="0"/>
                      <a:pt x="9" y="3"/>
                    </a:cubicBezTo>
                    <a:cubicBezTo>
                      <a:pt x="8" y="4"/>
                      <a:pt x="7" y="4"/>
                      <a:pt x="6" y="5"/>
                    </a:cubicBezTo>
                    <a:cubicBezTo>
                      <a:pt x="7" y="1"/>
                      <a:pt x="2" y="3"/>
                      <a:pt x="0" y="3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3"/>
              <p:cNvSpPr/>
              <p:nvPr/>
            </p:nvSpPr>
            <p:spPr>
              <a:xfrm>
                <a:off x="3206160" y="826560"/>
                <a:ext cx="41040" cy="212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3"/>
                    </a:moveTo>
                    <a:cubicBezTo>
                      <a:pt x="2" y="0"/>
                      <a:pt x="7" y="3"/>
                      <a:pt x="10" y="3"/>
                    </a:cubicBezTo>
                    <a:cubicBezTo>
                      <a:pt x="8" y="5"/>
                      <a:pt x="4" y="2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>
                <a:off x="5099040" y="835560"/>
                <a:ext cx="42480" cy="12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10" y="1"/>
                    </a:moveTo>
                    <a:cubicBezTo>
                      <a:pt x="8" y="3"/>
                      <a:pt x="4" y="2"/>
                      <a:pt x="0" y="2"/>
                    </a:cubicBezTo>
                    <a:cubicBezTo>
                      <a:pt x="2" y="0"/>
                      <a:pt x="6" y="0"/>
                      <a:pt x="1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2935800" y="83916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6" y="0"/>
                    </a:moveTo>
                    <a:cubicBezTo>
                      <a:pt x="6" y="5"/>
                      <a:pt x="3" y="2"/>
                      <a:pt x="0" y="2"/>
                    </a:cubicBezTo>
                    <a:cubicBezTo>
                      <a:pt x="0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>
                <a:off x="4473000" y="835560"/>
                <a:ext cx="197640" cy="74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10" y="10"/>
                    </a:moveTo>
                    <a:cubicBezTo>
                      <a:pt x="3" y="10"/>
                      <a:pt x="5" y="6"/>
                      <a:pt x="0" y="5"/>
                    </a:cubicBezTo>
                    <a:cubicBezTo>
                      <a:pt x="3" y="4"/>
                      <a:pt x="6" y="2"/>
                      <a:pt x="11" y="2"/>
                    </a:cubicBezTo>
                    <a:cubicBezTo>
                      <a:pt x="11" y="3"/>
                      <a:pt x="11" y="4"/>
                      <a:pt x="11" y="5"/>
                    </a:cubicBezTo>
                    <a:cubicBezTo>
                      <a:pt x="18" y="6"/>
                      <a:pt x="19" y="0"/>
                      <a:pt x="25" y="4"/>
                    </a:cubicBezTo>
                    <a:cubicBezTo>
                      <a:pt x="28" y="4"/>
                      <a:pt x="26" y="8"/>
                      <a:pt x="30" y="6"/>
                    </a:cubicBezTo>
                    <a:cubicBezTo>
                      <a:pt x="36" y="8"/>
                      <a:pt x="41" y="11"/>
                      <a:pt x="47" y="12"/>
                    </a:cubicBezTo>
                    <a:cubicBezTo>
                      <a:pt x="47" y="14"/>
                      <a:pt x="40" y="13"/>
                      <a:pt x="36" y="14"/>
                    </a:cubicBezTo>
                    <a:cubicBezTo>
                      <a:pt x="39" y="10"/>
                      <a:pt x="33" y="11"/>
                      <a:pt x="33" y="8"/>
                    </a:cubicBezTo>
                    <a:cubicBezTo>
                      <a:pt x="26" y="9"/>
                      <a:pt x="26" y="17"/>
                      <a:pt x="19" y="18"/>
                    </a:cubicBezTo>
                    <a:cubicBezTo>
                      <a:pt x="18" y="15"/>
                      <a:pt x="13" y="15"/>
                      <a:pt x="11" y="14"/>
                    </a:cubicBezTo>
                    <a:cubicBezTo>
                      <a:pt x="11" y="13"/>
                      <a:pt x="12" y="13"/>
                      <a:pt x="14" y="13"/>
                    </a:cubicBezTo>
                    <a:cubicBezTo>
                      <a:pt x="13" y="12"/>
                      <a:pt x="12" y="12"/>
                      <a:pt x="11" y="12"/>
                    </a:cubicBezTo>
                    <a:cubicBezTo>
                      <a:pt x="12" y="10"/>
                      <a:pt x="18" y="12"/>
                      <a:pt x="20" y="10"/>
                    </a:cubicBezTo>
                    <a:cubicBezTo>
                      <a:pt x="17" y="8"/>
                      <a:pt x="12" y="8"/>
                      <a:pt x="10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>
                <a:off x="2830680" y="851760"/>
                <a:ext cx="83160" cy="370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3"/>
                    </a:moveTo>
                    <a:cubicBezTo>
                      <a:pt x="19" y="7"/>
                      <a:pt x="17" y="4"/>
                      <a:pt x="19" y="8"/>
                    </a:cubicBezTo>
                    <a:cubicBezTo>
                      <a:pt x="11" y="9"/>
                      <a:pt x="9" y="5"/>
                      <a:pt x="0" y="6"/>
                    </a:cubicBezTo>
                    <a:cubicBezTo>
                      <a:pt x="0" y="5"/>
                      <a:pt x="2" y="5"/>
                      <a:pt x="2" y="5"/>
                    </a:cubicBezTo>
                    <a:cubicBezTo>
                      <a:pt x="5" y="4"/>
                      <a:pt x="1" y="3"/>
                      <a:pt x="3" y="1"/>
                    </a:cubicBezTo>
                    <a:cubicBezTo>
                      <a:pt x="11" y="0"/>
                      <a:pt x="13" y="4"/>
                      <a:pt x="2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8"/>
              <p:cNvSpPr/>
              <p:nvPr/>
            </p:nvSpPr>
            <p:spPr>
              <a:xfrm>
                <a:off x="2953440" y="869400"/>
                <a:ext cx="33840" cy="24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5" y="6"/>
                    </a:moveTo>
                    <a:cubicBezTo>
                      <a:pt x="5" y="5"/>
                      <a:pt x="6" y="5"/>
                      <a:pt x="7" y="5"/>
                    </a:cubicBezTo>
                    <a:cubicBezTo>
                      <a:pt x="7" y="3"/>
                      <a:pt x="4" y="5"/>
                      <a:pt x="2" y="4"/>
                    </a:cubicBezTo>
                    <a:cubicBezTo>
                      <a:pt x="0" y="3"/>
                      <a:pt x="8" y="2"/>
                      <a:pt x="3" y="0"/>
                    </a:cubicBezTo>
                    <a:cubicBezTo>
                      <a:pt x="5" y="0"/>
                      <a:pt x="7" y="2"/>
                      <a:pt x="5" y="2"/>
                    </a:cubicBezTo>
                    <a:cubicBezTo>
                      <a:pt x="6" y="3"/>
                      <a:pt x="7" y="4"/>
                      <a:pt x="8" y="4"/>
                    </a:cubicBezTo>
                    <a:cubicBezTo>
                      <a:pt x="7" y="5"/>
                      <a:pt x="7" y="6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2679480" y="882000"/>
                <a:ext cx="58680" cy="208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1"/>
                    </a:moveTo>
                    <a:cubicBezTo>
                      <a:pt x="12" y="5"/>
                      <a:pt x="3" y="2"/>
                      <a:pt x="0" y="1"/>
                    </a:cubicBezTo>
                    <a:cubicBezTo>
                      <a:pt x="1" y="0"/>
                      <a:pt x="9" y="0"/>
                      <a:pt x="14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30"/>
              <p:cNvSpPr/>
              <p:nvPr/>
            </p:nvSpPr>
            <p:spPr>
              <a:xfrm>
                <a:off x="5440680" y="1011600"/>
                <a:ext cx="58320" cy="58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cubicBezTo>
                      <a:pt x="5" y="4"/>
                      <a:pt x="10" y="9"/>
                      <a:pt x="14" y="14"/>
                    </a:cubicBezTo>
                    <a:cubicBezTo>
                      <a:pt x="9" y="10"/>
                      <a:pt x="4" y="5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1"/>
              <p:cNvSpPr/>
              <p:nvPr/>
            </p:nvSpPr>
            <p:spPr>
              <a:xfrm>
                <a:off x="4081680" y="1396080"/>
                <a:ext cx="37440" cy="21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1" y="5"/>
                    </a:moveTo>
                    <a:cubicBezTo>
                      <a:pt x="3" y="3"/>
                      <a:pt x="0" y="2"/>
                      <a:pt x="2" y="0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9" y="2"/>
                      <a:pt x="5" y="0"/>
                      <a:pt x="4" y="1"/>
                    </a:cubicBezTo>
                    <a:cubicBezTo>
                      <a:pt x="2" y="1"/>
                      <a:pt x="3" y="4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2"/>
              <p:cNvSpPr/>
              <p:nvPr/>
            </p:nvSpPr>
            <p:spPr>
              <a:xfrm>
                <a:off x="6228720" y="2184120"/>
                <a:ext cx="19440" cy="180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4"/>
                    </a:moveTo>
                    <a:cubicBezTo>
                      <a:pt x="0" y="3"/>
                      <a:pt x="0" y="2"/>
                      <a:pt x="1" y="3"/>
                    </a:cubicBezTo>
                    <a:cubicBezTo>
                      <a:pt x="2" y="3"/>
                      <a:pt x="2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4" y="2"/>
                      <a:pt x="4" y="2"/>
                      <a:pt x="5" y="3"/>
                    </a:cubicBezTo>
                    <a:cubicBezTo>
                      <a:pt x="2" y="2"/>
                      <a:pt x="2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6464160" y="970560"/>
                <a:ext cx="54720" cy="158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0" y="1"/>
                    </a:moveTo>
                    <a:cubicBezTo>
                      <a:pt x="4" y="1"/>
                      <a:pt x="10" y="2"/>
                      <a:pt x="12" y="0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8" y="2"/>
                      <a:pt x="4" y="2"/>
                      <a:pt x="4" y="4"/>
                    </a:cubicBezTo>
                    <a:cubicBezTo>
                      <a:pt x="5" y="1"/>
                      <a:pt x="1" y="3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>
                <a:off x="2615400" y="885240"/>
                <a:ext cx="33840" cy="21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0" y="4"/>
                    </a:moveTo>
                    <a:cubicBezTo>
                      <a:pt x="2" y="2"/>
                      <a:pt x="4" y="0"/>
                      <a:pt x="8" y="1"/>
                    </a:cubicBezTo>
                    <a:cubicBezTo>
                      <a:pt x="8" y="5"/>
                      <a:pt x="2" y="3"/>
                      <a:pt x="1" y="5"/>
                    </a:cubicBezTo>
                    <a:cubicBezTo>
                      <a:pt x="1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>
                <a:off x="3003480" y="885240"/>
                <a:ext cx="21240" cy="12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1"/>
                    </a:moveTo>
                    <a:cubicBezTo>
                      <a:pt x="5" y="3"/>
                      <a:pt x="2" y="3"/>
                      <a:pt x="0" y="3"/>
                    </a:cubicBezTo>
                    <a:cubicBezTo>
                      <a:pt x="0" y="0"/>
                      <a:pt x="3" y="1"/>
                      <a:pt x="5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>
                <a:off x="3268440" y="888840"/>
                <a:ext cx="33480" cy="21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4"/>
                    </a:moveTo>
                    <a:cubicBezTo>
                      <a:pt x="4" y="5"/>
                      <a:pt x="0" y="1"/>
                      <a:pt x="2" y="0"/>
                    </a:cubicBezTo>
                    <a:cubicBezTo>
                      <a:pt x="4" y="0"/>
                      <a:pt x="4" y="1"/>
                      <a:pt x="5" y="2"/>
                    </a:cubicBezTo>
                    <a:cubicBezTo>
                      <a:pt x="1" y="3"/>
                      <a:pt x="8" y="2"/>
                      <a:pt x="7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3857400" y="885240"/>
                <a:ext cx="3620520" cy="275472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8"/>
              <p:cNvSpPr/>
              <p:nvPr/>
            </p:nvSpPr>
            <p:spPr>
              <a:xfrm>
                <a:off x="6207840" y="2164680"/>
                <a:ext cx="37080" cy="374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2" y="6"/>
                    </a:moveTo>
                    <a:cubicBezTo>
                      <a:pt x="3" y="4"/>
                      <a:pt x="0" y="1"/>
                      <a:pt x="2" y="0"/>
                    </a:cubicBezTo>
                    <a:cubicBezTo>
                      <a:pt x="2" y="4"/>
                      <a:pt x="7" y="3"/>
                      <a:pt x="9" y="6"/>
                    </a:cubicBezTo>
                    <a:cubicBezTo>
                      <a:pt x="8" y="5"/>
                      <a:pt x="6" y="5"/>
                      <a:pt x="6" y="6"/>
                    </a:cubicBezTo>
                    <a:cubicBezTo>
                      <a:pt x="7" y="6"/>
                      <a:pt x="7" y="8"/>
                      <a:pt x="6" y="8"/>
                    </a:cubicBezTo>
                    <a:cubicBezTo>
                      <a:pt x="5" y="7"/>
                      <a:pt x="5" y="8"/>
                      <a:pt x="5" y="9"/>
                    </a:cubicBezTo>
                    <a:cubicBezTo>
                      <a:pt x="1" y="9"/>
                      <a:pt x="4" y="8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9"/>
              <p:cNvSpPr/>
              <p:nvPr/>
            </p:nvSpPr>
            <p:spPr>
              <a:xfrm>
                <a:off x="4380480" y="12484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4" y="7"/>
                    </a:moveTo>
                    <a:cubicBezTo>
                      <a:pt x="3" y="7"/>
                      <a:pt x="1" y="7"/>
                      <a:pt x="0" y="7"/>
                    </a:cubicBezTo>
                    <a:cubicBezTo>
                      <a:pt x="0" y="5"/>
                      <a:pt x="3" y="6"/>
                      <a:pt x="3" y="4"/>
                    </a:cubicBezTo>
                    <a:cubicBezTo>
                      <a:pt x="0" y="4"/>
                      <a:pt x="3" y="3"/>
                      <a:pt x="0" y="2"/>
                    </a:cubicBezTo>
                    <a:cubicBezTo>
                      <a:pt x="0" y="1"/>
                      <a:pt x="2" y="2"/>
                      <a:pt x="2" y="0"/>
                    </a:cubicBezTo>
                    <a:cubicBezTo>
                      <a:pt x="6" y="1"/>
                      <a:pt x="2" y="6"/>
                      <a:pt x="4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1"/>
              <p:cNvSpPr/>
              <p:nvPr/>
            </p:nvSpPr>
            <p:spPr>
              <a:xfrm>
                <a:off x="2594160" y="9028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3"/>
                    </a:moveTo>
                    <a:cubicBezTo>
                      <a:pt x="3" y="4"/>
                      <a:pt x="2" y="0"/>
                      <a:pt x="6" y="1"/>
                    </a:cubicBezTo>
                    <a:cubicBezTo>
                      <a:pt x="5" y="2"/>
                      <a:pt x="6" y="2"/>
                      <a:pt x="6" y="2"/>
                    </a:cubicBezTo>
                    <a:cubicBezTo>
                      <a:pt x="6" y="2"/>
                      <a:pt x="6" y="3"/>
                      <a:pt x="6" y="4"/>
                    </a:cubicBezTo>
                    <a:cubicBezTo>
                      <a:pt x="4" y="4"/>
                      <a:pt x="2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2"/>
              <p:cNvSpPr/>
              <p:nvPr/>
            </p:nvSpPr>
            <p:spPr>
              <a:xfrm>
                <a:off x="2574720" y="919080"/>
                <a:ext cx="28080" cy="176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4"/>
                    </a:moveTo>
                    <a:cubicBezTo>
                      <a:pt x="0" y="1"/>
                      <a:pt x="2" y="1"/>
                      <a:pt x="5" y="2"/>
                    </a:cubicBezTo>
                    <a:cubicBezTo>
                      <a:pt x="4" y="1"/>
                      <a:pt x="4" y="0"/>
                      <a:pt x="5" y="0"/>
                    </a:cubicBezTo>
                    <a:cubicBezTo>
                      <a:pt x="5" y="1"/>
                      <a:pt x="7" y="1"/>
                      <a:pt x="7" y="3"/>
                    </a:cubicBezTo>
                    <a:cubicBezTo>
                      <a:pt x="4" y="2"/>
                      <a:pt x="3" y="3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3"/>
              <p:cNvSpPr/>
              <p:nvPr/>
            </p:nvSpPr>
            <p:spPr>
              <a:xfrm>
                <a:off x="2827080" y="906480"/>
                <a:ext cx="15840" cy="24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4" y="2"/>
                      <a:pt x="3" y="2"/>
                      <a:pt x="4" y="6"/>
                    </a:cubicBezTo>
                    <a:cubicBezTo>
                      <a:pt x="3" y="6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4"/>
                      <a:pt x="2" y="4"/>
                    </a:cubicBezTo>
                    <a:cubicBezTo>
                      <a:pt x="2" y="2"/>
                      <a:pt x="1" y="2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4"/>
              <p:cNvSpPr/>
              <p:nvPr/>
            </p:nvSpPr>
            <p:spPr>
              <a:xfrm>
                <a:off x="2506680" y="902880"/>
                <a:ext cx="114120" cy="194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5">
                    <a:moveTo>
                      <a:pt x="21" y="3"/>
                    </a:moveTo>
                    <a:cubicBezTo>
                      <a:pt x="13" y="2"/>
                      <a:pt x="8" y="5"/>
                      <a:pt x="0" y="5"/>
                    </a:cubicBezTo>
                    <a:cubicBezTo>
                      <a:pt x="6" y="1"/>
                      <a:pt x="18" y="2"/>
                      <a:pt x="26" y="0"/>
                    </a:cubicBezTo>
                    <a:cubicBezTo>
                      <a:pt x="26" y="0"/>
                      <a:pt x="27" y="0"/>
                      <a:pt x="27" y="1"/>
                    </a:cubicBezTo>
                    <a:cubicBezTo>
                      <a:pt x="23" y="0"/>
                      <a:pt x="24" y="4"/>
                      <a:pt x="2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5"/>
              <p:cNvSpPr/>
              <p:nvPr/>
            </p:nvSpPr>
            <p:spPr>
              <a:xfrm>
                <a:off x="2544480" y="915480"/>
                <a:ext cx="42480" cy="15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4"/>
                    </a:moveTo>
                    <a:cubicBezTo>
                      <a:pt x="1" y="2"/>
                      <a:pt x="10" y="0"/>
                      <a:pt x="8" y="2"/>
                    </a:cubicBezTo>
                    <a:cubicBezTo>
                      <a:pt x="5" y="2"/>
                      <a:pt x="4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6"/>
              <p:cNvSpPr/>
              <p:nvPr/>
            </p:nvSpPr>
            <p:spPr>
              <a:xfrm>
                <a:off x="6349680" y="910080"/>
                <a:ext cx="126000" cy="4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12" y="4"/>
                    </a:moveTo>
                    <a:cubicBezTo>
                      <a:pt x="13" y="0"/>
                      <a:pt x="27" y="2"/>
                      <a:pt x="30" y="5"/>
                    </a:cubicBezTo>
                    <a:cubicBezTo>
                      <a:pt x="29" y="11"/>
                      <a:pt x="22" y="5"/>
                      <a:pt x="17" y="7"/>
                    </a:cubicBezTo>
                    <a:cubicBezTo>
                      <a:pt x="12" y="10"/>
                      <a:pt x="0" y="8"/>
                      <a:pt x="0" y="2"/>
                    </a:cubicBezTo>
                    <a:cubicBezTo>
                      <a:pt x="4" y="0"/>
                      <a:pt x="7" y="3"/>
                      <a:pt x="1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7"/>
              <p:cNvSpPr/>
              <p:nvPr/>
            </p:nvSpPr>
            <p:spPr>
              <a:xfrm>
                <a:off x="1315080" y="943920"/>
                <a:ext cx="2175840" cy="317772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8"/>
              <p:cNvSpPr/>
              <p:nvPr/>
            </p:nvSpPr>
            <p:spPr>
              <a:xfrm>
                <a:off x="6008400" y="943920"/>
                <a:ext cx="26280" cy="30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4"/>
                    </a:moveTo>
                    <a:cubicBezTo>
                      <a:pt x="5" y="7"/>
                      <a:pt x="2" y="4"/>
                      <a:pt x="0" y="4"/>
                    </a:cubicBezTo>
                    <a:cubicBezTo>
                      <a:pt x="0" y="3"/>
                      <a:pt x="1" y="4"/>
                      <a:pt x="2" y="3"/>
                    </a:cubicBezTo>
                    <a:cubicBezTo>
                      <a:pt x="5" y="4"/>
                      <a:pt x="3" y="1"/>
                      <a:pt x="3" y="0"/>
                    </a:cubicBezTo>
                    <a:cubicBezTo>
                      <a:pt x="5" y="1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9"/>
              <p:cNvSpPr/>
              <p:nvPr/>
            </p:nvSpPr>
            <p:spPr>
              <a:xfrm>
                <a:off x="6454800" y="952920"/>
                <a:ext cx="58680" cy="248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5"/>
                    </a:moveTo>
                    <a:cubicBezTo>
                      <a:pt x="1" y="5"/>
                      <a:pt x="1" y="5"/>
                      <a:pt x="0" y="5"/>
                    </a:cubicBezTo>
                    <a:cubicBezTo>
                      <a:pt x="2" y="0"/>
                      <a:pt x="9" y="5"/>
                      <a:pt x="14" y="4"/>
                    </a:cubicBezTo>
                    <a:cubicBezTo>
                      <a:pt x="12" y="6"/>
                      <a:pt x="6" y="5"/>
                      <a:pt x="2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0"/>
              <p:cNvSpPr/>
              <p:nvPr/>
            </p:nvSpPr>
            <p:spPr>
              <a:xfrm>
                <a:off x="3096000" y="274140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7" y="0"/>
                    </a:moveTo>
                    <a:cubicBezTo>
                      <a:pt x="7" y="0"/>
                      <a:pt x="8" y="1"/>
                      <a:pt x="7" y="3"/>
                    </a:cubicBezTo>
                    <a:cubicBezTo>
                      <a:pt x="6" y="5"/>
                      <a:pt x="0" y="4"/>
                      <a:pt x="5" y="7"/>
                    </a:cubicBezTo>
                    <a:cubicBezTo>
                      <a:pt x="3" y="7"/>
                      <a:pt x="1" y="10"/>
                      <a:pt x="0" y="7"/>
                    </a:cubicBezTo>
                    <a:cubicBezTo>
                      <a:pt x="1" y="4"/>
                      <a:pt x="4" y="2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1"/>
              <p:cNvSpPr/>
              <p:nvPr/>
            </p:nvSpPr>
            <p:spPr>
              <a:xfrm>
                <a:off x="3458880" y="1002600"/>
                <a:ext cx="45720" cy="30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0"/>
                    </a:moveTo>
                    <a:cubicBezTo>
                      <a:pt x="7" y="1"/>
                      <a:pt x="9" y="3"/>
                      <a:pt x="10" y="7"/>
                    </a:cubicBezTo>
                    <a:cubicBezTo>
                      <a:pt x="9" y="6"/>
                      <a:pt x="8" y="7"/>
                      <a:pt x="8" y="6"/>
                    </a:cubicBezTo>
                    <a:cubicBezTo>
                      <a:pt x="11" y="3"/>
                      <a:pt x="0" y="4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2"/>
              <p:cNvSpPr/>
              <p:nvPr/>
            </p:nvSpPr>
            <p:spPr>
              <a:xfrm>
                <a:off x="3160080" y="1008360"/>
                <a:ext cx="37080" cy="3348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0" y="5"/>
                    </a:moveTo>
                    <a:cubicBezTo>
                      <a:pt x="4" y="0"/>
                      <a:pt x="9" y="8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3"/>
              <p:cNvSpPr/>
              <p:nvPr/>
            </p:nvSpPr>
            <p:spPr>
              <a:xfrm>
                <a:off x="4654440" y="102384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2" y="3"/>
                    </a:moveTo>
                    <a:cubicBezTo>
                      <a:pt x="0" y="0"/>
                      <a:pt x="4" y="2"/>
                      <a:pt x="4" y="0"/>
                    </a:cubicBezTo>
                    <a:cubicBezTo>
                      <a:pt x="6" y="0"/>
                      <a:pt x="4" y="1"/>
                      <a:pt x="3" y="2"/>
                    </a:cubicBezTo>
                    <a:cubicBezTo>
                      <a:pt x="4" y="5"/>
                      <a:pt x="5" y="3"/>
                      <a:pt x="6" y="2"/>
                    </a:cubicBezTo>
                    <a:cubicBezTo>
                      <a:pt x="6" y="4"/>
                      <a:pt x="5" y="5"/>
                      <a:pt x="3" y="4"/>
                    </a:cubicBezTo>
                    <a:cubicBezTo>
                      <a:pt x="3" y="4"/>
                      <a:pt x="3" y="3"/>
                      <a:pt x="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4"/>
              <p:cNvSpPr/>
              <p:nvPr/>
            </p:nvSpPr>
            <p:spPr>
              <a:xfrm>
                <a:off x="5238000" y="1023840"/>
                <a:ext cx="33840" cy="30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6" y="7"/>
                      <a:pt x="2" y="3"/>
                      <a:pt x="0" y="4"/>
                    </a:cubicBezTo>
                    <a:cubicBezTo>
                      <a:pt x="2" y="0"/>
                      <a:pt x="6" y="4"/>
                      <a:pt x="8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5"/>
              <p:cNvSpPr/>
              <p:nvPr/>
            </p:nvSpPr>
            <p:spPr>
              <a:xfrm>
                <a:off x="2692080" y="1041840"/>
                <a:ext cx="83160" cy="338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4" y="6"/>
                    </a:moveTo>
                    <a:cubicBezTo>
                      <a:pt x="2" y="7"/>
                      <a:pt x="1" y="6"/>
                      <a:pt x="0" y="5"/>
                    </a:cubicBezTo>
                    <a:cubicBezTo>
                      <a:pt x="2" y="3"/>
                      <a:pt x="7" y="4"/>
                      <a:pt x="8" y="0"/>
                    </a:cubicBezTo>
                    <a:cubicBezTo>
                      <a:pt x="13" y="0"/>
                      <a:pt x="20" y="8"/>
                      <a:pt x="11" y="7"/>
                    </a:cubicBezTo>
                    <a:cubicBezTo>
                      <a:pt x="8" y="8"/>
                      <a:pt x="6" y="7"/>
                      <a:pt x="4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6"/>
              <p:cNvSpPr/>
              <p:nvPr/>
            </p:nvSpPr>
            <p:spPr>
              <a:xfrm>
                <a:off x="5086440" y="1050480"/>
                <a:ext cx="30240" cy="19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3"/>
                    </a:moveTo>
                    <a:cubicBezTo>
                      <a:pt x="0" y="2"/>
                      <a:pt x="1" y="2"/>
                      <a:pt x="1" y="0"/>
                    </a:cubicBezTo>
                    <a:cubicBezTo>
                      <a:pt x="3" y="0"/>
                      <a:pt x="4" y="2"/>
                      <a:pt x="7" y="1"/>
                    </a:cubicBezTo>
                    <a:cubicBezTo>
                      <a:pt x="7" y="4"/>
                      <a:pt x="2" y="5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7"/>
              <p:cNvSpPr/>
              <p:nvPr/>
            </p:nvSpPr>
            <p:spPr>
              <a:xfrm>
                <a:off x="3045960" y="10580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3"/>
                    </a:moveTo>
                    <a:cubicBezTo>
                      <a:pt x="10" y="4"/>
                      <a:pt x="11" y="0"/>
                      <a:pt x="7" y="1"/>
                    </a:cubicBezTo>
                    <a:cubicBezTo>
                      <a:pt x="8" y="2"/>
                      <a:pt x="11" y="4"/>
                      <a:pt x="7" y="4"/>
                    </a:cubicBezTo>
                    <a:cubicBezTo>
                      <a:pt x="8" y="6"/>
                      <a:pt x="10" y="6"/>
                      <a:pt x="12" y="6"/>
                    </a:cubicBezTo>
                    <a:cubicBezTo>
                      <a:pt x="11" y="8"/>
                      <a:pt x="8" y="9"/>
                      <a:pt x="7" y="7"/>
                    </a:cubicBezTo>
                    <a:cubicBezTo>
                      <a:pt x="7" y="5"/>
                      <a:pt x="6" y="5"/>
                      <a:pt x="6" y="4"/>
                    </a:cubicBezTo>
                    <a:cubicBezTo>
                      <a:pt x="10" y="4"/>
                      <a:pt x="4" y="0"/>
                      <a:pt x="4" y="3"/>
                    </a:cubicBezTo>
                    <a:cubicBezTo>
                      <a:pt x="0" y="2"/>
                      <a:pt x="6" y="2"/>
                      <a:pt x="6" y="0"/>
                    </a:cubicBezTo>
                    <a:cubicBezTo>
                      <a:pt x="10" y="0"/>
                      <a:pt x="11" y="2"/>
                      <a:pt x="1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8"/>
              <p:cNvSpPr/>
              <p:nvPr/>
            </p:nvSpPr>
            <p:spPr>
              <a:xfrm>
                <a:off x="4540680" y="1054080"/>
                <a:ext cx="49320" cy="338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3" y="8"/>
                    </a:moveTo>
                    <a:cubicBezTo>
                      <a:pt x="3" y="6"/>
                      <a:pt x="5" y="6"/>
                      <a:pt x="6" y="6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3" y="4"/>
                      <a:pt x="3" y="0"/>
                      <a:pt x="6" y="0"/>
                    </a:cubicBezTo>
                    <a:cubicBezTo>
                      <a:pt x="4" y="4"/>
                      <a:pt x="7" y="2"/>
                      <a:pt x="10" y="3"/>
                    </a:cubicBezTo>
                    <a:cubicBezTo>
                      <a:pt x="10" y="5"/>
                      <a:pt x="12" y="4"/>
                      <a:pt x="12" y="5"/>
                    </a:cubicBezTo>
                    <a:cubicBezTo>
                      <a:pt x="7" y="4"/>
                      <a:pt x="7" y="8"/>
                      <a:pt x="3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9"/>
              <p:cNvSpPr/>
              <p:nvPr/>
            </p:nvSpPr>
            <p:spPr>
              <a:xfrm>
                <a:off x="2553120" y="1050480"/>
                <a:ext cx="58320" cy="33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7"/>
                    </a:moveTo>
                    <a:cubicBezTo>
                      <a:pt x="11" y="8"/>
                      <a:pt x="10" y="6"/>
                      <a:pt x="8" y="6"/>
                    </a:cubicBezTo>
                    <a:cubicBezTo>
                      <a:pt x="8" y="5"/>
                      <a:pt x="9" y="5"/>
                      <a:pt x="9" y="3"/>
                    </a:cubicBezTo>
                    <a:cubicBezTo>
                      <a:pt x="5" y="3"/>
                      <a:pt x="3" y="3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3" y="1"/>
                      <a:pt x="10" y="0"/>
                      <a:pt x="11" y="4"/>
                    </a:cubicBezTo>
                    <a:cubicBezTo>
                      <a:pt x="10" y="6"/>
                      <a:pt x="13" y="5"/>
                      <a:pt x="14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3883680" y="1125720"/>
                <a:ext cx="24840" cy="176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4" y="3"/>
                      <a:pt x="3" y="4"/>
                      <a:pt x="0" y="4"/>
                    </a:cubicBezTo>
                    <a:cubicBezTo>
                      <a:pt x="2" y="2"/>
                      <a:pt x="3" y="1"/>
                      <a:pt x="5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3"/>
              <p:cNvSpPr/>
              <p:nvPr/>
            </p:nvSpPr>
            <p:spPr>
              <a:xfrm>
                <a:off x="3419640" y="1143360"/>
                <a:ext cx="24840" cy="24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cubicBezTo>
                      <a:pt x="4" y="2"/>
                      <a:pt x="3" y="6"/>
                      <a:pt x="0" y="5"/>
                    </a:cubicBezTo>
                    <a:cubicBezTo>
                      <a:pt x="0" y="4"/>
                      <a:pt x="6" y="0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6"/>
              <p:cNvSpPr/>
              <p:nvPr/>
            </p:nvSpPr>
            <p:spPr>
              <a:xfrm>
                <a:off x="1841400" y="1278720"/>
                <a:ext cx="33840" cy="280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0"/>
                    </a:moveTo>
                    <a:cubicBezTo>
                      <a:pt x="8" y="2"/>
                      <a:pt x="1" y="4"/>
                      <a:pt x="6" y="5"/>
                    </a:cubicBezTo>
                    <a:cubicBezTo>
                      <a:pt x="6" y="6"/>
                      <a:pt x="4" y="6"/>
                      <a:pt x="4" y="7"/>
                    </a:cubicBezTo>
                    <a:cubicBezTo>
                      <a:pt x="0" y="6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7"/>
              <p:cNvSpPr/>
              <p:nvPr/>
            </p:nvSpPr>
            <p:spPr>
              <a:xfrm>
                <a:off x="7221600" y="1282320"/>
                <a:ext cx="24840" cy="15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6" y="4"/>
                      <a:pt x="0" y="4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8"/>
              <p:cNvSpPr/>
              <p:nvPr/>
            </p:nvSpPr>
            <p:spPr>
              <a:xfrm>
                <a:off x="4161600" y="1285920"/>
                <a:ext cx="163800" cy="214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39" h="51">
                    <a:moveTo>
                      <a:pt x="17" y="2"/>
                    </a:moveTo>
                    <a:cubicBezTo>
                      <a:pt x="15" y="4"/>
                      <a:pt x="15" y="6"/>
                      <a:pt x="12" y="6"/>
                    </a:cubicBezTo>
                    <a:cubicBezTo>
                      <a:pt x="12" y="9"/>
                      <a:pt x="16" y="6"/>
                      <a:pt x="19" y="7"/>
                    </a:cubicBezTo>
                    <a:cubicBezTo>
                      <a:pt x="20" y="12"/>
                      <a:pt x="17" y="13"/>
                      <a:pt x="16" y="15"/>
                    </a:cubicBezTo>
                    <a:cubicBezTo>
                      <a:pt x="21" y="21"/>
                      <a:pt x="28" y="25"/>
                      <a:pt x="28" y="35"/>
                    </a:cubicBezTo>
                    <a:cubicBezTo>
                      <a:pt x="31" y="35"/>
                      <a:pt x="31" y="33"/>
                      <a:pt x="34" y="34"/>
                    </a:cubicBezTo>
                    <a:cubicBezTo>
                      <a:pt x="39" y="38"/>
                      <a:pt x="27" y="41"/>
                      <a:pt x="33" y="43"/>
                    </a:cubicBezTo>
                    <a:cubicBezTo>
                      <a:pt x="25" y="50"/>
                      <a:pt x="10" y="45"/>
                      <a:pt x="0" y="51"/>
                    </a:cubicBezTo>
                    <a:cubicBezTo>
                      <a:pt x="4" y="49"/>
                      <a:pt x="5" y="44"/>
                      <a:pt x="12" y="44"/>
                    </a:cubicBezTo>
                    <a:cubicBezTo>
                      <a:pt x="10" y="42"/>
                      <a:pt x="8" y="41"/>
                      <a:pt x="3" y="41"/>
                    </a:cubicBezTo>
                    <a:cubicBezTo>
                      <a:pt x="4" y="38"/>
                      <a:pt x="8" y="39"/>
                      <a:pt x="9" y="36"/>
                    </a:cubicBezTo>
                    <a:cubicBezTo>
                      <a:pt x="7" y="34"/>
                      <a:pt x="8" y="34"/>
                      <a:pt x="7" y="33"/>
                    </a:cubicBezTo>
                    <a:cubicBezTo>
                      <a:pt x="7" y="31"/>
                      <a:pt x="11" y="32"/>
                      <a:pt x="13" y="32"/>
                    </a:cubicBezTo>
                    <a:cubicBezTo>
                      <a:pt x="14" y="32"/>
                      <a:pt x="13" y="29"/>
                      <a:pt x="15" y="28"/>
                    </a:cubicBezTo>
                    <a:cubicBezTo>
                      <a:pt x="14" y="27"/>
                      <a:pt x="12" y="26"/>
                      <a:pt x="13" y="23"/>
                    </a:cubicBezTo>
                    <a:cubicBezTo>
                      <a:pt x="9" y="22"/>
                      <a:pt x="9" y="25"/>
                      <a:pt x="5" y="24"/>
                    </a:cubicBezTo>
                    <a:cubicBezTo>
                      <a:pt x="5" y="22"/>
                      <a:pt x="6" y="20"/>
                      <a:pt x="8" y="18"/>
                    </a:cubicBezTo>
                    <a:cubicBezTo>
                      <a:pt x="7" y="17"/>
                      <a:pt x="2" y="18"/>
                      <a:pt x="5" y="14"/>
                    </a:cubicBezTo>
                    <a:cubicBezTo>
                      <a:pt x="3" y="14"/>
                      <a:pt x="3" y="16"/>
                      <a:pt x="2" y="14"/>
                    </a:cubicBezTo>
                    <a:cubicBezTo>
                      <a:pt x="0" y="13"/>
                      <a:pt x="3" y="13"/>
                      <a:pt x="4" y="12"/>
                    </a:cubicBezTo>
                    <a:cubicBezTo>
                      <a:pt x="3" y="10"/>
                      <a:pt x="2" y="10"/>
                      <a:pt x="0" y="9"/>
                    </a:cubicBezTo>
                    <a:cubicBezTo>
                      <a:pt x="6" y="9"/>
                      <a:pt x="7" y="0"/>
                      <a:pt x="1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9"/>
              <p:cNvSpPr/>
              <p:nvPr/>
            </p:nvSpPr>
            <p:spPr>
              <a:xfrm>
                <a:off x="1508760" y="1294920"/>
                <a:ext cx="33840" cy="21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1"/>
                    </a:moveTo>
                    <a:cubicBezTo>
                      <a:pt x="8" y="3"/>
                      <a:pt x="0" y="5"/>
                      <a:pt x="1" y="2"/>
                    </a:cubicBezTo>
                    <a:cubicBezTo>
                      <a:pt x="4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0"/>
              <p:cNvSpPr/>
              <p:nvPr/>
            </p:nvSpPr>
            <p:spPr>
              <a:xfrm>
                <a:off x="1820160" y="1316160"/>
                <a:ext cx="33840" cy="20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1" y="5"/>
                    </a:moveTo>
                    <a:cubicBezTo>
                      <a:pt x="3" y="3"/>
                      <a:pt x="0" y="0"/>
                      <a:pt x="4" y="0"/>
                    </a:cubicBezTo>
                    <a:cubicBezTo>
                      <a:pt x="4" y="1"/>
                      <a:pt x="3" y="1"/>
                      <a:pt x="3" y="3"/>
                    </a:cubicBezTo>
                    <a:cubicBezTo>
                      <a:pt x="4" y="2"/>
                      <a:pt x="7" y="2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2"/>
                      <a:pt x="8" y="3"/>
                    </a:cubicBezTo>
                    <a:cubicBezTo>
                      <a:pt x="5" y="3"/>
                      <a:pt x="4" y="4"/>
                      <a:pt x="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1"/>
              <p:cNvSpPr/>
              <p:nvPr/>
            </p:nvSpPr>
            <p:spPr>
              <a:xfrm>
                <a:off x="2805840" y="1337040"/>
                <a:ext cx="28440" cy="24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2"/>
                    </a:moveTo>
                    <a:cubicBezTo>
                      <a:pt x="6" y="5"/>
                      <a:pt x="3" y="5"/>
                      <a:pt x="0" y="6"/>
                    </a:cubicBezTo>
                    <a:cubicBezTo>
                      <a:pt x="0" y="3"/>
                      <a:pt x="5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2"/>
              <p:cNvSpPr/>
              <p:nvPr/>
            </p:nvSpPr>
            <p:spPr>
              <a:xfrm>
                <a:off x="1829160" y="1340640"/>
                <a:ext cx="15840" cy="302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2"/>
                    </a:moveTo>
                    <a:cubicBezTo>
                      <a:pt x="1" y="1"/>
                      <a:pt x="3" y="1"/>
                      <a:pt x="2" y="0"/>
                    </a:cubicBezTo>
                    <a:cubicBezTo>
                      <a:pt x="4" y="2"/>
                      <a:pt x="2" y="5"/>
                      <a:pt x="2" y="6"/>
                    </a:cubicBezTo>
                    <a:cubicBezTo>
                      <a:pt x="0" y="7"/>
                      <a:pt x="3" y="2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3"/>
              <p:cNvSpPr/>
              <p:nvPr/>
            </p:nvSpPr>
            <p:spPr>
              <a:xfrm>
                <a:off x="1770480" y="1399680"/>
                <a:ext cx="40680" cy="457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4" y="0"/>
                    </a:moveTo>
                    <a:cubicBezTo>
                      <a:pt x="5" y="0"/>
                      <a:pt x="9" y="3"/>
                      <a:pt x="10" y="0"/>
                    </a:cubicBezTo>
                    <a:cubicBezTo>
                      <a:pt x="10" y="3"/>
                      <a:pt x="2" y="5"/>
                      <a:pt x="3" y="11"/>
                    </a:cubicBezTo>
                    <a:cubicBezTo>
                      <a:pt x="0" y="9"/>
                      <a:pt x="1" y="2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4"/>
              <p:cNvSpPr/>
              <p:nvPr/>
            </p:nvSpPr>
            <p:spPr>
              <a:xfrm>
                <a:off x="1133640" y="1404720"/>
                <a:ext cx="26280" cy="12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6" y="0"/>
                    </a:moveTo>
                    <a:cubicBezTo>
                      <a:pt x="5" y="2"/>
                      <a:pt x="4" y="3"/>
                      <a:pt x="0" y="3"/>
                    </a:cubicBezTo>
                    <a:cubicBezTo>
                      <a:pt x="1" y="2"/>
                      <a:pt x="1" y="1"/>
                      <a:pt x="1" y="0"/>
                    </a:cubicBezTo>
                    <a:cubicBezTo>
                      <a:pt x="3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5"/>
              <p:cNvSpPr/>
              <p:nvPr/>
            </p:nvSpPr>
            <p:spPr>
              <a:xfrm>
                <a:off x="2409120" y="1463760"/>
                <a:ext cx="21240" cy="244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0"/>
                    </a:moveTo>
                    <a:cubicBezTo>
                      <a:pt x="5" y="2"/>
                      <a:pt x="2" y="6"/>
                      <a:pt x="0" y="6"/>
                    </a:cubicBezTo>
                    <a:cubicBezTo>
                      <a:pt x="1" y="4"/>
                      <a:pt x="2" y="2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6"/>
              <p:cNvSpPr/>
              <p:nvPr/>
            </p:nvSpPr>
            <p:spPr>
              <a:xfrm>
                <a:off x="7794720" y="1433520"/>
                <a:ext cx="55080" cy="262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3" h="6">
                    <a:moveTo>
                      <a:pt x="0" y="4"/>
                    </a:moveTo>
                    <a:cubicBezTo>
                      <a:pt x="5" y="0"/>
                      <a:pt x="13" y="6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7"/>
              <p:cNvSpPr/>
              <p:nvPr/>
            </p:nvSpPr>
            <p:spPr>
              <a:xfrm>
                <a:off x="3099600" y="1460160"/>
                <a:ext cx="144000" cy="1260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34" h="30">
                    <a:moveTo>
                      <a:pt x="28" y="0"/>
                    </a:moveTo>
                    <a:cubicBezTo>
                      <a:pt x="25" y="5"/>
                      <a:pt x="21" y="6"/>
                      <a:pt x="18" y="10"/>
                    </a:cubicBezTo>
                    <a:cubicBezTo>
                      <a:pt x="18" y="12"/>
                      <a:pt x="21" y="9"/>
                      <a:pt x="24" y="10"/>
                    </a:cubicBezTo>
                    <a:cubicBezTo>
                      <a:pt x="23" y="11"/>
                      <a:pt x="23" y="12"/>
                      <a:pt x="21" y="12"/>
                    </a:cubicBezTo>
                    <a:cubicBezTo>
                      <a:pt x="24" y="14"/>
                      <a:pt x="26" y="13"/>
                      <a:pt x="31" y="14"/>
                    </a:cubicBezTo>
                    <a:cubicBezTo>
                      <a:pt x="30" y="16"/>
                      <a:pt x="27" y="20"/>
                      <a:pt x="32" y="18"/>
                    </a:cubicBezTo>
                    <a:cubicBezTo>
                      <a:pt x="32" y="21"/>
                      <a:pt x="28" y="20"/>
                      <a:pt x="28" y="22"/>
                    </a:cubicBezTo>
                    <a:cubicBezTo>
                      <a:pt x="28" y="25"/>
                      <a:pt x="30" y="21"/>
                      <a:pt x="30" y="21"/>
                    </a:cubicBezTo>
                    <a:cubicBezTo>
                      <a:pt x="34" y="21"/>
                      <a:pt x="28" y="24"/>
                      <a:pt x="32" y="23"/>
                    </a:cubicBezTo>
                    <a:cubicBezTo>
                      <a:pt x="31" y="27"/>
                      <a:pt x="29" y="29"/>
                      <a:pt x="26" y="30"/>
                    </a:cubicBezTo>
                    <a:cubicBezTo>
                      <a:pt x="26" y="28"/>
                      <a:pt x="25" y="28"/>
                      <a:pt x="24" y="28"/>
                    </a:cubicBezTo>
                    <a:cubicBezTo>
                      <a:pt x="23" y="26"/>
                      <a:pt x="26" y="26"/>
                      <a:pt x="26" y="24"/>
                    </a:cubicBezTo>
                    <a:cubicBezTo>
                      <a:pt x="23" y="24"/>
                      <a:pt x="22" y="28"/>
                      <a:pt x="15" y="28"/>
                    </a:cubicBezTo>
                    <a:cubicBezTo>
                      <a:pt x="16" y="27"/>
                      <a:pt x="18" y="26"/>
                      <a:pt x="20" y="25"/>
                    </a:cubicBezTo>
                    <a:cubicBezTo>
                      <a:pt x="20" y="24"/>
                      <a:pt x="14" y="27"/>
                      <a:pt x="17" y="23"/>
                    </a:cubicBezTo>
                    <a:cubicBezTo>
                      <a:pt x="11" y="23"/>
                      <a:pt x="8" y="26"/>
                      <a:pt x="3" y="25"/>
                    </a:cubicBezTo>
                    <a:cubicBezTo>
                      <a:pt x="0" y="21"/>
                      <a:pt x="8" y="19"/>
                      <a:pt x="4" y="19"/>
                    </a:cubicBezTo>
                    <a:cubicBezTo>
                      <a:pt x="13" y="14"/>
                      <a:pt x="16" y="2"/>
                      <a:pt x="28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8"/>
              <p:cNvSpPr/>
              <p:nvPr/>
            </p:nvSpPr>
            <p:spPr>
              <a:xfrm>
                <a:off x="5785920" y="157752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4" y="3"/>
                    </a:moveTo>
                    <a:cubicBezTo>
                      <a:pt x="2" y="3"/>
                      <a:pt x="1" y="2"/>
                      <a:pt x="0" y="2"/>
                    </a:cubicBezTo>
                    <a:cubicBezTo>
                      <a:pt x="1" y="0"/>
                      <a:pt x="5" y="2"/>
                      <a:pt x="7" y="1"/>
                    </a:cubicBezTo>
                    <a:cubicBezTo>
                      <a:pt x="7" y="3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1"/>
              <p:cNvSpPr/>
              <p:nvPr/>
            </p:nvSpPr>
            <p:spPr>
              <a:xfrm>
                <a:off x="2994480" y="1573920"/>
                <a:ext cx="42120" cy="33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6" y="7"/>
                    </a:moveTo>
                    <a:cubicBezTo>
                      <a:pt x="7" y="4"/>
                      <a:pt x="3" y="5"/>
                      <a:pt x="1" y="5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1" y="5"/>
                      <a:pt x="10" y="1"/>
                      <a:pt x="10" y="5"/>
                    </a:cubicBezTo>
                    <a:cubicBezTo>
                      <a:pt x="7" y="4"/>
                      <a:pt x="9" y="8"/>
                      <a:pt x="6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2"/>
              <p:cNvSpPr/>
              <p:nvPr/>
            </p:nvSpPr>
            <p:spPr>
              <a:xfrm>
                <a:off x="3045960" y="1586520"/>
                <a:ext cx="37440" cy="24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0"/>
                    </a:moveTo>
                    <a:cubicBezTo>
                      <a:pt x="7" y="1"/>
                      <a:pt x="6" y="3"/>
                      <a:pt x="9" y="2"/>
                    </a:cubicBezTo>
                    <a:cubicBezTo>
                      <a:pt x="9" y="5"/>
                      <a:pt x="3" y="3"/>
                      <a:pt x="3" y="6"/>
                    </a:cubicBezTo>
                    <a:cubicBezTo>
                      <a:pt x="2" y="5"/>
                      <a:pt x="2" y="4"/>
                      <a:pt x="0" y="4"/>
                    </a:cubicBezTo>
                    <a:cubicBezTo>
                      <a:pt x="1" y="1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4"/>
              <p:cNvSpPr/>
              <p:nvPr/>
            </p:nvSpPr>
            <p:spPr>
              <a:xfrm>
                <a:off x="7086600" y="1611360"/>
                <a:ext cx="104760" cy="1137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22" y="8"/>
                    </a:moveTo>
                    <a:cubicBezTo>
                      <a:pt x="22" y="11"/>
                      <a:pt x="25" y="11"/>
                      <a:pt x="25" y="14"/>
                    </a:cubicBezTo>
                    <a:cubicBezTo>
                      <a:pt x="23" y="16"/>
                      <a:pt x="19" y="17"/>
                      <a:pt x="19" y="21"/>
                    </a:cubicBezTo>
                    <a:cubicBezTo>
                      <a:pt x="16" y="18"/>
                      <a:pt x="9" y="18"/>
                      <a:pt x="6" y="18"/>
                    </a:cubicBezTo>
                    <a:cubicBezTo>
                      <a:pt x="4" y="19"/>
                      <a:pt x="9" y="21"/>
                      <a:pt x="10" y="22"/>
                    </a:cubicBezTo>
                    <a:cubicBezTo>
                      <a:pt x="6" y="27"/>
                      <a:pt x="1" y="19"/>
                      <a:pt x="1" y="13"/>
                    </a:cubicBezTo>
                    <a:cubicBezTo>
                      <a:pt x="3" y="13"/>
                      <a:pt x="4" y="14"/>
                      <a:pt x="5" y="14"/>
                    </a:cubicBezTo>
                    <a:cubicBezTo>
                      <a:pt x="5" y="8"/>
                      <a:pt x="1" y="6"/>
                      <a:pt x="0" y="0"/>
                    </a:cubicBezTo>
                    <a:cubicBezTo>
                      <a:pt x="7" y="3"/>
                      <a:pt x="13" y="7"/>
                      <a:pt x="22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5"/>
              <p:cNvSpPr/>
              <p:nvPr/>
            </p:nvSpPr>
            <p:spPr>
              <a:xfrm>
                <a:off x="7200360" y="1607760"/>
                <a:ext cx="24840" cy="33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1"/>
                    </a:moveTo>
                    <a:cubicBezTo>
                      <a:pt x="6" y="4"/>
                      <a:pt x="3" y="5"/>
                      <a:pt x="2" y="8"/>
                    </a:cubicBezTo>
                    <a:cubicBezTo>
                      <a:pt x="0" y="6"/>
                      <a:pt x="2" y="0"/>
                      <a:pt x="6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9"/>
              <p:cNvSpPr/>
              <p:nvPr/>
            </p:nvSpPr>
            <p:spPr>
              <a:xfrm>
                <a:off x="7011720" y="1716480"/>
                <a:ext cx="193320" cy="19908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0" y="42"/>
                    </a:moveTo>
                    <a:cubicBezTo>
                      <a:pt x="7" y="42"/>
                      <a:pt x="6" y="42"/>
                      <a:pt x="7" y="45"/>
                    </a:cubicBezTo>
                    <a:cubicBezTo>
                      <a:pt x="4" y="45"/>
                      <a:pt x="1" y="44"/>
                      <a:pt x="0" y="43"/>
                    </a:cubicBezTo>
                    <a:cubicBezTo>
                      <a:pt x="1" y="39"/>
                      <a:pt x="6" y="39"/>
                      <a:pt x="6" y="34"/>
                    </a:cubicBezTo>
                    <a:cubicBezTo>
                      <a:pt x="11" y="34"/>
                      <a:pt x="15" y="34"/>
                      <a:pt x="20" y="34"/>
                    </a:cubicBezTo>
                    <a:cubicBezTo>
                      <a:pt x="22" y="32"/>
                      <a:pt x="22" y="28"/>
                      <a:pt x="22" y="25"/>
                    </a:cubicBezTo>
                    <a:cubicBezTo>
                      <a:pt x="23" y="22"/>
                      <a:pt x="23" y="27"/>
                      <a:pt x="23" y="28"/>
                    </a:cubicBezTo>
                    <a:cubicBezTo>
                      <a:pt x="27" y="27"/>
                      <a:pt x="29" y="23"/>
                      <a:pt x="32" y="20"/>
                    </a:cubicBezTo>
                    <a:cubicBezTo>
                      <a:pt x="32" y="12"/>
                      <a:pt x="26" y="9"/>
                      <a:pt x="27" y="1"/>
                    </a:cubicBezTo>
                    <a:cubicBezTo>
                      <a:pt x="29" y="1"/>
                      <a:pt x="28" y="3"/>
                      <a:pt x="31" y="3"/>
                    </a:cubicBezTo>
                    <a:cubicBezTo>
                      <a:pt x="31" y="0"/>
                      <a:pt x="29" y="1"/>
                      <a:pt x="28" y="0"/>
                    </a:cubicBezTo>
                    <a:cubicBezTo>
                      <a:pt x="34" y="0"/>
                      <a:pt x="40" y="9"/>
                      <a:pt x="41" y="18"/>
                    </a:cubicBezTo>
                    <a:cubicBezTo>
                      <a:pt x="41" y="18"/>
                      <a:pt x="40" y="17"/>
                      <a:pt x="39" y="17"/>
                    </a:cubicBezTo>
                    <a:cubicBezTo>
                      <a:pt x="40" y="24"/>
                      <a:pt x="46" y="31"/>
                      <a:pt x="44" y="37"/>
                    </a:cubicBezTo>
                    <a:cubicBezTo>
                      <a:pt x="41" y="36"/>
                      <a:pt x="40" y="35"/>
                      <a:pt x="39" y="40"/>
                    </a:cubicBezTo>
                    <a:cubicBezTo>
                      <a:pt x="35" y="36"/>
                      <a:pt x="35" y="43"/>
                      <a:pt x="30" y="39"/>
                    </a:cubicBezTo>
                    <a:cubicBezTo>
                      <a:pt x="29" y="41"/>
                      <a:pt x="27" y="43"/>
                      <a:pt x="27" y="47"/>
                    </a:cubicBezTo>
                    <a:cubicBezTo>
                      <a:pt x="24" y="47"/>
                      <a:pt x="22" y="45"/>
                      <a:pt x="21" y="43"/>
                    </a:cubicBezTo>
                    <a:cubicBezTo>
                      <a:pt x="21" y="42"/>
                      <a:pt x="21" y="40"/>
                      <a:pt x="21" y="39"/>
                    </a:cubicBezTo>
                    <a:cubicBezTo>
                      <a:pt x="19" y="40"/>
                      <a:pt x="16" y="38"/>
                      <a:pt x="15" y="40"/>
                    </a:cubicBezTo>
                    <a:cubicBezTo>
                      <a:pt x="12" y="39"/>
                      <a:pt x="13" y="43"/>
                      <a:pt x="10" y="4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90"/>
              <p:cNvSpPr/>
              <p:nvPr/>
            </p:nvSpPr>
            <p:spPr>
              <a:xfrm>
                <a:off x="4426560" y="1716480"/>
                <a:ext cx="33840" cy="583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3" y="14"/>
                    </a:moveTo>
                    <a:cubicBezTo>
                      <a:pt x="0" y="13"/>
                      <a:pt x="3" y="5"/>
                      <a:pt x="1" y="3"/>
                    </a:cubicBezTo>
                    <a:cubicBezTo>
                      <a:pt x="4" y="3"/>
                      <a:pt x="4" y="0"/>
                      <a:pt x="7" y="1"/>
                    </a:cubicBezTo>
                    <a:cubicBezTo>
                      <a:pt x="8" y="7"/>
                      <a:pt x="8" y="13"/>
                      <a:pt x="3" y="1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1"/>
              <p:cNvSpPr/>
              <p:nvPr/>
            </p:nvSpPr>
            <p:spPr>
              <a:xfrm>
                <a:off x="4695120" y="1783800"/>
                <a:ext cx="38880" cy="176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1"/>
                    </a:moveTo>
                    <a:cubicBezTo>
                      <a:pt x="3" y="2"/>
                      <a:pt x="8" y="0"/>
                      <a:pt x="9" y="3"/>
                    </a:cubicBezTo>
                    <a:cubicBezTo>
                      <a:pt x="6" y="3"/>
                      <a:pt x="2" y="2"/>
                      <a:pt x="0" y="4"/>
                    </a:cubicBezTo>
                    <a:cubicBezTo>
                      <a:pt x="1" y="3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2"/>
              <p:cNvSpPr/>
              <p:nvPr/>
            </p:nvSpPr>
            <p:spPr>
              <a:xfrm>
                <a:off x="4935600" y="1855080"/>
                <a:ext cx="45720" cy="38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0" y="6"/>
                    </a:moveTo>
                    <a:cubicBezTo>
                      <a:pt x="0" y="1"/>
                      <a:pt x="6" y="2"/>
                      <a:pt x="9" y="0"/>
                    </a:cubicBezTo>
                    <a:cubicBezTo>
                      <a:pt x="11" y="3"/>
                      <a:pt x="3" y="9"/>
                      <a:pt x="0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3"/>
              <p:cNvSpPr/>
              <p:nvPr/>
            </p:nvSpPr>
            <p:spPr>
              <a:xfrm>
                <a:off x="7052760" y="1881720"/>
                <a:ext cx="46080" cy="280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0" y="3"/>
                    </a:moveTo>
                    <a:cubicBezTo>
                      <a:pt x="3" y="4"/>
                      <a:pt x="2" y="0"/>
                      <a:pt x="5" y="1"/>
                    </a:cubicBezTo>
                    <a:cubicBezTo>
                      <a:pt x="9" y="0"/>
                      <a:pt x="11" y="2"/>
                      <a:pt x="7" y="3"/>
                    </a:cubicBezTo>
                    <a:cubicBezTo>
                      <a:pt x="4" y="2"/>
                      <a:pt x="3" y="7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4"/>
              <p:cNvSpPr/>
              <p:nvPr/>
            </p:nvSpPr>
            <p:spPr>
              <a:xfrm>
                <a:off x="7074000" y="1876680"/>
                <a:ext cx="30240" cy="38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2" y="4"/>
                    </a:moveTo>
                    <a:cubicBezTo>
                      <a:pt x="6" y="3"/>
                      <a:pt x="4" y="1"/>
                      <a:pt x="0" y="2"/>
                    </a:cubicBezTo>
                    <a:cubicBezTo>
                      <a:pt x="1" y="0"/>
                      <a:pt x="4" y="2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2" y="4"/>
                      <a:pt x="7" y="9"/>
                      <a:pt x="3" y="9"/>
                    </a:cubicBezTo>
                    <a:cubicBezTo>
                      <a:pt x="5" y="8"/>
                      <a:pt x="5" y="5"/>
                      <a:pt x="2" y="5"/>
                    </a:cubicBezTo>
                    <a:cubicBezTo>
                      <a:pt x="2" y="5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5"/>
              <p:cNvSpPr/>
              <p:nvPr/>
            </p:nvSpPr>
            <p:spPr>
              <a:xfrm>
                <a:off x="3937680" y="20242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0"/>
                    </a:moveTo>
                    <a:cubicBezTo>
                      <a:pt x="5" y="2"/>
                      <a:pt x="3" y="4"/>
                      <a:pt x="1" y="7"/>
                    </a:cubicBezTo>
                    <a:cubicBezTo>
                      <a:pt x="0" y="5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7"/>
              <p:cNvSpPr/>
              <p:nvPr/>
            </p:nvSpPr>
            <p:spPr>
              <a:xfrm>
                <a:off x="6926400" y="2399400"/>
                <a:ext cx="21240" cy="26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2" y="0"/>
                      <a:pt x="4" y="0"/>
                    </a:cubicBezTo>
                    <a:cubicBezTo>
                      <a:pt x="2" y="2"/>
                      <a:pt x="4" y="3"/>
                      <a:pt x="5" y="5"/>
                    </a:cubicBezTo>
                    <a:cubicBezTo>
                      <a:pt x="4" y="5"/>
                      <a:pt x="3" y="6"/>
                      <a:pt x="2" y="6"/>
                    </a:cubicBezTo>
                    <a:cubicBezTo>
                      <a:pt x="2" y="3"/>
                      <a:pt x="3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8"/>
              <p:cNvSpPr/>
              <p:nvPr/>
            </p:nvSpPr>
            <p:spPr>
              <a:xfrm>
                <a:off x="6935400" y="2395800"/>
                <a:ext cx="49680" cy="424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2" y="1"/>
                    </a:moveTo>
                    <a:cubicBezTo>
                      <a:pt x="3" y="1"/>
                      <a:pt x="7" y="0"/>
                      <a:pt x="6" y="3"/>
                    </a:cubicBezTo>
                    <a:cubicBezTo>
                      <a:pt x="9" y="2"/>
                      <a:pt x="7" y="2"/>
                      <a:pt x="10" y="3"/>
                    </a:cubicBezTo>
                    <a:cubicBezTo>
                      <a:pt x="8" y="6"/>
                      <a:pt x="12" y="7"/>
                      <a:pt x="12" y="10"/>
                    </a:cubicBezTo>
                    <a:cubicBezTo>
                      <a:pt x="11" y="10"/>
                      <a:pt x="8" y="7"/>
                      <a:pt x="7" y="9"/>
                    </a:cubicBezTo>
                    <a:cubicBezTo>
                      <a:pt x="7" y="6"/>
                      <a:pt x="3" y="4"/>
                      <a:pt x="3" y="6"/>
                    </a:cubicBezTo>
                    <a:cubicBezTo>
                      <a:pt x="2" y="4"/>
                      <a:pt x="0" y="3"/>
                      <a:pt x="2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9"/>
              <p:cNvSpPr/>
              <p:nvPr/>
            </p:nvSpPr>
            <p:spPr>
              <a:xfrm>
                <a:off x="6969240" y="243864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6"/>
                    </a:moveTo>
                    <a:cubicBezTo>
                      <a:pt x="4" y="5"/>
                      <a:pt x="1" y="4"/>
                      <a:pt x="0" y="2"/>
                    </a:cubicBezTo>
                    <a:cubicBezTo>
                      <a:pt x="3" y="0"/>
                      <a:pt x="4" y="4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1"/>
              <p:cNvSpPr/>
              <p:nvPr/>
            </p:nvSpPr>
            <p:spPr>
              <a:xfrm>
                <a:off x="6851880" y="2472480"/>
                <a:ext cx="40680" cy="745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0"/>
                    </a:moveTo>
                    <a:cubicBezTo>
                      <a:pt x="10" y="9"/>
                      <a:pt x="4" y="13"/>
                      <a:pt x="0" y="18"/>
                    </a:cubicBezTo>
                    <a:cubicBezTo>
                      <a:pt x="0" y="13"/>
                      <a:pt x="7" y="5"/>
                      <a:pt x="1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3"/>
              <p:cNvSpPr/>
              <p:nvPr/>
            </p:nvSpPr>
            <p:spPr>
              <a:xfrm>
                <a:off x="6953040" y="2467440"/>
                <a:ext cx="95760" cy="1526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6" y="18"/>
                    </a:moveTo>
                    <a:cubicBezTo>
                      <a:pt x="8" y="17"/>
                      <a:pt x="8" y="19"/>
                      <a:pt x="8" y="21"/>
                    </a:cubicBezTo>
                    <a:cubicBezTo>
                      <a:pt x="13" y="21"/>
                      <a:pt x="13" y="15"/>
                      <a:pt x="18" y="15"/>
                    </a:cubicBezTo>
                    <a:cubicBezTo>
                      <a:pt x="16" y="8"/>
                      <a:pt x="12" y="8"/>
                      <a:pt x="10" y="0"/>
                    </a:cubicBezTo>
                    <a:cubicBezTo>
                      <a:pt x="15" y="1"/>
                      <a:pt x="18" y="13"/>
                      <a:pt x="23" y="17"/>
                    </a:cubicBezTo>
                    <a:cubicBezTo>
                      <a:pt x="23" y="21"/>
                      <a:pt x="23" y="26"/>
                      <a:pt x="23" y="30"/>
                    </a:cubicBezTo>
                    <a:cubicBezTo>
                      <a:pt x="21" y="29"/>
                      <a:pt x="21" y="27"/>
                      <a:pt x="21" y="25"/>
                    </a:cubicBezTo>
                    <a:cubicBezTo>
                      <a:pt x="15" y="27"/>
                      <a:pt x="22" y="32"/>
                      <a:pt x="19" y="36"/>
                    </a:cubicBezTo>
                    <a:cubicBezTo>
                      <a:pt x="18" y="33"/>
                      <a:pt x="15" y="32"/>
                      <a:pt x="11" y="32"/>
                    </a:cubicBezTo>
                    <a:cubicBezTo>
                      <a:pt x="11" y="28"/>
                      <a:pt x="12" y="23"/>
                      <a:pt x="8" y="22"/>
                    </a:cubicBezTo>
                    <a:cubicBezTo>
                      <a:pt x="7" y="24"/>
                      <a:pt x="5" y="25"/>
                      <a:pt x="3" y="22"/>
                    </a:cubicBezTo>
                    <a:cubicBezTo>
                      <a:pt x="1" y="23"/>
                      <a:pt x="3" y="28"/>
                      <a:pt x="0" y="27"/>
                    </a:cubicBezTo>
                    <a:cubicBezTo>
                      <a:pt x="0" y="22"/>
                      <a:pt x="3" y="19"/>
                      <a:pt x="6" y="1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4"/>
              <p:cNvSpPr/>
              <p:nvPr/>
            </p:nvSpPr>
            <p:spPr>
              <a:xfrm>
                <a:off x="6645240" y="2581200"/>
                <a:ext cx="247320" cy="2826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59" h="67">
                    <a:moveTo>
                      <a:pt x="59" y="12"/>
                    </a:moveTo>
                    <a:cubicBezTo>
                      <a:pt x="56" y="11"/>
                      <a:pt x="56" y="13"/>
                      <a:pt x="53" y="13"/>
                    </a:cubicBezTo>
                    <a:cubicBezTo>
                      <a:pt x="53" y="15"/>
                      <a:pt x="56" y="14"/>
                      <a:pt x="55" y="17"/>
                    </a:cubicBezTo>
                    <a:cubicBezTo>
                      <a:pt x="53" y="16"/>
                      <a:pt x="52" y="17"/>
                      <a:pt x="51" y="18"/>
                    </a:cubicBezTo>
                    <a:cubicBezTo>
                      <a:pt x="52" y="20"/>
                      <a:pt x="51" y="20"/>
                      <a:pt x="50" y="21"/>
                    </a:cubicBezTo>
                    <a:cubicBezTo>
                      <a:pt x="52" y="27"/>
                      <a:pt x="53" y="33"/>
                      <a:pt x="58" y="36"/>
                    </a:cubicBezTo>
                    <a:cubicBezTo>
                      <a:pt x="55" y="37"/>
                      <a:pt x="52" y="37"/>
                      <a:pt x="51" y="41"/>
                    </a:cubicBezTo>
                    <a:cubicBezTo>
                      <a:pt x="51" y="50"/>
                      <a:pt x="41" y="55"/>
                      <a:pt x="44" y="66"/>
                    </a:cubicBezTo>
                    <a:cubicBezTo>
                      <a:pt x="42" y="62"/>
                      <a:pt x="39" y="67"/>
                      <a:pt x="35" y="67"/>
                    </a:cubicBezTo>
                    <a:cubicBezTo>
                      <a:pt x="34" y="66"/>
                      <a:pt x="34" y="64"/>
                      <a:pt x="34" y="63"/>
                    </a:cubicBezTo>
                    <a:cubicBezTo>
                      <a:pt x="28" y="62"/>
                      <a:pt x="26" y="60"/>
                      <a:pt x="22" y="64"/>
                    </a:cubicBezTo>
                    <a:cubicBezTo>
                      <a:pt x="20" y="61"/>
                      <a:pt x="18" y="59"/>
                      <a:pt x="12" y="60"/>
                    </a:cubicBezTo>
                    <a:cubicBezTo>
                      <a:pt x="11" y="49"/>
                      <a:pt x="0" y="40"/>
                      <a:pt x="8" y="30"/>
                    </a:cubicBezTo>
                    <a:cubicBezTo>
                      <a:pt x="11" y="31"/>
                      <a:pt x="13" y="32"/>
                      <a:pt x="15" y="34"/>
                    </a:cubicBezTo>
                    <a:cubicBezTo>
                      <a:pt x="17" y="32"/>
                      <a:pt x="17" y="28"/>
                      <a:pt x="19" y="25"/>
                    </a:cubicBezTo>
                    <a:cubicBezTo>
                      <a:pt x="30" y="26"/>
                      <a:pt x="29" y="11"/>
                      <a:pt x="39" y="13"/>
                    </a:cubicBezTo>
                    <a:cubicBezTo>
                      <a:pt x="38" y="8"/>
                      <a:pt x="45" y="7"/>
                      <a:pt x="45" y="0"/>
                    </a:cubicBezTo>
                    <a:cubicBezTo>
                      <a:pt x="46" y="1"/>
                      <a:pt x="47" y="1"/>
                      <a:pt x="47" y="0"/>
                    </a:cubicBezTo>
                    <a:cubicBezTo>
                      <a:pt x="50" y="5"/>
                      <a:pt x="55" y="8"/>
                      <a:pt x="59" y="1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5"/>
              <p:cNvSpPr/>
              <p:nvPr/>
            </p:nvSpPr>
            <p:spPr>
              <a:xfrm>
                <a:off x="6766200" y="2943720"/>
                <a:ext cx="38880" cy="21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0" y="3"/>
                    </a:moveTo>
                    <a:cubicBezTo>
                      <a:pt x="1" y="0"/>
                      <a:pt x="5" y="2"/>
                      <a:pt x="4" y="5"/>
                    </a:cubicBezTo>
                    <a:cubicBezTo>
                      <a:pt x="6" y="5"/>
                      <a:pt x="9" y="3"/>
                      <a:pt x="9" y="5"/>
                    </a:cubicBezTo>
                    <a:cubicBezTo>
                      <a:pt x="7" y="5"/>
                      <a:pt x="6" y="5"/>
                      <a:pt x="4" y="5"/>
                    </a:cubicBezTo>
                    <a:cubicBezTo>
                      <a:pt x="3" y="4"/>
                      <a:pt x="4" y="2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6"/>
              <p:cNvSpPr/>
              <p:nvPr/>
            </p:nvSpPr>
            <p:spPr>
              <a:xfrm>
                <a:off x="6358680" y="2620440"/>
                <a:ext cx="243360" cy="2862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58" h="68">
                    <a:moveTo>
                      <a:pt x="58" y="52"/>
                    </a:moveTo>
                    <a:cubicBezTo>
                      <a:pt x="57" y="57"/>
                      <a:pt x="56" y="62"/>
                      <a:pt x="56" y="68"/>
                    </a:cubicBezTo>
                    <a:cubicBezTo>
                      <a:pt x="54" y="67"/>
                      <a:pt x="51" y="64"/>
                      <a:pt x="49" y="68"/>
                    </a:cubicBezTo>
                    <a:cubicBezTo>
                      <a:pt x="39" y="59"/>
                      <a:pt x="30" y="48"/>
                      <a:pt x="24" y="34"/>
                    </a:cubicBezTo>
                    <a:cubicBezTo>
                      <a:pt x="24" y="32"/>
                      <a:pt x="22" y="32"/>
                      <a:pt x="21" y="32"/>
                    </a:cubicBezTo>
                    <a:cubicBezTo>
                      <a:pt x="21" y="25"/>
                      <a:pt x="20" y="20"/>
                      <a:pt x="14" y="20"/>
                    </a:cubicBezTo>
                    <a:cubicBezTo>
                      <a:pt x="13" y="9"/>
                      <a:pt x="1" y="11"/>
                      <a:pt x="0" y="0"/>
                    </a:cubicBezTo>
                    <a:cubicBezTo>
                      <a:pt x="5" y="0"/>
                      <a:pt x="7" y="3"/>
                      <a:pt x="13" y="2"/>
                    </a:cubicBezTo>
                    <a:cubicBezTo>
                      <a:pt x="20" y="14"/>
                      <a:pt x="35" y="23"/>
                      <a:pt x="44" y="30"/>
                    </a:cubicBezTo>
                    <a:cubicBezTo>
                      <a:pt x="45" y="31"/>
                      <a:pt x="47" y="36"/>
                      <a:pt x="44" y="36"/>
                    </a:cubicBezTo>
                    <a:cubicBezTo>
                      <a:pt x="46" y="39"/>
                      <a:pt x="53" y="43"/>
                      <a:pt x="50" y="48"/>
                    </a:cubicBezTo>
                    <a:cubicBezTo>
                      <a:pt x="51" y="51"/>
                      <a:pt x="52" y="45"/>
                      <a:pt x="55" y="47"/>
                    </a:cubicBezTo>
                    <a:cubicBezTo>
                      <a:pt x="56" y="48"/>
                      <a:pt x="56" y="51"/>
                      <a:pt x="58" y="5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7"/>
              <p:cNvSpPr/>
              <p:nvPr/>
            </p:nvSpPr>
            <p:spPr>
              <a:xfrm>
                <a:off x="7070400" y="2703960"/>
                <a:ext cx="37440" cy="835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4" y="0"/>
                    </a:moveTo>
                    <a:cubicBezTo>
                      <a:pt x="6" y="0"/>
                      <a:pt x="5" y="5"/>
                      <a:pt x="4" y="6"/>
                    </a:cubicBezTo>
                    <a:cubicBezTo>
                      <a:pt x="6" y="9"/>
                      <a:pt x="6" y="3"/>
                      <a:pt x="9" y="4"/>
                    </a:cubicBezTo>
                    <a:cubicBezTo>
                      <a:pt x="9" y="8"/>
                      <a:pt x="6" y="8"/>
                      <a:pt x="9" y="12"/>
                    </a:cubicBezTo>
                    <a:cubicBezTo>
                      <a:pt x="3" y="9"/>
                      <a:pt x="5" y="15"/>
                      <a:pt x="7" y="18"/>
                    </a:cubicBezTo>
                    <a:cubicBezTo>
                      <a:pt x="5" y="17"/>
                      <a:pt x="2" y="20"/>
                      <a:pt x="1" y="15"/>
                    </a:cubicBezTo>
                    <a:cubicBezTo>
                      <a:pt x="3" y="15"/>
                      <a:pt x="3" y="16"/>
                      <a:pt x="4" y="16"/>
                    </a:cubicBezTo>
                    <a:cubicBezTo>
                      <a:pt x="4" y="12"/>
                      <a:pt x="0" y="4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8"/>
              <p:cNvSpPr/>
              <p:nvPr/>
            </p:nvSpPr>
            <p:spPr>
              <a:xfrm>
                <a:off x="6960240" y="2869200"/>
                <a:ext cx="21240" cy="320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1"/>
                    </a:moveTo>
                    <a:cubicBezTo>
                      <a:pt x="5" y="4"/>
                      <a:pt x="2" y="4"/>
                      <a:pt x="3" y="8"/>
                    </a:cubicBezTo>
                    <a:cubicBezTo>
                      <a:pt x="0" y="8"/>
                      <a:pt x="0" y="4"/>
                      <a:pt x="1" y="2"/>
                    </a:cubicBezTo>
                    <a:cubicBezTo>
                      <a:pt x="2" y="2"/>
                      <a:pt x="2" y="4"/>
                      <a:pt x="2" y="4"/>
                    </a:cubicBezTo>
                    <a:cubicBezTo>
                      <a:pt x="5" y="5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9"/>
              <p:cNvSpPr/>
              <p:nvPr/>
            </p:nvSpPr>
            <p:spPr>
              <a:xfrm>
                <a:off x="6885720" y="2712600"/>
                <a:ext cx="145440" cy="1940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5" h="46">
                    <a:moveTo>
                      <a:pt x="29" y="5"/>
                    </a:moveTo>
                    <a:cubicBezTo>
                      <a:pt x="32" y="5"/>
                      <a:pt x="31" y="0"/>
                      <a:pt x="35" y="1"/>
                    </a:cubicBezTo>
                    <a:cubicBezTo>
                      <a:pt x="34" y="16"/>
                      <a:pt x="17" y="4"/>
                      <a:pt x="8" y="10"/>
                    </a:cubicBezTo>
                    <a:cubicBezTo>
                      <a:pt x="8" y="14"/>
                      <a:pt x="10" y="16"/>
                      <a:pt x="11" y="19"/>
                    </a:cubicBezTo>
                    <a:cubicBezTo>
                      <a:pt x="15" y="18"/>
                      <a:pt x="21" y="14"/>
                      <a:pt x="25" y="15"/>
                    </a:cubicBezTo>
                    <a:cubicBezTo>
                      <a:pt x="26" y="17"/>
                      <a:pt x="24" y="17"/>
                      <a:pt x="23" y="17"/>
                    </a:cubicBezTo>
                    <a:cubicBezTo>
                      <a:pt x="23" y="18"/>
                      <a:pt x="21" y="18"/>
                      <a:pt x="20" y="19"/>
                    </a:cubicBezTo>
                    <a:cubicBezTo>
                      <a:pt x="17" y="19"/>
                      <a:pt x="18" y="23"/>
                      <a:pt x="15" y="22"/>
                    </a:cubicBezTo>
                    <a:cubicBezTo>
                      <a:pt x="18" y="26"/>
                      <a:pt x="20" y="32"/>
                      <a:pt x="21" y="37"/>
                    </a:cubicBezTo>
                    <a:cubicBezTo>
                      <a:pt x="19" y="38"/>
                      <a:pt x="17" y="40"/>
                      <a:pt x="15" y="40"/>
                    </a:cubicBezTo>
                    <a:cubicBezTo>
                      <a:pt x="13" y="37"/>
                      <a:pt x="14" y="31"/>
                      <a:pt x="12" y="27"/>
                    </a:cubicBezTo>
                    <a:cubicBezTo>
                      <a:pt x="4" y="27"/>
                      <a:pt x="14" y="46"/>
                      <a:pt x="3" y="45"/>
                    </a:cubicBezTo>
                    <a:cubicBezTo>
                      <a:pt x="1" y="42"/>
                      <a:pt x="5" y="39"/>
                      <a:pt x="4" y="34"/>
                    </a:cubicBezTo>
                    <a:cubicBezTo>
                      <a:pt x="3" y="32"/>
                      <a:pt x="1" y="32"/>
                      <a:pt x="0" y="31"/>
                    </a:cubicBezTo>
                    <a:cubicBezTo>
                      <a:pt x="4" y="21"/>
                      <a:pt x="4" y="9"/>
                      <a:pt x="12" y="3"/>
                    </a:cubicBezTo>
                    <a:cubicBezTo>
                      <a:pt x="14" y="4"/>
                      <a:pt x="17" y="4"/>
                      <a:pt x="19" y="5"/>
                    </a:cubicBezTo>
                    <a:cubicBezTo>
                      <a:pt x="20" y="6"/>
                      <a:pt x="28" y="6"/>
                      <a:pt x="29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10"/>
              <p:cNvSpPr/>
              <p:nvPr/>
            </p:nvSpPr>
            <p:spPr>
              <a:xfrm>
                <a:off x="6405120" y="2721600"/>
                <a:ext cx="21240" cy="194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cubicBezTo>
                      <a:pt x="2" y="4"/>
                      <a:pt x="0" y="3"/>
                      <a:pt x="0" y="0"/>
                    </a:cubicBezTo>
                    <a:cubicBezTo>
                      <a:pt x="2" y="1"/>
                      <a:pt x="5" y="1"/>
                      <a:pt x="4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12"/>
              <p:cNvSpPr/>
              <p:nvPr/>
            </p:nvSpPr>
            <p:spPr>
              <a:xfrm>
                <a:off x="7398000" y="2943720"/>
                <a:ext cx="58320" cy="33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2"/>
                    </a:moveTo>
                    <a:cubicBezTo>
                      <a:pt x="10" y="3"/>
                      <a:pt x="7" y="5"/>
                      <a:pt x="6" y="8"/>
                    </a:cubicBezTo>
                    <a:cubicBezTo>
                      <a:pt x="4" y="8"/>
                      <a:pt x="4" y="6"/>
                      <a:pt x="0" y="6"/>
                    </a:cubicBezTo>
                    <a:cubicBezTo>
                      <a:pt x="6" y="7"/>
                      <a:pt x="10" y="0"/>
                      <a:pt x="14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3"/>
              <p:cNvSpPr/>
              <p:nvPr/>
            </p:nvSpPr>
            <p:spPr>
              <a:xfrm>
                <a:off x="7259040" y="2771640"/>
                <a:ext cx="21240" cy="21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cubicBezTo>
                      <a:pt x="2" y="5"/>
                      <a:pt x="1" y="3"/>
                      <a:pt x="0" y="2"/>
                    </a:cubicBezTo>
                    <a:cubicBezTo>
                      <a:pt x="1" y="0"/>
                      <a:pt x="5" y="3"/>
                      <a:pt x="4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14"/>
              <p:cNvSpPr/>
              <p:nvPr/>
            </p:nvSpPr>
            <p:spPr>
              <a:xfrm>
                <a:off x="6438960" y="2780280"/>
                <a:ext cx="12240" cy="24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0"/>
                    </a:moveTo>
                    <a:cubicBezTo>
                      <a:pt x="3" y="0"/>
                      <a:pt x="3" y="3"/>
                      <a:pt x="3" y="6"/>
                    </a:cubicBezTo>
                    <a:cubicBezTo>
                      <a:pt x="1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5"/>
              <p:cNvSpPr/>
              <p:nvPr/>
            </p:nvSpPr>
            <p:spPr>
              <a:xfrm>
                <a:off x="3138840" y="27874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1"/>
                    </a:moveTo>
                    <a:cubicBezTo>
                      <a:pt x="4" y="2"/>
                      <a:pt x="3" y="5"/>
                      <a:pt x="1" y="7"/>
                    </a:cubicBezTo>
                    <a:cubicBezTo>
                      <a:pt x="2" y="4"/>
                      <a:pt x="0" y="4"/>
                      <a:pt x="0" y="2"/>
                    </a:cubicBezTo>
                    <a:cubicBezTo>
                      <a:pt x="3" y="3"/>
                      <a:pt x="4" y="1"/>
                      <a:pt x="5" y="0"/>
                    </a:cubicBezTo>
                    <a:cubicBezTo>
                      <a:pt x="5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6"/>
              <p:cNvSpPr/>
              <p:nvPr/>
            </p:nvSpPr>
            <p:spPr>
              <a:xfrm>
                <a:off x="6586560" y="279612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2" y="4"/>
                    </a:moveTo>
                    <a:cubicBezTo>
                      <a:pt x="2" y="4"/>
                      <a:pt x="1" y="4"/>
                      <a:pt x="0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6" y="0"/>
                      <a:pt x="3" y="7"/>
                      <a:pt x="8" y="6"/>
                    </a:cubicBezTo>
                    <a:cubicBezTo>
                      <a:pt x="7" y="7"/>
                      <a:pt x="8" y="10"/>
                      <a:pt x="6" y="10"/>
                    </a:cubicBezTo>
                    <a:cubicBezTo>
                      <a:pt x="4" y="8"/>
                      <a:pt x="4" y="5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7"/>
              <p:cNvSpPr/>
              <p:nvPr/>
            </p:nvSpPr>
            <p:spPr>
              <a:xfrm>
                <a:off x="6590160" y="281412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3" y="1"/>
                      <a:pt x="3" y="4"/>
                      <a:pt x="5" y="6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1" y="5"/>
                      <a:pt x="1" y="2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8"/>
              <p:cNvSpPr/>
              <p:nvPr/>
            </p:nvSpPr>
            <p:spPr>
              <a:xfrm>
                <a:off x="6632640" y="2826360"/>
                <a:ext cx="21240" cy="12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0"/>
                    </a:moveTo>
                    <a:cubicBezTo>
                      <a:pt x="5" y="1"/>
                      <a:pt x="5" y="2"/>
                      <a:pt x="5" y="3"/>
                    </a:cubicBezTo>
                    <a:cubicBezTo>
                      <a:pt x="2" y="3"/>
                      <a:pt x="1" y="3"/>
                      <a:pt x="0" y="2"/>
                    </a:cubicBezTo>
                    <a:cubicBezTo>
                      <a:pt x="1" y="0"/>
                      <a:pt x="2" y="0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9"/>
              <p:cNvSpPr/>
              <p:nvPr/>
            </p:nvSpPr>
            <p:spPr>
              <a:xfrm>
                <a:off x="7597440" y="2817720"/>
                <a:ext cx="33480" cy="33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6"/>
                    </a:moveTo>
                    <a:cubicBezTo>
                      <a:pt x="6" y="8"/>
                      <a:pt x="0" y="5"/>
                      <a:pt x="0" y="1"/>
                    </a:cubicBezTo>
                    <a:cubicBezTo>
                      <a:pt x="5" y="0"/>
                      <a:pt x="5" y="4"/>
                      <a:pt x="8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20"/>
              <p:cNvSpPr/>
              <p:nvPr/>
            </p:nvSpPr>
            <p:spPr>
              <a:xfrm>
                <a:off x="7677360" y="2885400"/>
                <a:ext cx="28440" cy="493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0"/>
                    </a:moveTo>
                    <a:cubicBezTo>
                      <a:pt x="2" y="4"/>
                      <a:pt x="6" y="7"/>
                      <a:pt x="7" y="12"/>
                    </a:cubicBezTo>
                    <a:cubicBezTo>
                      <a:pt x="5" y="12"/>
                      <a:pt x="0" y="6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22"/>
              <p:cNvSpPr/>
              <p:nvPr/>
            </p:nvSpPr>
            <p:spPr>
              <a:xfrm>
                <a:off x="7718040" y="2922480"/>
                <a:ext cx="21240" cy="27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6"/>
                    </a:moveTo>
                    <a:cubicBezTo>
                      <a:pt x="2" y="6"/>
                      <a:pt x="2" y="3"/>
                      <a:pt x="0" y="2"/>
                    </a:cubicBezTo>
                    <a:cubicBezTo>
                      <a:pt x="1" y="0"/>
                      <a:pt x="5" y="3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3"/>
              <p:cNvSpPr/>
              <p:nvPr/>
            </p:nvSpPr>
            <p:spPr>
              <a:xfrm>
                <a:off x="7150680" y="2940480"/>
                <a:ext cx="28080" cy="24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0"/>
                    </a:moveTo>
                    <a:cubicBezTo>
                      <a:pt x="7" y="0"/>
                      <a:pt x="3" y="6"/>
                      <a:pt x="1" y="6"/>
                    </a:cubicBezTo>
                    <a:cubicBezTo>
                      <a:pt x="0" y="2"/>
                      <a:pt x="3" y="3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24"/>
              <p:cNvSpPr/>
              <p:nvPr/>
            </p:nvSpPr>
            <p:spPr>
              <a:xfrm>
                <a:off x="7764480" y="2949480"/>
                <a:ext cx="24840" cy="24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2"/>
                    </a:moveTo>
                    <a:cubicBezTo>
                      <a:pt x="2" y="0"/>
                      <a:pt x="6" y="3"/>
                      <a:pt x="6" y="6"/>
                    </a:cubicBezTo>
                    <a:cubicBezTo>
                      <a:pt x="3" y="6"/>
                      <a:pt x="2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25"/>
              <p:cNvSpPr/>
              <p:nvPr/>
            </p:nvSpPr>
            <p:spPr>
              <a:xfrm>
                <a:off x="6826680" y="2952720"/>
                <a:ext cx="65520" cy="37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3"/>
                    </a:moveTo>
                    <a:cubicBezTo>
                      <a:pt x="14" y="5"/>
                      <a:pt x="15" y="5"/>
                      <a:pt x="16" y="5"/>
                    </a:cubicBezTo>
                    <a:cubicBezTo>
                      <a:pt x="12" y="8"/>
                      <a:pt x="8" y="6"/>
                      <a:pt x="2" y="8"/>
                    </a:cubicBezTo>
                    <a:cubicBezTo>
                      <a:pt x="0" y="0"/>
                      <a:pt x="11" y="9"/>
                      <a:pt x="8" y="3"/>
                    </a:cubicBezTo>
                    <a:cubicBezTo>
                      <a:pt x="10" y="3"/>
                      <a:pt x="11" y="4"/>
                      <a:pt x="1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6"/>
              <p:cNvSpPr/>
              <p:nvPr/>
            </p:nvSpPr>
            <p:spPr>
              <a:xfrm>
                <a:off x="7806960" y="2965320"/>
                <a:ext cx="15840" cy="37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0" y="0"/>
                    </a:moveTo>
                    <a:cubicBezTo>
                      <a:pt x="3" y="2"/>
                      <a:pt x="3" y="6"/>
                      <a:pt x="4" y="9"/>
                    </a:cubicBezTo>
                    <a:cubicBezTo>
                      <a:pt x="1" y="8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7"/>
              <p:cNvSpPr/>
              <p:nvPr/>
            </p:nvSpPr>
            <p:spPr>
              <a:xfrm>
                <a:off x="6879960" y="2990160"/>
                <a:ext cx="38880" cy="30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7"/>
                    </a:moveTo>
                    <a:cubicBezTo>
                      <a:pt x="6" y="5"/>
                      <a:pt x="1" y="5"/>
                      <a:pt x="0" y="1"/>
                    </a:cubicBezTo>
                    <a:cubicBezTo>
                      <a:pt x="6" y="0"/>
                      <a:pt x="9" y="2"/>
                      <a:pt x="9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8"/>
              <p:cNvSpPr/>
              <p:nvPr/>
            </p:nvSpPr>
            <p:spPr>
              <a:xfrm>
                <a:off x="7782120" y="2990160"/>
                <a:ext cx="28440" cy="21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2"/>
                    </a:moveTo>
                    <a:cubicBezTo>
                      <a:pt x="2" y="0"/>
                      <a:pt x="7" y="2"/>
                      <a:pt x="6" y="5"/>
                    </a:cubicBezTo>
                    <a:cubicBezTo>
                      <a:pt x="3" y="5"/>
                      <a:pt x="3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0"/>
              <p:cNvSpPr/>
              <p:nvPr/>
            </p:nvSpPr>
            <p:spPr>
              <a:xfrm>
                <a:off x="7815960" y="3011760"/>
                <a:ext cx="24840" cy="24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cubicBezTo>
                      <a:pt x="4" y="6"/>
                      <a:pt x="0" y="4"/>
                      <a:pt x="0" y="1"/>
                    </a:cubicBezTo>
                    <a:cubicBezTo>
                      <a:pt x="4" y="0"/>
                      <a:pt x="4" y="3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1"/>
              <p:cNvSpPr/>
              <p:nvPr/>
            </p:nvSpPr>
            <p:spPr>
              <a:xfrm>
                <a:off x="6673680" y="3033000"/>
                <a:ext cx="893160" cy="713160"/>
              </a:xfrm>
              <a:custGeom>
                <a:avLst/>
                <a:gdLst>
                  <a:gd name="textAreaLeft" fmla="*/ 0 w 893160"/>
                  <a:gd name="textAreaRight" fmla="*/ 893520 w 893160"/>
                  <a:gd name="textAreaTop" fmla="*/ 0 h 713160"/>
                  <a:gd name="textAreaBottom" fmla="*/ 713520 h 713160"/>
                </a:gdLst>
                <a:ahLst/>
                <a:rect l="textAreaLeft" t="textAreaTop" r="textAreaRight" b="textAreaBottom"/>
                <a:pathLst>
                  <a:path w="212" h="169">
                    <a:moveTo>
                      <a:pt x="9" y="83"/>
                    </a:moveTo>
                    <a:cubicBezTo>
                      <a:pt x="8" y="76"/>
                      <a:pt x="11" y="71"/>
                      <a:pt x="13" y="66"/>
                    </a:cubicBezTo>
                    <a:cubicBezTo>
                      <a:pt x="14" y="66"/>
                      <a:pt x="15" y="67"/>
                      <a:pt x="15" y="68"/>
                    </a:cubicBezTo>
                    <a:cubicBezTo>
                      <a:pt x="21" y="61"/>
                      <a:pt x="33" y="60"/>
                      <a:pt x="41" y="55"/>
                    </a:cubicBezTo>
                    <a:cubicBezTo>
                      <a:pt x="56" y="55"/>
                      <a:pt x="58" y="42"/>
                      <a:pt x="65" y="33"/>
                    </a:cubicBezTo>
                    <a:cubicBezTo>
                      <a:pt x="67" y="34"/>
                      <a:pt x="65" y="38"/>
                      <a:pt x="69" y="37"/>
                    </a:cubicBezTo>
                    <a:cubicBezTo>
                      <a:pt x="72" y="36"/>
                      <a:pt x="66" y="36"/>
                      <a:pt x="68" y="33"/>
                    </a:cubicBezTo>
                    <a:cubicBezTo>
                      <a:pt x="70" y="32"/>
                      <a:pt x="69" y="31"/>
                      <a:pt x="72" y="32"/>
                    </a:cubicBezTo>
                    <a:cubicBezTo>
                      <a:pt x="77" y="23"/>
                      <a:pt x="80" y="23"/>
                      <a:pt x="88" y="17"/>
                    </a:cubicBezTo>
                    <a:cubicBezTo>
                      <a:pt x="91" y="19"/>
                      <a:pt x="92" y="22"/>
                      <a:pt x="93" y="26"/>
                    </a:cubicBezTo>
                    <a:cubicBezTo>
                      <a:pt x="95" y="23"/>
                      <a:pt x="99" y="23"/>
                      <a:pt x="102" y="25"/>
                    </a:cubicBezTo>
                    <a:cubicBezTo>
                      <a:pt x="101" y="16"/>
                      <a:pt x="107" y="7"/>
                      <a:pt x="119" y="8"/>
                    </a:cubicBezTo>
                    <a:cubicBezTo>
                      <a:pt x="123" y="6"/>
                      <a:pt x="114" y="4"/>
                      <a:pt x="117" y="2"/>
                    </a:cubicBezTo>
                    <a:cubicBezTo>
                      <a:pt x="118" y="2"/>
                      <a:pt x="119" y="2"/>
                      <a:pt x="119" y="1"/>
                    </a:cubicBezTo>
                    <a:cubicBezTo>
                      <a:pt x="123" y="6"/>
                      <a:pt x="136" y="9"/>
                      <a:pt x="140" y="7"/>
                    </a:cubicBezTo>
                    <a:cubicBezTo>
                      <a:pt x="143" y="13"/>
                      <a:pt x="135" y="17"/>
                      <a:pt x="133" y="23"/>
                    </a:cubicBezTo>
                    <a:cubicBezTo>
                      <a:pt x="137" y="31"/>
                      <a:pt x="148" y="34"/>
                      <a:pt x="154" y="41"/>
                    </a:cubicBezTo>
                    <a:cubicBezTo>
                      <a:pt x="167" y="33"/>
                      <a:pt x="164" y="12"/>
                      <a:pt x="170" y="0"/>
                    </a:cubicBezTo>
                    <a:cubicBezTo>
                      <a:pt x="177" y="1"/>
                      <a:pt x="176" y="10"/>
                      <a:pt x="176" y="18"/>
                    </a:cubicBezTo>
                    <a:cubicBezTo>
                      <a:pt x="176" y="21"/>
                      <a:pt x="181" y="19"/>
                      <a:pt x="183" y="21"/>
                    </a:cubicBezTo>
                    <a:cubicBezTo>
                      <a:pt x="181" y="32"/>
                      <a:pt x="188" y="42"/>
                      <a:pt x="185" y="47"/>
                    </a:cubicBezTo>
                    <a:cubicBezTo>
                      <a:pt x="188" y="51"/>
                      <a:pt x="191" y="54"/>
                      <a:pt x="196" y="56"/>
                    </a:cubicBezTo>
                    <a:cubicBezTo>
                      <a:pt x="194" y="61"/>
                      <a:pt x="199" y="62"/>
                      <a:pt x="198" y="68"/>
                    </a:cubicBezTo>
                    <a:cubicBezTo>
                      <a:pt x="199" y="69"/>
                      <a:pt x="201" y="68"/>
                      <a:pt x="203" y="69"/>
                    </a:cubicBezTo>
                    <a:cubicBezTo>
                      <a:pt x="202" y="71"/>
                      <a:pt x="204" y="75"/>
                      <a:pt x="202" y="75"/>
                    </a:cubicBezTo>
                    <a:cubicBezTo>
                      <a:pt x="206" y="78"/>
                      <a:pt x="208" y="82"/>
                      <a:pt x="210" y="87"/>
                    </a:cubicBezTo>
                    <a:cubicBezTo>
                      <a:pt x="211" y="87"/>
                      <a:pt x="212" y="86"/>
                      <a:pt x="212" y="84"/>
                    </a:cubicBezTo>
                    <a:cubicBezTo>
                      <a:pt x="212" y="87"/>
                      <a:pt x="209" y="99"/>
                      <a:pt x="208" y="98"/>
                    </a:cubicBezTo>
                    <a:cubicBezTo>
                      <a:pt x="207" y="99"/>
                      <a:pt x="208" y="100"/>
                      <a:pt x="210" y="100"/>
                    </a:cubicBezTo>
                    <a:cubicBezTo>
                      <a:pt x="202" y="128"/>
                      <a:pt x="177" y="138"/>
                      <a:pt x="165" y="161"/>
                    </a:cubicBezTo>
                    <a:cubicBezTo>
                      <a:pt x="155" y="161"/>
                      <a:pt x="149" y="164"/>
                      <a:pt x="144" y="169"/>
                    </a:cubicBezTo>
                    <a:cubicBezTo>
                      <a:pt x="141" y="165"/>
                      <a:pt x="134" y="163"/>
                      <a:pt x="130" y="168"/>
                    </a:cubicBezTo>
                    <a:cubicBezTo>
                      <a:pt x="126" y="165"/>
                      <a:pt x="121" y="164"/>
                      <a:pt x="117" y="162"/>
                    </a:cubicBezTo>
                    <a:cubicBezTo>
                      <a:pt x="115" y="158"/>
                      <a:pt x="116" y="156"/>
                      <a:pt x="118" y="153"/>
                    </a:cubicBezTo>
                    <a:cubicBezTo>
                      <a:pt x="117" y="151"/>
                      <a:pt x="117" y="147"/>
                      <a:pt x="113" y="149"/>
                    </a:cubicBezTo>
                    <a:cubicBezTo>
                      <a:pt x="114" y="146"/>
                      <a:pt x="117" y="145"/>
                      <a:pt x="117" y="141"/>
                    </a:cubicBezTo>
                    <a:cubicBezTo>
                      <a:pt x="112" y="141"/>
                      <a:pt x="114" y="147"/>
                      <a:pt x="108" y="146"/>
                    </a:cubicBezTo>
                    <a:cubicBezTo>
                      <a:pt x="112" y="142"/>
                      <a:pt x="115" y="138"/>
                      <a:pt x="117" y="133"/>
                    </a:cubicBezTo>
                    <a:cubicBezTo>
                      <a:pt x="114" y="135"/>
                      <a:pt x="106" y="140"/>
                      <a:pt x="102" y="145"/>
                    </a:cubicBezTo>
                    <a:cubicBezTo>
                      <a:pt x="99" y="141"/>
                      <a:pt x="102" y="134"/>
                      <a:pt x="100" y="130"/>
                    </a:cubicBezTo>
                    <a:cubicBezTo>
                      <a:pt x="92" y="116"/>
                      <a:pt x="52" y="129"/>
                      <a:pt x="45" y="138"/>
                    </a:cubicBezTo>
                    <a:cubicBezTo>
                      <a:pt x="24" y="132"/>
                      <a:pt x="12" y="155"/>
                      <a:pt x="0" y="139"/>
                    </a:cubicBezTo>
                    <a:cubicBezTo>
                      <a:pt x="14" y="131"/>
                      <a:pt x="7" y="98"/>
                      <a:pt x="5" y="90"/>
                    </a:cubicBezTo>
                    <a:cubicBezTo>
                      <a:pt x="6" y="91"/>
                      <a:pt x="6" y="92"/>
                      <a:pt x="6" y="93"/>
                    </a:cubicBezTo>
                    <a:cubicBezTo>
                      <a:pt x="8" y="93"/>
                      <a:pt x="7" y="90"/>
                      <a:pt x="7" y="88"/>
                    </a:cubicBezTo>
                    <a:cubicBezTo>
                      <a:pt x="10" y="92"/>
                      <a:pt x="9" y="87"/>
                      <a:pt x="9" y="8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32"/>
              <p:cNvSpPr/>
              <p:nvPr/>
            </p:nvSpPr>
            <p:spPr>
              <a:xfrm>
                <a:off x="7116840" y="3042000"/>
                <a:ext cx="37440" cy="21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3" y="0"/>
                    </a:moveTo>
                    <a:cubicBezTo>
                      <a:pt x="4" y="1"/>
                      <a:pt x="6" y="1"/>
                      <a:pt x="9" y="1"/>
                    </a:cubicBezTo>
                    <a:cubicBezTo>
                      <a:pt x="9" y="5"/>
                      <a:pt x="4" y="4"/>
                      <a:pt x="1" y="5"/>
                    </a:cubicBezTo>
                    <a:cubicBezTo>
                      <a:pt x="0" y="2"/>
                      <a:pt x="4" y="3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3"/>
              <p:cNvSpPr/>
              <p:nvPr/>
            </p:nvSpPr>
            <p:spPr>
              <a:xfrm>
                <a:off x="5184720" y="3063240"/>
                <a:ext cx="166680" cy="3661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40" h="87">
                    <a:moveTo>
                      <a:pt x="37" y="0"/>
                    </a:moveTo>
                    <a:cubicBezTo>
                      <a:pt x="37" y="8"/>
                      <a:pt x="40" y="14"/>
                      <a:pt x="39" y="24"/>
                    </a:cubicBezTo>
                    <a:cubicBezTo>
                      <a:pt x="39" y="24"/>
                      <a:pt x="39" y="22"/>
                      <a:pt x="39" y="22"/>
                    </a:cubicBezTo>
                    <a:cubicBezTo>
                      <a:pt x="32" y="34"/>
                      <a:pt x="30" y="72"/>
                      <a:pt x="17" y="80"/>
                    </a:cubicBezTo>
                    <a:cubicBezTo>
                      <a:pt x="7" y="87"/>
                      <a:pt x="2" y="73"/>
                      <a:pt x="1" y="62"/>
                    </a:cubicBezTo>
                    <a:cubicBezTo>
                      <a:pt x="13" y="54"/>
                      <a:pt x="0" y="20"/>
                      <a:pt x="19" y="23"/>
                    </a:cubicBezTo>
                    <a:cubicBezTo>
                      <a:pt x="23" y="18"/>
                      <a:pt x="30" y="18"/>
                      <a:pt x="28" y="9"/>
                    </a:cubicBezTo>
                    <a:cubicBezTo>
                      <a:pt x="34" y="12"/>
                      <a:pt x="32" y="0"/>
                      <a:pt x="3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4"/>
              <p:cNvSpPr/>
              <p:nvPr/>
            </p:nvSpPr>
            <p:spPr>
              <a:xfrm>
                <a:off x="8194680" y="3162960"/>
                <a:ext cx="19440" cy="338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0" y="5"/>
                    </a:moveTo>
                    <a:cubicBezTo>
                      <a:pt x="1" y="4"/>
                      <a:pt x="1" y="5"/>
                      <a:pt x="2" y="5"/>
                    </a:cubicBezTo>
                    <a:cubicBezTo>
                      <a:pt x="0" y="4"/>
                      <a:pt x="1" y="2"/>
                      <a:pt x="0" y="1"/>
                    </a:cubicBezTo>
                    <a:cubicBezTo>
                      <a:pt x="0" y="0"/>
                      <a:pt x="2" y="1"/>
                      <a:pt x="3" y="1"/>
                    </a:cubicBezTo>
                    <a:cubicBezTo>
                      <a:pt x="2" y="2"/>
                      <a:pt x="5" y="8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5"/>
              <p:cNvSpPr/>
              <p:nvPr/>
            </p:nvSpPr>
            <p:spPr>
              <a:xfrm>
                <a:off x="8173440" y="316836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6" y="1"/>
                      <a:pt x="5" y="3"/>
                      <a:pt x="7" y="4"/>
                    </a:cubicBezTo>
                    <a:cubicBezTo>
                      <a:pt x="6" y="4"/>
                      <a:pt x="6" y="3"/>
                      <a:pt x="5" y="4"/>
                    </a:cubicBezTo>
                    <a:cubicBezTo>
                      <a:pt x="3" y="4"/>
                      <a:pt x="1" y="4"/>
                      <a:pt x="0" y="4"/>
                    </a:cubicBezTo>
                    <a:cubicBezTo>
                      <a:pt x="0" y="2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6"/>
              <p:cNvSpPr/>
              <p:nvPr/>
            </p:nvSpPr>
            <p:spPr>
              <a:xfrm>
                <a:off x="7823160" y="3627360"/>
                <a:ext cx="138600" cy="17784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3" h="42">
                    <a:moveTo>
                      <a:pt x="21" y="13"/>
                    </a:moveTo>
                    <a:cubicBezTo>
                      <a:pt x="23" y="14"/>
                      <a:pt x="22" y="18"/>
                      <a:pt x="21" y="18"/>
                    </a:cubicBezTo>
                    <a:cubicBezTo>
                      <a:pt x="21" y="21"/>
                      <a:pt x="25" y="20"/>
                      <a:pt x="25" y="22"/>
                    </a:cubicBezTo>
                    <a:cubicBezTo>
                      <a:pt x="28" y="21"/>
                      <a:pt x="28" y="18"/>
                      <a:pt x="33" y="19"/>
                    </a:cubicBezTo>
                    <a:cubicBezTo>
                      <a:pt x="24" y="29"/>
                      <a:pt x="12" y="39"/>
                      <a:pt x="0" y="42"/>
                    </a:cubicBezTo>
                    <a:cubicBezTo>
                      <a:pt x="1" y="38"/>
                      <a:pt x="6" y="38"/>
                      <a:pt x="7" y="35"/>
                    </a:cubicBezTo>
                    <a:cubicBezTo>
                      <a:pt x="7" y="31"/>
                      <a:pt x="2" y="33"/>
                      <a:pt x="3" y="29"/>
                    </a:cubicBezTo>
                    <a:cubicBezTo>
                      <a:pt x="16" y="26"/>
                      <a:pt x="16" y="12"/>
                      <a:pt x="15" y="0"/>
                    </a:cubicBezTo>
                    <a:cubicBezTo>
                      <a:pt x="16" y="2"/>
                      <a:pt x="18" y="4"/>
                      <a:pt x="21" y="5"/>
                    </a:cubicBezTo>
                    <a:cubicBezTo>
                      <a:pt x="19" y="7"/>
                      <a:pt x="20" y="12"/>
                      <a:pt x="17" y="14"/>
                    </a:cubicBezTo>
                    <a:cubicBezTo>
                      <a:pt x="19" y="16"/>
                      <a:pt x="21" y="16"/>
                      <a:pt x="21" y="1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7"/>
              <p:cNvSpPr/>
              <p:nvPr/>
            </p:nvSpPr>
            <p:spPr>
              <a:xfrm>
                <a:off x="2763000" y="3915360"/>
                <a:ext cx="24840" cy="28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5"/>
                    </a:moveTo>
                    <a:cubicBezTo>
                      <a:pt x="4" y="5"/>
                      <a:pt x="4" y="6"/>
                      <a:pt x="4" y="7"/>
                    </a:cubicBezTo>
                    <a:cubicBezTo>
                      <a:pt x="0" y="6"/>
                      <a:pt x="6" y="1"/>
                      <a:pt x="3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4" y="3"/>
                      <a:pt x="4" y="4"/>
                    </a:cubicBezTo>
                    <a:cubicBezTo>
                      <a:pt x="5" y="4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8"/>
              <p:cNvSpPr/>
              <p:nvPr/>
            </p:nvSpPr>
            <p:spPr>
              <a:xfrm>
                <a:off x="5604480" y="3977640"/>
                <a:ext cx="38880" cy="30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1" y="2"/>
                    </a:moveTo>
                    <a:cubicBezTo>
                      <a:pt x="4" y="0"/>
                      <a:pt x="4" y="6"/>
                      <a:pt x="9" y="4"/>
                    </a:cubicBezTo>
                    <a:cubicBezTo>
                      <a:pt x="8" y="7"/>
                      <a:pt x="4" y="7"/>
                      <a:pt x="0" y="7"/>
                    </a:cubicBezTo>
                    <a:cubicBezTo>
                      <a:pt x="0" y="5"/>
                      <a:pt x="2" y="5"/>
                      <a:pt x="1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9"/>
              <p:cNvSpPr/>
              <p:nvPr/>
            </p:nvSpPr>
            <p:spPr>
              <a:xfrm>
                <a:off x="3117240" y="405432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0"/>
                    </a:moveTo>
                    <a:cubicBezTo>
                      <a:pt x="4" y="1"/>
                      <a:pt x="2" y="6"/>
                      <a:pt x="0" y="4"/>
                    </a:cubicBezTo>
                    <a:cubicBezTo>
                      <a:pt x="2" y="2"/>
                      <a:pt x="0" y="2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0"/>
              <p:cNvSpPr/>
              <p:nvPr/>
            </p:nvSpPr>
            <p:spPr>
              <a:xfrm>
                <a:off x="3138840" y="4045320"/>
                <a:ext cx="37080" cy="302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7"/>
                    </a:moveTo>
                    <a:cubicBezTo>
                      <a:pt x="1" y="3"/>
                      <a:pt x="3" y="4"/>
                      <a:pt x="1" y="1"/>
                    </a:cubicBezTo>
                    <a:cubicBezTo>
                      <a:pt x="4" y="1"/>
                      <a:pt x="9" y="0"/>
                      <a:pt x="8" y="4"/>
                    </a:cubicBezTo>
                    <a:cubicBezTo>
                      <a:pt x="4" y="3"/>
                      <a:pt x="4" y="7"/>
                      <a:pt x="0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41"/>
              <p:cNvSpPr/>
              <p:nvPr/>
            </p:nvSpPr>
            <p:spPr>
              <a:xfrm>
                <a:off x="2926800" y="4109760"/>
                <a:ext cx="30240" cy="190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2" y="0"/>
                    </a:moveTo>
                    <a:cubicBezTo>
                      <a:pt x="3" y="1"/>
                      <a:pt x="3" y="1"/>
                      <a:pt x="4" y="1"/>
                    </a:cubicBezTo>
                    <a:cubicBezTo>
                      <a:pt x="5" y="3"/>
                      <a:pt x="7" y="3"/>
                      <a:pt x="5" y="5"/>
                    </a:cubicBezTo>
                    <a:cubicBezTo>
                      <a:pt x="5" y="5"/>
                      <a:pt x="4" y="5"/>
                      <a:pt x="3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42"/>
              <p:cNvSpPr/>
              <p:nvPr/>
            </p:nvSpPr>
            <p:spPr>
              <a:xfrm>
                <a:off x="3921480" y="789120"/>
                <a:ext cx="58680" cy="158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0" y="0"/>
                    </a:moveTo>
                    <a:cubicBezTo>
                      <a:pt x="10" y="0"/>
                      <a:pt x="10" y="1"/>
                      <a:pt x="10" y="1"/>
                    </a:cubicBezTo>
                    <a:cubicBezTo>
                      <a:pt x="12" y="1"/>
                      <a:pt x="12" y="2"/>
                      <a:pt x="14" y="2"/>
                    </a:cubicBezTo>
                    <a:cubicBezTo>
                      <a:pt x="13" y="4"/>
                      <a:pt x="9" y="2"/>
                      <a:pt x="6" y="3"/>
                    </a:cubicBezTo>
                    <a:cubicBezTo>
                      <a:pt x="6" y="2"/>
                      <a:pt x="7" y="2"/>
                      <a:pt x="7" y="1"/>
                    </a:cubicBezTo>
                    <a:cubicBezTo>
                      <a:pt x="5" y="1"/>
                      <a:pt x="2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3" y="0"/>
                      <a:pt x="7" y="0"/>
                      <a:pt x="1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43"/>
              <p:cNvSpPr/>
              <p:nvPr/>
            </p:nvSpPr>
            <p:spPr>
              <a:xfrm>
                <a:off x="3761280" y="789120"/>
                <a:ext cx="33840" cy="24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cubicBezTo>
                      <a:pt x="6" y="2"/>
                      <a:pt x="2" y="6"/>
                      <a:pt x="0" y="2"/>
                    </a:cubicBezTo>
                    <a:cubicBezTo>
                      <a:pt x="1" y="0"/>
                      <a:pt x="8" y="1"/>
                      <a:pt x="8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44"/>
              <p:cNvSpPr/>
              <p:nvPr/>
            </p:nvSpPr>
            <p:spPr>
              <a:xfrm>
                <a:off x="3866040" y="796320"/>
                <a:ext cx="64080" cy="8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15" y="0"/>
                    </a:moveTo>
                    <a:cubicBezTo>
                      <a:pt x="11" y="2"/>
                      <a:pt x="6" y="2"/>
                      <a:pt x="0" y="2"/>
                    </a:cubicBezTo>
                    <a:cubicBezTo>
                      <a:pt x="4" y="0"/>
                      <a:pt x="10" y="0"/>
                      <a:pt x="1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45"/>
              <p:cNvSpPr/>
              <p:nvPr/>
            </p:nvSpPr>
            <p:spPr>
              <a:xfrm>
                <a:off x="3992400" y="808920"/>
                <a:ext cx="37440" cy="17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1"/>
                    </a:moveTo>
                    <a:cubicBezTo>
                      <a:pt x="6" y="0"/>
                      <a:pt x="0" y="4"/>
                      <a:pt x="0" y="0"/>
                    </a:cubicBezTo>
                    <a:cubicBezTo>
                      <a:pt x="3" y="0"/>
                      <a:pt x="6" y="0"/>
                      <a:pt x="9" y="0"/>
                    </a:cubicBezTo>
                    <a:cubicBezTo>
                      <a:pt x="9" y="0"/>
                      <a:pt x="9" y="0"/>
                      <a:pt x="9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46"/>
              <p:cNvSpPr/>
              <p:nvPr/>
            </p:nvSpPr>
            <p:spPr>
              <a:xfrm>
                <a:off x="3428640" y="814320"/>
                <a:ext cx="67320" cy="15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4" y="4"/>
                    </a:moveTo>
                    <a:cubicBezTo>
                      <a:pt x="5" y="1"/>
                      <a:pt x="0" y="4"/>
                      <a:pt x="0" y="2"/>
                    </a:cubicBezTo>
                    <a:cubicBezTo>
                      <a:pt x="6" y="1"/>
                      <a:pt x="10" y="0"/>
                      <a:pt x="16" y="1"/>
                    </a:cubicBezTo>
                    <a:cubicBezTo>
                      <a:pt x="13" y="2"/>
                      <a:pt x="7" y="2"/>
                      <a:pt x="4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7"/>
              <p:cNvSpPr/>
              <p:nvPr/>
            </p:nvSpPr>
            <p:spPr>
              <a:xfrm>
                <a:off x="5188320" y="822960"/>
                <a:ext cx="30240" cy="15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2"/>
                    </a:moveTo>
                    <a:cubicBezTo>
                      <a:pt x="6" y="4"/>
                      <a:pt x="2" y="2"/>
                      <a:pt x="0" y="3"/>
                    </a:cubicBezTo>
                    <a:cubicBezTo>
                      <a:pt x="1" y="1"/>
                      <a:pt x="5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48"/>
              <p:cNvSpPr/>
              <p:nvPr/>
            </p:nvSpPr>
            <p:spPr>
              <a:xfrm>
                <a:off x="4042440" y="822960"/>
                <a:ext cx="46080" cy="24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0" y="4"/>
                    </a:moveTo>
                    <a:cubicBezTo>
                      <a:pt x="11" y="0"/>
                      <a:pt x="9" y="6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49"/>
              <p:cNvSpPr/>
              <p:nvPr/>
            </p:nvSpPr>
            <p:spPr>
              <a:xfrm>
                <a:off x="4969080" y="826560"/>
                <a:ext cx="58680" cy="21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2"/>
                    </a:moveTo>
                    <a:cubicBezTo>
                      <a:pt x="10" y="4"/>
                      <a:pt x="5" y="5"/>
                      <a:pt x="0" y="3"/>
                    </a:cubicBezTo>
                    <a:cubicBezTo>
                      <a:pt x="1" y="3"/>
                      <a:pt x="3" y="2"/>
                      <a:pt x="1" y="2"/>
                    </a:cubicBezTo>
                    <a:cubicBezTo>
                      <a:pt x="3" y="0"/>
                      <a:pt x="9" y="3"/>
                      <a:pt x="14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50"/>
              <p:cNvSpPr/>
              <p:nvPr/>
            </p:nvSpPr>
            <p:spPr>
              <a:xfrm>
                <a:off x="5592240" y="817920"/>
                <a:ext cx="126000" cy="4572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17" y="10"/>
                    </a:moveTo>
                    <a:cubicBezTo>
                      <a:pt x="15" y="9"/>
                      <a:pt x="11" y="9"/>
                      <a:pt x="8" y="9"/>
                    </a:cubicBezTo>
                    <a:cubicBezTo>
                      <a:pt x="8" y="8"/>
                      <a:pt x="9" y="8"/>
                      <a:pt x="10" y="6"/>
                    </a:cubicBezTo>
                    <a:cubicBezTo>
                      <a:pt x="6" y="9"/>
                      <a:pt x="0" y="9"/>
                      <a:pt x="0" y="3"/>
                    </a:cubicBezTo>
                    <a:cubicBezTo>
                      <a:pt x="5" y="0"/>
                      <a:pt x="11" y="3"/>
                      <a:pt x="16" y="3"/>
                    </a:cubicBezTo>
                    <a:cubicBezTo>
                      <a:pt x="16" y="10"/>
                      <a:pt x="27" y="5"/>
                      <a:pt x="30" y="9"/>
                    </a:cubicBezTo>
                    <a:cubicBezTo>
                      <a:pt x="27" y="11"/>
                      <a:pt x="21" y="10"/>
                      <a:pt x="17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51"/>
              <p:cNvSpPr/>
              <p:nvPr/>
            </p:nvSpPr>
            <p:spPr>
              <a:xfrm>
                <a:off x="3163320" y="835560"/>
                <a:ext cx="33840" cy="280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1"/>
                      <a:pt x="6" y="3"/>
                      <a:pt x="8" y="2"/>
                    </a:cubicBezTo>
                    <a:cubicBezTo>
                      <a:pt x="6" y="7"/>
                      <a:pt x="4" y="0"/>
                      <a:pt x="0" y="1"/>
                    </a:cubicBezTo>
                    <a:cubicBezTo>
                      <a:pt x="1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52"/>
              <p:cNvSpPr/>
              <p:nvPr/>
            </p:nvSpPr>
            <p:spPr>
              <a:xfrm>
                <a:off x="4568760" y="835560"/>
                <a:ext cx="55080" cy="15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2" y="3"/>
                    </a:moveTo>
                    <a:cubicBezTo>
                      <a:pt x="0" y="0"/>
                      <a:pt x="8" y="2"/>
                      <a:pt x="13" y="1"/>
                    </a:cubicBezTo>
                    <a:cubicBezTo>
                      <a:pt x="13" y="2"/>
                      <a:pt x="12" y="2"/>
                      <a:pt x="11" y="2"/>
                    </a:cubicBezTo>
                    <a:cubicBezTo>
                      <a:pt x="8" y="3"/>
                      <a:pt x="6" y="4"/>
                      <a:pt x="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53"/>
              <p:cNvSpPr/>
              <p:nvPr/>
            </p:nvSpPr>
            <p:spPr>
              <a:xfrm>
                <a:off x="4611600" y="835560"/>
                <a:ext cx="88560" cy="21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3" y="1"/>
                    </a:moveTo>
                    <a:cubicBezTo>
                      <a:pt x="6" y="2"/>
                      <a:pt x="15" y="0"/>
                      <a:pt x="21" y="2"/>
                    </a:cubicBezTo>
                    <a:cubicBezTo>
                      <a:pt x="15" y="5"/>
                      <a:pt x="8" y="5"/>
                      <a:pt x="1" y="5"/>
                    </a:cubicBezTo>
                    <a:cubicBezTo>
                      <a:pt x="1" y="4"/>
                      <a:pt x="3" y="4"/>
                      <a:pt x="5" y="4"/>
                    </a:cubicBezTo>
                    <a:cubicBezTo>
                      <a:pt x="5" y="2"/>
                      <a:pt x="0" y="5"/>
                      <a:pt x="1" y="2"/>
                    </a:cubicBezTo>
                    <a:cubicBezTo>
                      <a:pt x="2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54"/>
              <p:cNvSpPr/>
              <p:nvPr/>
            </p:nvSpPr>
            <p:spPr>
              <a:xfrm>
                <a:off x="4577760" y="842760"/>
                <a:ext cx="55080" cy="262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3" h="6">
                    <a:moveTo>
                      <a:pt x="0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4" y="2"/>
                      <a:pt x="6" y="1"/>
                      <a:pt x="9" y="0"/>
                    </a:cubicBezTo>
                    <a:cubicBezTo>
                      <a:pt x="8" y="3"/>
                      <a:pt x="13" y="0"/>
                      <a:pt x="13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8" y="5"/>
                      <a:pt x="6" y="4"/>
                      <a:pt x="5" y="4"/>
                    </a:cubicBezTo>
                    <a:cubicBezTo>
                      <a:pt x="1" y="6"/>
                      <a:pt x="3" y="2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55"/>
              <p:cNvSpPr/>
              <p:nvPr/>
            </p:nvSpPr>
            <p:spPr>
              <a:xfrm>
                <a:off x="5663160" y="856800"/>
                <a:ext cx="88920" cy="122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" h="3">
                    <a:moveTo>
                      <a:pt x="0" y="1"/>
                    </a:moveTo>
                    <a:cubicBezTo>
                      <a:pt x="4" y="1"/>
                      <a:pt x="10" y="2"/>
                      <a:pt x="13" y="0"/>
                    </a:cubicBezTo>
                    <a:cubicBezTo>
                      <a:pt x="21" y="3"/>
                      <a:pt x="3" y="3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56"/>
              <p:cNvSpPr/>
              <p:nvPr/>
            </p:nvSpPr>
            <p:spPr>
              <a:xfrm>
                <a:off x="4713120" y="856800"/>
                <a:ext cx="37440" cy="154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3"/>
                    </a:moveTo>
                    <a:cubicBezTo>
                      <a:pt x="0" y="0"/>
                      <a:pt x="9" y="0"/>
                      <a:pt x="7" y="3"/>
                    </a:cubicBezTo>
                    <a:cubicBezTo>
                      <a:pt x="5" y="1"/>
                      <a:pt x="4" y="4"/>
                      <a:pt x="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7"/>
              <p:cNvSpPr/>
              <p:nvPr/>
            </p:nvSpPr>
            <p:spPr>
              <a:xfrm>
                <a:off x="2923200" y="869400"/>
                <a:ext cx="64080" cy="24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2" y="6"/>
                    </a:moveTo>
                    <a:cubicBezTo>
                      <a:pt x="9" y="6"/>
                      <a:pt x="6" y="6"/>
                      <a:pt x="2" y="6"/>
                    </a:cubicBezTo>
                    <a:cubicBezTo>
                      <a:pt x="1" y="3"/>
                      <a:pt x="1" y="4"/>
                      <a:pt x="0" y="0"/>
                    </a:cubicBezTo>
                    <a:cubicBezTo>
                      <a:pt x="4" y="0"/>
                      <a:pt x="7" y="0"/>
                      <a:pt x="10" y="0"/>
                    </a:cubicBezTo>
                    <a:cubicBezTo>
                      <a:pt x="15" y="2"/>
                      <a:pt x="7" y="3"/>
                      <a:pt x="9" y="4"/>
                    </a:cubicBezTo>
                    <a:cubicBezTo>
                      <a:pt x="11" y="5"/>
                      <a:pt x="14" y="3"/>
                      <a:pt x="14" y="5"/>
                    </a:cubicBezTo>
                    <a:cubicBezTo>
                      <a:pt x="13" y="5"/>
                      <a:pt x="12" y="5"/>
                      <a:pt x="12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58"/>
              <p:cNvSpPr/>
              <p:nvPr/>
            </p:nvSpPr>
            <p:spPr>
              <a:xfrm>
                <a:off x="2695680" y="872640"/>
                <a:ext cx="63720" cy="3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" h="1">
                    <a:moveTo>
                      <a:pt x="6" y="0"/>
                    </a:moveTo>
                    <a:cubicBezTo>
                      <a:pt x="11" y="0"/>
                      <a:pt x="15" y="1"/>
                      <a:pt x="10" y="1"/>
                    </a:cubicBezTo>
                    <a:cubicBezTo>
                      <a:pt x="8" y="1"/>
                      <a:pt x="0" y="1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60"/>
              <p:cNvSpPr/>
              <p:nvPr/>
            </p:nvSpPr>
            <p:spPr>
              <a:xfrm>
                <a:off x="4513680" y="869400"/>
                <a:ext cx="42480" cy="154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cubicBezTo>
                      <a:pt x="2" y="0"/>
                      <a:pt x="7" y="0"/>
                      <a:pt x="10" y="2"/>
                    </a:cubicBezTo>
                    <a:cubicBezTo>
                      <a:pt x="8" y="4"/>
                      <a:pt x="2" y="2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1"/>
              <p:cNvSpPr/>
              <p:nvPr/>
            </p:nvSpPr>
            <p:spPr>
              <a:xfrm>
                <a:off x="4026240" y="876240"/>
                <a:ext cx="21240" cy="17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2"/>
                    </a:moveTo>
                    <a:cubicBezTo>
                      <a:pt x="0" y="0"/>
                      <a:pt x="5" y="2"/>
                      <a:pt x="5" y="3"/>
                    </a:cubicBezTo>
                    <a:cubicBezTo>
                      <a:pt x="4" y="3"/>
                      <a:pt x="2" y="3"/>
                      <a:pt x="2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2"/>
              <p:cNvSpPr/>
              <p:nvPr/>
            </p:nvSpPr>
            <p:spPr>
              <a:xfrm>
                <a:off x="2780640" y="906480"/>
                <a:ext cx="53640" cy="30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1" y="5"/>
                    </a:moveTo>
                    <a:cubicBezTo>
                      <a:pt x="6" y="4"/>
                      <a:pt x="3" y="7"/>
                      <a:pt x="0" y="4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5" y="0"/>
                      <a:pt x="8" y="1"/>
                      <a:pt x="6" y="4"/>
                    </a:cubicBezTo>
                    <a:cubicBezTo>
                      <a:pt x="10" y="5"/>
                      <a:pt x="8" y="0"/>
                      <a:pt x="11" y="1"/>
                    </a:cubicBezTo>
                    <a:cubicBezTo>
                      <a:pt x="12" y="2"/>
                      <a:pt x="13" y="2"/>
                      <a:pt x="13" y="4"/>
                    </a:cubicBezTo>
                    <a:cubicBezTo>
                      <a:pt x="13" y="4"/>
                      <a:pt x="11" y="4"/>
                      <a:pt x="1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63"/>
              <p:cNvSpPr/>
              <p:nvPr/>
            </p:nvSpPr>
            <p:spPr>
              <a:xfrm>
                <a:off x="5108040" y="906480"/>
                <a:ext cx="218880" cy="1296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2" h="31">
                    <a:moveTo>
                      <a:pt x="16" y="15"/>
                    </a:moveTo>
                    <a:cubicBezTo>
                      <a:pt x="17" y="19"/>
                      <a:pt x="15" y="19"/>
                      <a:pt x="15" y="22"/>
                    </a:cubicBezTo>
                    <a:cubicBezTo>
                      <a:pt x="17" y="26"/>
                      <a:pt x="22" y="26"/>
                      <a:pt x="26" y="28"/>
                    </a:cubicBezTo>
                    <a:cubicBezTo>
                      <a:pt x="23" y="31"/>
                      <a:pt x="18" y="28"/>
                      <a:pt x="11" y="29"/>
                    </a:cubicBezTo>
                    <a:cubicBezTo>
                      <a:pt x="11" y="27"/>
                      <a:pt x="10" y="26"/>
                      <a:pt x="9" y="25"/>
                    </a:cubicBezTo>
                    <a:cubicBezTo>
                      <a:pt x="8" y="29"/>
                      <a:pt x="4" y="23"/>
                      <a:pt x="1" y="23"/>
                    </a:cubicBezTo>
                    <a:cubicBezTo>
                      <a:pt x="8" y="21"/>
                      <a:pt x="0" y="17"/>
                      <a:pt x="8" y="16"/>
                    </a:cubicBezTo>
                    <a:cubicBezTo>
                      <a:pt x="8" y="15"/>
                      <a:pt x="7" y="14"/>
                      <a:pt x="6" y="14"/>
                    </a:cubicBezTo>
                    <a:cubicBezTo>
                      <a:pt x="7" y="13"/>
                      <a:pt x="9" y="12"/>
                      <a:pt x="11" y="12"/>
                    </a:cubicBezTo>
                    <a:cubicBezTo>
                      <a:pt x="9" y="11"/>
                      <a:pt x="12" y="8"/>
                      <a:pt x="10" y="8"/>
                    </a:cubicBezTo>
                    <a:cubicBezTo>
                      <a:pt x="21" y="2"/>
                      <a:pt x="38" y="0"/>
                      <a:pt x="52" y="1"/>
                    </a:cubicBezTo>
                    <a:cubicBezTo>
                      <a:pt x="41" y="7"/>
                      <a:pt x="25" y="7"/>
                      <a:pt x="16" y="1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4"/>
              <p:cNvSpPr/>
              <p:nvPr/>
            </p:nvSpPr>
            <p:spPr>
              <a:xfrm>
                <a:off x="2868120" y="922680"/>
                <a:ext cx="51480" cy="21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4"/>
                    </a:moveTo>
                    <a:cubicBezTo>
                      <a:pt x="2" y="1"/>
                      <a:pt x="6" y="0"/>
                      <a:pt x="12" y="1"/>
                    </a:cubicBezTo>
                    <a:cubicBezTo>
                      <a:pt x="10" y="5"/>
                      <a:pt x="5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65"/>
              <p:cNvSpPr/>
              <p:nvPr/>
            </p:nvSpPr>
            <p:spPr>
              <a:xfrm>
                <a:off x="4035240" y="928080"/>
                <a:ext cx="12240" cy="158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1" y="4"/>
                      <a:pt x="1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2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6"/>
              <p:cNvSpPr/>
              <p:nvPr/>
            </p:nvSpPr>
            <p:spPr>
              <a:xfrm>
                <a:off x="2346840" y="940320"/>
                <a:ext cx="370080" cy="135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8" h="32">
                    <a:moveTo>
                      <a:pt x="49" y="29"/>
                    </a:moveTo>
                    <a:cubicBezTo>
                      <a:pt x="42" y="30"/>
                      <a:pt x="35" y="32"/>
                      <a:pt x="26" y="32"/>
                    </a:cubicBezTo>
                    <a:cubicBezTo>
                      <a:pt x="25" y="30"/>
                      <a:pt x="28" y="30"/>
                      <a:pt x="28" y="28"/>
                    </a:cubicBezTo>
                    <a:cubicBezTo>
                      <a:pt x="26" y="26"/>
                      <a:pt x="20" y="28"/>
                      <a:pt x="17" y="26"/>
                    </a:cubicBezTo>
                    <a:cubicBezTo>
                      <a:pt x="21" y="18"/>
                      <a:pt x="35" y="26"/>
                      <a:pt x="42" y="23"/>
                    </a:cubicBezTo>
                    <a:cubicBezTo>
                      <a:pt x="38" y="19"/>
                      <a:pt x="28" y="21"/>
                      <a:pt x="21" y="21"/>
                    </a:cubicBezTo>
                    <a:cubicBezTo>
                      <a:pt x="21" y="16"/>
                      <a:pt x="28" y="18"/>
                      <a:pt x="32" y="18"/>
                    </a:cubicBezTo>
                    <a:cubicBezTo>
                      <a:pt x="30" y="16"/>
                      <a:pt x="24" y="18"/>
                      <a:pt x="22" y="16"/>
                    </a:cubicBezTo>
                    <a:cubicBezTo>
                      <a:pt x="23" y="13"/>
                      <a:pt x="27" y="14"/>
                      <a:pt x="29" y="13"/>
                    </a:cubicBezTo>
                    <a:cubicBezTo>
                      <a:pt x="20" y="10"/>
                      <a:pt x="12" y="17"/>
                      <a:pt x="4" y="19"/>
                    </a:cubicBezTo>
                    <a:cubicBezTo>
                      <a:pt x="4" y="16"/>
                      <a:pt x="3" y="14"/>
                      <a:pt x="0" y="14"/>
                    </a:cubicBezTo>
                    <a:cubicBezTo>
                      <a:pt x="5" y="8"/>
                      <a:pt x="18" y="11"/>
                      <a:pt x="19" y="1"/>
                    </a:cubicBezTo>
                    <a:cubicBezTo>
                      <a:pt x="31" y="0"/>
                      <a:pt x="36" y="6"/>
                      <a:pt x="46" y="3"/>
                    </a:cubicBezTo>
                    <a:cubicBezTo>
                      <a:pt x="46" y="7"/>
                      <a:pt x="52" y="7"/>
                      <a:pt x="49" y="10"/>
                    </a:cubicBezTo>
                    <a:cubicBezTo>
                      <a:pt x="53" y="10"/>
                      <a:pt x="60" y="11"/>
                      <a:pt x="65" y="9"/>
                    </a:cubicBezTo>
                    <a:cubicBezTo>
                      <a:pt x="67" y="12"/>
                      <a:pt x="66" y="13"/>
                      <a:pt x="65" y="16"/>
                    </a:cubicBezTo>
                    <a:cubicBezTo>
                      <a:pt x="69" y="14"/>
                      <a:pt x="71" y="9"/>
                      <a:pt x="74" y="6"/>
                    </a:cubicBezTo>
                    <a:cubicBezTo>
                      <a:pt x="78" y="9"/>
                      <a:pt x="83" y="3"/>
                      <a:pt x="88" y="6"/>
                    </a:cubicBezTo>
                    <a:cubicBezTo>
                      <a:pt x="82" y="9"/>
                      <a:pt x="78" y="13"/>
                      <a:pt x="75" y="18"/>
                    </a:cubicBezTo>
                    <a:cubicBezTo>
                      <a:pt x="76" y="23"/>
                      <a:pt x="82" y="22"/>
                      <a:pt x="82" y="24"/>
                    </a:cubicBezTo>
                    <a:cubicBezTo>
                      <a:pt x="79" y="27"/>
                      <a:pt x="76" y="23"/>
                      <a:pt x="70" y="25"/>
                    </a:cubicBezTo>
                    <a:cubicBezTo>
                      <a:pt x="70" y="28"/>
                      <a:pt x="74" y="26"/>
                      <a:pt x="75" y="26"/>
                    </a:cubicBezTo>
                    <a:cubicBezTo>
                      <a:pt x="75" y="29"/>
                      <a:pt x="72" y="28"/>
                      <a:pt x="72" y="31"/>
                    </a:cubicBezTo>
                    <a:cubicBezTo>
                      <a:pt x="69" y="30"/>
                      <a:pt x="64" y="30"/>
                      <a:pt x="60" y="30"/>
                    </a:cubicBezTo>
                    <a:cubicBezTo>
                      <a:pt x="59" y="26"/>
                      <a:pt x="52" y="27"/>
                      <a:pt x="49" y="2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7"/>
              <p:cNvSpPr/>
              <p:nvPr/>
            </p:nvSpPr>
            <p:spPr>
              <a:xfrm>
                <a:off x="6001200" y="943920"/>
                <a:ext cx="28440" cy="17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3"/>
                    </a:moveTo>
                    <a:cubicBezTo>
                      <a:pt x="4" y="1"/>
                      <a:pt x="0" y="4"/>
                      <a:pt x="1" y="0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7" y="4"/>
                      <a:pt x="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8"/>
              <p:cNvSpPr/>
              <p:nvPr/>
            </p:nvSpPr>
            <p:spPr>
              <a:xfrm>
                <a:off x="5382000" y="96552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5"/>
                    </a:moveTo>
                    <a:cubicBezTo>
                      <a:pt x="1" y="3"/>
                      <a:pt x="1" y="0"/>
                      <a:pt x="5" y="0"/>
                    </a:cubicBezTo>
                    <a:cubicBezTo>
                      <a:pt x="6" y="3"/>
                      <a:pt x="2" y="2"/>
                      <a:pt x="2" y="4"/>
                    </a:cubicBezTo>
                    <a:cubicBezTo>
                      <a:pt x="1" y="4"/>
                      <a:pt x="1" y="5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9"/>
              <p:cNvSpPr/>
              <p:nvPr/>
            </p:nvSpPr>
            <p:spPr>
              <a:xfrm>
                <a:off x="3903480" y="961920"/>
                <a:ext cx="58320" cy="460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12" y="8"/>
                    </a:moveTo>
                    <a:cubicBezTo>
                      <a:pt x="10" y="11"/>
                      <a:pt x="7" y="7"/>
                      <a:pt x="3" y="8"/>
                    </a:cubicBezTo>
                    <a:cubicBezTo>
                      <a:pt x="5" y="7"/>
                      <a:pt x="6" y="7"/>
                      <a:pt x="5" y="3"/>
                    </a:cubicBezTo>
                    <a:cubicBezTo>
                      <a:pt x="2" y="3"/>
                      <a:pt x="2" y="5"/>
                      <a:pt x="0" y="3"/>
                    </a:cubicBezTo>
                    <a:cubicBezTo>
                      <a:pt x="1" y="0"/>
                      <a:pt x="14" y="4"/>
                      <a:pt x="7" y="4"/>
                    </a:cubicBezTo>
                    <a:cubicBezTo>
                      <a:pt x="7" y="7"/>
                      <a:pt x="9" y="8"/>
                      <a:pt x="12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0"/>
              <p:cNvSpPr/>
              <p:nvPr/>
            </p:nvSpPr>
            <p:spPr>
              <a:xfrm>
                <a:off x="5499360" y="1008360"/>
                <a:ext cx="51480" cy="154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0" y="0"/>
                    </a:moveTo>
                    <a:cubicBezTo>
                      <a:pt x="4" y="1"/>
                      <a:pt x="9" y="2"/>
                      <a:pt x="12" y="4"/>
                    </a:cubicBezTo>
                    <a:cubicBezTo>
                      <a:pt x="7" y="4"/>
                      <a:pt x="3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1"/>
              <p:cNvSpPr/>
              <p:nvPr/>
            </p:nvSpPr>
            <p:spPr>
              <a:xfrm>
                <a:off x="3869640" y="103284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1"/>
                    </a:moveTo>
                    <a:cubicBezTo>
                      <a:pt x="4" y="0"/>
                      <a:pt x="1" y="3"/>
                      <a:pt x="0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"/>
              <p:cNvSpPr/>
              <p:nvPr/>
            </p:nvSpPr>
            <p:spPr>
              <a:xfrm>
                <a:off x="2300760" y="103644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1"/>
                    </a:moveTo>
                    <a:cubicBezTo>
                      <a:pt x="0" y="0"/>
                      <a:pt x="3" y="0"/>
                      <a:pt x="4" y="0"/>
                    </a:cubicBezTo>
                    <a:cubicBezTo>
                      <a:pt x="6" y="3"/>
                      <a:pt x="1" y="0"/>
                      <a:pt x="3" y="3"/>
                    </a:cubicBezTo>
                    <a:cubicBezTo>
                      <a:pt x="2" y="4"/>
                      <a:pt x="2" y="5"/>
                      <a:pt x="1" y="4"/>
                    </a:cubicBezTo>
                    <a:cubicBezTo>
                      <a:pt x="1" y="3"/>
                      <a:pt x="2" y="3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3"/>
              <p:cNvSpPr/>
              <p:nvPr/>
            </p:nvSpPr>
            <p:spPr>
              <a:xfrm>
                <a:off x="6990480" y="1036440"/>
                <a:ext cx="33840" cy="176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1" y="3"/>
                    </a:moveTo>
                    <a:cubicBezTo>
                      <a:pt x="0" y="0"/>
                      <a:pt x="8" y="1"/>
                      <a:pt x="8" y="2"/>
                    </a:cubicBezTo>
                    <a:cubicBezTo>
                      <a:pt x="8" y="3"/>
                      <a:pt x="8" y="4"/>
                      <a:pt x="8" y="4"/>
                    </a:cubicBezTo>
                    <a:cubicBezTo>
                      <a:pt x="7" y="3"/>
                      <a:pt x="4" y="3"/>
                      <a:pt x="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4"/>
              <p:cNvSpPr/>
              <p:nvPr/>
            </p:nvSpPr>
            <p:spPr>
              <a:xfrm>
                <a:off x="2704680" y="1066680"/>
                <a:ext cx="33840" cy="12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1" y="0"/>
                    </a:moveTo>
                    <a:cubicBezTo>
                      <a:pt x="3" y="1"/>
                      <a:pt x="5" y="2"/>
                      <a:pt x="8" y="1"/>
                    </a:cubicBezTo>
                    <a:cubicBezTo>
                      <a:pt x="8" y="3"/>
                      <a:pt x="7" y="3"/>
                      <a:pt x="5" y="2"/>
                    </a:cubicBezTo>
                    <a:cubicBezTo>
                      <a:pt x="4" y="2"/>
                      <a:pt x="2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5"/>
              <p:cNvSpPr/>
              <p:nvPr/>
            </p:nvSpPr>
            <p:spPr>
              <a:xfrm>
                <a:off x="3024720" y="1075680"/>
                <a:ext cx="49320" cy="248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3"/>
                    </a:moveTo>
                    <a:cubicBezTo>
                      <a:pt x="10" y="5"/>
                      <a:pt x="6" y="6"/>
                      <a:pt x="0" y="6"/>
                    </a:cubicBezTo>
                    <a:cubicBezTo>
                      <a:pt x="2" y="2"/>
                      <a:pt x="5" y="0"/>
                      <a:pt x="11" y="0"/>
                    </a:cubicBezTo>
                    <a:cubicBezTo>
                      <a:pt x="11" y="1"/>
                      <a:pt x="12" y="1"/>
                      <a:pt x="1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6"/>
              <p:cNvSpPr/>
              <p:nvPr/>
            </p:nvSpPr>
            <p:spPr>
              <a:xfrm>
                <a:off x="7280640" y="1150200"/>
                <a:ext cx="54720" cy="14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3" h="3">
                    <a:moveTo>
                      <a:pt x="13" y="3"/>
                    </a:moveTo>
                    <a:cubicBezTo>
                      <a:pt x="8" y="3"/>
                      <a:pt x="3" y="3"/>
                      <a:pt x="0" y="0"/>
                    </a:cubicBezTo>
                    <a:cubicBezTo>
                      <a:pt x="5" y="0"/>
                      <a:pt x="7" y="2"/>
                      <a:pt x="12" y="1"/>
                    </a:cubicBezTo>
                    <a:cubicBezTo>
                      <a:pt x="12" y="2"/>
                      <a:pt x="13" y="2"/>
                      <a:pt x="1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7"/>
              <p:cNvSpPr/>
              <p:nvPr/>
            </p:nvSpPr>
            <p:spPr>
              <a:xfrm>
                <a:off x="7520760" y="1168560"/>
                <a:ext cx="46080" cy="244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4"/>
                    </a:moveTo>
                    <a:cubicBezTo>
                      <a:pt x="9" y="6"/>
                      <a:pt x="3" y="4"/>
                      <a:pt x="0" y="3"/>
                    </a:cubicBezTo>
                    <a:cubicBezTo>
                      <a:pt x="3" y="0"/>
                      <a:pt x="8" y="4"/>
                      <a:pt x="11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8"/>
              <p:cNvSpPr/>
              <p:nvPr/>
            </p:nvSpPr>
            <p:spPr>
              <a:xfrm>
                <a:off x="2886120" y="1210680"/>
                <a:ext cx="28080" cy="158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5" y="2"/>
                      <a:pt x="4" y="4"/>
                      <a:pt x="1" y="4"/>
                    </a:cubicBezTo>
                    <a:cubicBezTo>
                      <a:pt x="0" y="0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9"/>
              <p:cNvSpPr/>
              <p:nvPr/>
            </p:nvSpPr>
            <p:spPr>
              <a:xfrm>
                <a:off x="3142440" y="1218240"/>
                <a:ext cx="30240" cy="26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0" y="1"/>
                    </a:moveTo>
                    <a:cubicBezTo>
                      <a:pt x="1" y="1"/>
                      <a:pt x="2" y="1"/>
                      <a:pt x="2" y="0"/>
                    </a:cubicBezTo>
                    <a:cubicBezTo>
                      <a:pt x="7" y="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80"/>
              <p:cNvSpPr/>
              <p:nvPr/>
            </p:nvSpPr>
            <p:spPr>
              <a:xfrm>
                <a:off x="1318680" y="1248480"/>
                <a:ext cx="33480" cy="21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0" y="1"/>
                    </a:moveTo>
                    <a:cubicBezTo>
                      <a:pt x="3" y="2"/>
                      <a:pt x="8" y="0"/>
                      <a:pt x="7" y="3"/>
                    </a:cubicBezTo>
                    <a:cubicBezTo>
                      <a:pt x="5" y="3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81"/>
              <p:cNvSpPr/>
              <p:nvPr/>
            </p:nvSpPr>
            <p:spPr>
              <a:xfrm>
                <a:off x="4673880" y="1285920"/>
                <a:ext cx="30240" cy="26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6" y="2"/>
                      <a:pt x="7" y="2"/>
                      <a:pt x="7" y="4"/>
                    </a:cubicBezTo>
                    <a:cubicBezTo>
                      <a:pt x="5" y="4"/>
                      <a:pt x="2" y="3"/>
                      <a:pt x="3" y="6"/>
                    </a:cubicBezTo>
                    <a:cubicBezTo>
                      <a:pt x="1" y="6"/>
                      <a:pt x="0" y="2"/>
                      <a:pt x="3" y="3"/>
                    </a:cubicBezTo>
                    <a:cubicBezTo>
                      <a:pt x="3" y="2"/>
                      <a:pt x="3" y="1"/>
                      <a:pt x="2" y="1"/>
                    </a:cubicBezTo>
                    <a:cubicBezTo>
                      <a:pt x="2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82"/>
              <p:cNvSpPr/>
              <p:nvPr/>
            </p:nvSpPr>
            <p:spPr>
              <a:xfrm>
                <a:off x="4152600" y="1297800"/>
                <a:ext cx="21240" cy="18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0"/>
                    </a:moveTo>
                    <a:cubicBezTo>
                      <a:pt x="5" y="3"/>
                      <a:pt x="3" y="3"/>
                      <a:pt x="0" y="4"/>
                    </a:cubicBezTo>
                    <a:cubicBezTo>
                      <a:pt x="0" y="1"/>
                      <a:pt x="3" y="1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83"/>
              <p:cNvSpPr/>
              <p:nvPr/>
            </p:nvSpPr>
            <p:spPr>
              <a:xfrm>
                <a:off x="1206360" y="1379880"/>
                <a:ext cx="37080" cy="122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7" y="2"/>
                      <a:pt x="2" y="2"/>
                      <a:pt x="0" y="3"/>
                    </a:cubicBezTo>
                    <a:cubicBezTo>
                      <a:pt x="1" y="0"/>
                      <a:pt x="6" y="1"/>
                      <a:pt x="9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84"/>
              <p:cNvSpPr/>
              <p:nvPr/>
            </p:nvSpPr>
            <p:spPr>
              <a:xfrm>
                <a:off x="2999880" y="1493640"/>
                <a:ext cx="79560" cy="15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10" y="3"/>
                    </a:moveTo>
                    <a:cubicBezTo>
                      <a:pt x="9" y="3"/>
                      <a:pt x="8" y="3"/>
                      <a:pt x="7" y="4"/>
                    </a:cubicBezTo>
                    <a:cubicBezTo>
                      <a:pt x="6" y="1"/>
                      <a:pt x="1" y="3"/>
                      <a:pt x="0" y="1"/>
                    </a:cubicBezTo>
                    <a:cubicBezTo>
                      <a:pt x="6" y="2"/>
                      <a:pt x="14" y="0"/>
                      <a:pt x="19" y="2"/>
                    </a:cubicBezTo>
                    <a:cubicBezTo>
                      <a:pt x="16" y="3"/>
                      <a:pt x="11" y="1"/>
                      <a:pt x="1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6"/>
              <p:cNvSpPr/>
              <p:nvPr/>
            </p:nvSpPr>
            <p:spPr>
              <a:xfrm>
                <a:off x="3027960" y="1506240"/>
                <a:ext cx="42480" cy="21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3" y="0"/>
                    </a:moveTo>
                    <a:cubicBezTo>
                      <a:pt x="6" y="1"/>
                      <a:pt x="9" y="2"/>
                      <a:pt x="10" y="5"/>
                    </a:cubicBezTo>
                    <a:cubicBezTo>
                      <a:pt x="6" y="5"/>
                      <a:pt x="3" y="3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88"/>
              <p:cNvSpPr/>
              <p:nvPr/>
            </p:nvSpPr>
            <p:spPr>
              <a:xfrm>
                <a:off x="2621160" y="1593360"/>
                <a:ext cx="33480" cy="180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cubicBezTo>
                      <a:pt x="6" y="4"/>
                      <a:pt x="2" y="4"/>
                      <a:pt x="0" y="2"/>
                    </a:cubicBezTo>
                    <a:cubicBezTo>
                      <a:pt x="1" y="2"/>
                      <a:pt x="3" y="2"/>
                      <a:pt x="2" y="0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89"/>
              <p:cNvSpPr/>
              <p:nvPr/>
            </p:nvSpPr>
            <p:spPr>
              <a:xfrm>
                <a:off x="4430160" y="167364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10"/>
                    </a:moveTo>
                    <a:cubicBezTo>
                      <a:pt x="0" y="9"/>
                      <a:pt x="2" y="2"/>
                      <a:pt x="4" y="0"/>
                    </a:cubicBezTo>
                    <a:cubicBezTo>
                      <a:pt x="8" y="2"/>
                      <a:pt x="6" y="7"/>
                      <a:pt x="4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1"/>
              <p:cNvSpPr/>
              <p:nvPr/>
            </p:nvSpPr>
            <p:spPr>
              <a:xfrm>
                <a:off x="4309200" y="1746720"/>
                <a:ext cx="19440" cy="212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4"/>
                    </a:moveTo>
                    <a:cubicBezTo>
                      <a:pt x="2" y="5"/>
                      <a:pt x="1" y="4"/>
                      <a:pt x="0" y="3"/>
                    </a:cubicBezTo>
                    <a:cubicBezTo>
                      <a:pt x="1" y="1"/>
                      <a:pt x="5" y="0"/>
                      <a:pt x="5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92"/>
              <p:cNvSpPr/>
              <p:nvPr/>
            </p:nvSpPr>
            <p:spPr>
              <a:xfrm>
                <a:off x="6985440" y="189432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2" y="19"/>
                    </a:moveTo>
                    <a:cubicBezTo>
                      <a:pt x="8" y="19"/>
                      <a:pt x="8" y="15"/>
                      <a:pt x="8" y="11"/>
                    </a:cubicBezTo>
                    <a:cubicBezTo>
                      <a:pt x="5" y="9"/>
                      <a:pt x="1" y="9"/>
                      <a:pt x="0" y="5"/>
                    </a:cubicBezTo>
                    <a:cubicBezTo>
                      <a:pt x="2" y="5"/>
                      <a:pt x="3" y="5"/>
                      <a:pt x="3" y="3"/>
                    </a:cubicBezTo>
                    <a:cubicBezTo>
                      <a:pt x="14" y="0"/>
                      <a:pt x="19" y="14"/>
                      <a:pt x="12" y="1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3"/>
              <p:cNvSpPr/>
              <p:nvPr/>
            </p:nvSpPr>
            <p:spPr>
              <a:xfrm>
                <a:off x="4944600" y="2008080"/>
                <a:ext cx="21240" cy="33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4" y="8"/>
                    </a:moveTo>
                    <a:cubicBezTo>
                      <a:pt x="2" y="6"/>
                      <a:pt x="1" y="3"/>
                      <a:pt x="0" y="0"/>
                    </a:cubicBezTo>
                    <a:cubicBezTo>
                      <a:pt x="3" y="1"/>
                      <a:pt x="4" y="5"/>
                      <a:pt x="5" y="8"/>
                    </a:cubicBezTo>
                    <a:cubicBezTo>
                      <a:pt x="5" y="8"/>
                      <a:pt x="5" y="8"/>
                      <a:pt x="4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94"/>
              <p:cNvSpPr/>
              <p:nvPr/>
            </p:nvSpPr>
            <p:spPr>
              <a:xfrm>
                <a:off x="2548080" y="2079000"/>
                <a:ext cx="38880" cy="24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7" y="0"/>
                    </a:moveTo>
                    <a:cubicBezTo>
                      <a:pt x="4" y="0"/>
                      <a:pt x="1" y="6"/>
                      <a:pt x="0" y="1"/>
                    </a:cubicBezTo>
                    <a:cubicBezTo>
                      <a:pt x="4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95"/>
              <p:cNvSpPr/>
              <p:nvPr/>
            </p:nvSpPr>
            <p:spPr>
              <a:xfrm>
                <a:off x="2615400" y="2248200"/>
                <a:ext cx="131760" cy="71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1" h="17">
                    <a:moveTo>
                      <a:pt x="31" y="11"/>
                    </a:moveTo>
                    <a:cubicBezTo>
                      <a:pt x="25" y="12"/>
                      <a:pt x="17" y="10"/>
                      <a:pt x="16" y="15"/>
                    </a:cubicBezTo>
                    <a:cubicBezTo>
                      <a:pt x="13" y="9"/>
                      <a:pt x="0" y="17"/>
                      <a:pt x="0" y="9"/>
                    </a:cubicBezTo>
                    <a:cubicBezTo>
                      <a:pt x="3" y="10"/>
                      <a:pt x="6" y="11"/>
                      <a:pt x="10" y="10"/>
                    </a:cubicBezTo>
                    <a:cubicBezTo>
                      <a:pt x="6" y="10"/>
                      <a:pt x="11" y="5"/>
                      <a:pt x="5" y="3"/>
                    </a:cubicBezTo>
                    <a:cubicBezTo>
                      <a:pt x="14" y="0"/>
                      <a:pt x="30" y="3"/>
                      <a:pt x="31" y="1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96"/>
              <p:cNvSpPr/>
              <p:nvPr/>
            </p:nvSpPr>
            <p:spPr>
              <a:xfrm>
                <a:off x="2304360" y="227844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7"/>
                    </a:moveTo>
                    <a:cubicBezTo>
                      <a:pt x="0" y="3"/>
                      <a:pt x="4" y="0"/>
                      <a:pt x="3" y="5"/>
                    </a:cubicBezTo>
                    <a:cubicBezTo>
                      <a:pt x="4" y="7"/>
                      <a:pt x="3" y="7"/>
                      <a:pt x="2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7"/>
              <p:cNvSpPr/>
              <p:nvPr/>
            </p:nvSpPr>
            <p:spPr>
              <a:xfrm>
                <a:off x="2528280" y="2291040"/>
                <a:ext cx="46080" cy="21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11" y="3"/>
                    </a:moveTo>
                    <a:cubicBezTo>
                      <a:pt x="7" y="5"/>
                      <a:pt x="1" y="5"/>
                      <a:pt x="0" y="0"/>
                    </a:cubicBezTo>
                    <a:cubicBezTo>
                      <a:pt x="5" y="0"/>
                      <a:pt x="8" y="2"/>
                      <a:pt x="1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98"/>
              <p:cNvSpPr/>
              <p:nvPr/>
            </p:nvSpPr>
            <p:spPr>
              <a:xfrm>
                <a:off x="6939000" y="2451240"/>
                <a:ext cx="26280" cy="406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4"/>
                    </a:moveTo>
                    <a:cubicBezTo>
                      <a:pt x="5" y="7"/>
                      <a:pt x="3" y="8"/>
                      <a:pt x="3" y="10"/>
                    </a:cubicBezTo>
                    <a:cubicBezTo>
                      <a:pt x="1" y="9"/>
                      <a:pt x="2" y="4"/>
                      <a:pt x="0" y="3"/>
                    </a:cubicBezTo>
                    <a:cubicBezTo>
                      <a:pt x="2" y="0"/>
                      <a:pt x="4" y="5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99"/>
              <p:cNvSpPr/>
              <p:nvPr/>
            </p:nvSpPr>
            <p:spPr>
              <a:xfrm>
                <a:off x="6969240" y="2485080"/>
                <a:ext cx="24840" cy="33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8"/>
                    </a:moveTo>
                    <a:cubicBezTo>
                      <a:pt x="0" y="6"/>
                      <a:pt x="4" y="3"/>
                      <a:pt x="3" y="0"/>
                    </a:cubicBezTo>
                    <a:cubicBezTo>
                      <a:pt x="6" y="2"/>
                      <a:pt x="4" y="6"/>
                      <a:pt x="3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00"/>
              <p:cNvSpPr/>
              <p:nvPr/>
            </p:nvSpPr>
            <p:spPr>
              <a:xfrm>
                <a:off x="6956640" y="2485080"/>
                <a:ext cx="24840" cy="45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9"/>
                    </a:moveTo>
                    <a:cubicBezTo>
                      <a:pt x="0" y="5"/>
                      <a:pt x="2" y="3"/>
                      <a:pt x="3" y="0"/>
                    </a:cubicBezTo>
                    <a:cubicBezTo>
                      <a:pt x="6" y="2"/>
                      <a:pt x="4" y="8"/>
                      <a:pt x="4" y="11"/>
                    </a:cubicBezTo>
                    <a:cubicBezTo>
                      <a:pt x="3" y="10"/>
                      <a:pt x="2" y="9"/>
                      <a:pt x="1" y="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01"/>
              <p:cNvSpPr/>
              <p:nvPr/>
            </p:nvSpPr>
            <p:spPr>
              <a:xfrm>
                <a:off x="6559920" y="2759040"/>
                <a:ext cx="17640" cy="212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1"/>
                    </a:moveTo>
                    <a:cubicBezTo>
                      <a:pt x="3" y="2"/>
                      <a:pt x="3" y="5"/>
                      <a:pt x="0" y="4"/>
                    </a:cubicBezTo>
                    <a:cubicBezTo>
                      <a:pt x="0" y="2"/>
                      <a:pt x="2" y="1"/>
                      <a:pt x="2" y="0"/>
                    </a:cubicBezTo>
                    <a:cubicBezTo>
                      <a:pt x="3" y="0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02"/>
              <p:cNvSpPr/>
              <p:nvPr/>
            </p:nvSpPr>
            <p:spPr>
              <a:xfrm>
                <a:off x="7154280" y="2754000"/>
                <a:ext cx="424800" cy="2754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01" h="65">
                    <a:moveTo>
                      <a:pt x="64" y="53"/>
                    </a:moveTo>
                    <a:cubicBezTo>
                      <a:pt x="62" y="59"/>
                      <a:pt x="47" y="58"/>
                      <a:pt x="48" y="50"/>
                    </a:cubicBezTo>
                    <a:cubicBezTo>
                      <a:pt x="40" y="48"/>
                      <a:pt x="41" y="51"/>
                      <a:pt x="34" y="51"/>
                    </a:cubicBezTo>
                    <a:cubicBezTo>
                      <a:pt x="35" y="49"/>
                      <a:pt x="36" y="45"/>
                      <a:pt x="40" y="46"/>
                    </a:cubicBezTo>
                    <a:cubicBezTo>
                      <a:pt x="44" y="30"/>
                      <a:pt x="23" y="30"/>
                      <a:pt x="15" y="23"/>
                    </a:cubicBezTo>
                    <a:cubicBezTo>
                      <a:pt x="13" y="23"/>
                      <a:pt x="13" y="26"/>
                      <a:pt x="10" y="26"/>
                    </a:cubicBezTo>
                    <a:cubicBezTo>
                      <a:pt x="10" y="23"/>
                      <a:pt x="10" y="20"/>
                      <a:pt x="8" y="19"/>
                    </a:cubicBezTo>
                    <a:cubicBezTo>
                      <a:pt x="9" y="15"/>
                      <a:pt x="14" y="17"/>
                      <a:pt x="16" y="15"/>
                    </a:cubicBezTo>
                    <a:cubicBezTo>
                      <a:pt x="9" y="14"/>
                      <a:pt x="4" y="11"/>
                      <a:pt x="0" y="8"/>
                    </a:cubicBezTo>
                    <a:cubicBezTo>
                      <a:pt x="1" y="7"/>
                      <a:pt x="11" y="0"/>
                      <a:pt x="17" y="6"/>
                    </a:cubicBezTo>
                    <a:cubicBezTo>
                      <a:pt x="16" y="11"/>
                      <a:pt x="19" y="12"/>
                      <a:pt x="18" y="16"/>
                    </a:cubicBezTo>
                    <a:cubicBezTo>
                      <a:pt x="21" y="15"/>
                      <a:pt x="20" y="19"/>
                      <a:pt x="23" y="21"/>
                    </a:cubicBezTo>
                    <a:cubicBezTo>
                      <a:pt x="28" y="18"/>
                      <a:pt x="31" y="13"/>
                      <a:pt x="36" y="10"/>
                    </a:cubicBezTo>
                    <a:cubicBezTo>
                      <a:pt x="50" y="16"/>
                      <a:pt x="66" y="21"/>
                      <a:pt x="78" y="28"/>
                    </a:cubicBezTo>
                    <a:cubicBezTo>
                      <a:pt x="78" y="30"/>
                      <a:pt x="78" y="31"/>
                      <a:pt x="78" y="32"/>
                    </a:cubicBezTo>
                    <a:cubicBezTo>
                      <a:pt x="82" y="35"/>
                      <a:pt x="85" y="37"/>
                      <a:pt x="89" y="39"/>
                    </a:cubicBezTo>
                    <a:cubicBezTo>
                      <a:pt x="89" y="43"/>
                      <a:pt x="84" y="41"/>
                      <a:pt x="84" y="44"/>
                    </a:cubicBezTo>
                    <a:cubicBezTo>
                      <a:pt x="88" y="51"/>
                      <a:pt x="98" y="59"/>
                      <a:pt x="101" y="64"/>
                    </a:cubicBezTo>
                    <a:cubicBezTo>
                      <a:pt x="96" y="65"/>
                      <a:pt x="87" y="61"/>
                      <a:pt x="82" y="58"/>
                    </a:cubicBezTo>
                    <a:cubicBezTo>
                      <a:pt x="83" y="50"/>
                      <a:pt x="76" y="50"/>
                      <a:pt x="72" y="47"/>
                    </a:cubicBezTo>
                    <a:cubicBezTo>
                      <a:pt x="68" y="45"/>
                      <a:pt x="64" y="52"/>
                      <a:pt x="58" y="51"/>
                    </a:cubicBezTo>
                    <a:cubicBezTo>
                      <a:pt x="62" y="51"/>
                      <a:pt x="62" y="53"/>
                      <a:pt x="64" y="5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03"/>
              <p:cNvSpPr/>
              <p:nvPr/>
            </p:nvSpPr>
            <p:spPr>
              <a:xfrm>
                <a:off x="6969240" y="2784240"/>
                <a:ext cx="24840" cy="20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3" y="0"/>
                    </a:moveTo>
                    <a:cubicBezTo>
                      <a:pt x="4" y="1"/>
                      <a:pt x="6" y="1"/>
                      <a:pt x="5" y="3"/>
                    </a:cubicBezTo>
                    <a:cubicBezTo>
                      <a:pt x="4" y="5"/>
                      <a:pt x="2" y="3"/>
                      <a:pt x="0" y="2"/>
                    </a:cubicBezTo>
                    <a:cubicBezTo>
                      <a:pt x="1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04"/>
              <p:cNvSpPr/>
              <p:nvPr/>
            </p:nvSpPr>
            <p:spPr>
              <a:xfrm>
                <a:off x="7049160" y="283896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0"/>
                    </a:moveTo>
                    <a:cubicBezTo>
                      <a:pt x="3" y="0"/>
                      <a:pt x="6" y="0"/>
                      <a:pt x="6" y="4"/>
                    </a:cubicBezTo>
                    <a:cubicBezTo>
                      <a:pt x="3" y="5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Freeform 206"/>
            <p:cNvSpPr/>
            <p:nvPr/>
          </p:nvSpPr>
          <p:spPr>
            <a:xfrm>
              <a:off x="7221960" y="2894400"/>
              <a:ext cx="15840" cy="28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" h="7">
                  <a:moveTo>
                    <a:pt x="4" y="1"/>
                  </a:moveTo>
                  <a:cubicBezTo>
                    <a:pt x="4" y="3"/>
                    <a:pt x="4" y="4"/>
                    <a:pt x="4" y="6"/>
                  </a:cubicBezTo>
                  <a:cubicBezTo>
                    <a:pt x="0" y="7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7"/>
            <p:cNvSpPr/>
            <p:nvPr/>
          </p:nvSpPr>
          <p:spPr>
            <a:xfrm>
              <a:off x="6818040" y="2965320"/>
              <a:ext cx="15840" cy="1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4" y="3"/>
                    <a:pt x="2" y="4"/>
                    <a:pt x="0" y="4"/>
                  </a:cubicBezTo>
                  <a:cubicBezTo>
                    <a:pt x="0" y="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8"/>
            <p:cNvSpPr/>
            <p:nvPr/>
          </p:nvSpPr>
          <p:spPr>
            <a:xfrm>
              <a:off x="6994440" y="2962440"/>
              <a:ext cx="24480" cy="154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cubicBezTo>
                    <a:pt x="0" y="0"/>
                    <a:pt x="5" y="0"/>
                    <a:pt x="6" y="1"/>
                  </a:cubicBezTo>
                  <a:cubicBezTo>
                    <a:pt x="6" y="4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9"/>
            <p:cNvSpPr/>
            <p:nvPr/>
          </p:nvSpPr>
          <p:spPr>
            <a:xfrm>
              <a:off x="7727040" y="2956680"/>
              <a:ext cx="24840" cy="302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7">
                  <a:moveTo>
                    <a:pt x="0" y="2"/>
                  </a:moveTo>
                  <a:cubicBezTo>
                    <a:pt x="0" y="0"/>
                    <a:pt x="2" y="1"/>
                    <a:pt x="4" y="1"/>
                  </a:cubicBezTo>
                  <a:cubicBezTo>
                    <a:pt x="4" y="3"/>
                    <a:pt x="4" y="4"/>
                    <a:pt x="6" y="4"/>
                  </a:cubicBezTo>
                  <a:cubicBezTo>
                    <a:pt x="4" y="7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0"/>
            <p:cNvSpPr/>
            <p:nvPr/>
          </p:nvSpPr>
          <p:spPr>
            <a:xfrm>
              <a:off x="7252200" y="3100680"/>
              <a:ext cx="15840" cy="24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6">
                  <a:moveTo>
                    <a:pt x="4" y="1"/>
                  </a:moveTo>
                  <a:cubicBezTo>
                    <a:pt x="4" y="2"/>
                    <a:pt x="4" y="4"/>
                    <a:pt x="4" y="5"/>
                  </a:cubicBezTo>
                  <a:cubicBezTo>
                    <a:pt x="0" y="6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1"/>
            <p:cNvSpPr/>
            <p:nvPr/>
          </p:nvSpPr>
          <p:spPr>
            <a:xfrm>
              <a:off x="7916040" y="3130920"/>
              <a:ext cx="14040" cy="24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6">
                  <a:moveTo>
                    <a:pt x="0" y="6"/>
                  </a:moveTo>
                  <a:cubicBezTo>
                    <a:pt x="0" y="4"/>
                    <a:pt x="0" y="2"/>
                    <a:pt x="0" y="0"/>
                  </a:cubicBezTo>
                  <a:cubicBezTo>
                    <a:pt x="1" y="1"/>
                    <a:pt x="1" y="2"/>
                    <a:pt x="3" y="2"/>
                  </a:cubicBezTo>
                  <a:cubicBezTo>
                    <a:pt x="3" y="4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3"/>
            <p:cNvSpPr/>
            <p:nvPr/>
          </p:nvSpPr>
          <p:spPr>
            <a:xfrm>
              <a:off x="7832520" y="326988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6" y="11"/>
                    <a:pt x="1" y="7"/>
                    <a:pt x="0" y="0"/>
                  </a:cubicBezTo>
                  <a:cubicBezTo>
                    <a:pt x="5" y="3"/>
                    <a:pt x="9" y="8"/>
                    <a:pt x="12" y="1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14"/>
            <p:cNvSpPr/>
            <p:nvPr/>
          </p:nvSpPr>
          <p:spPr>
            <a:xfrm>
              <a:off x="7108200" y="365436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6">
                  <a:moveTo>
                    <a:pt x="1" y="4"/>
                  </a:moveTo>
                  <a:cubicBezTo>
                    <a:pt x="0" y="0"/>
                    <a:pt x="5" y="2"/>
                    <a:pt x="7" y="2"/>
                  </a:cubicBezTo>
                  <a:cubicBezTo>
                    <a:pt x="7" y="4"/>
                    <a:pt x="2" y="6"/>
                    <a:pt x="1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5"/>
            <p:cNvSpPr/>
            <p:nvPr/>
          </p:nvSpPr>
          <p:spPr>
            <a:xfrm>
              <a:off x="2944800" y="4079880"/>
              <a:ext cx="117360" cy="75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18">
                  <a:moveTo>
                    <a:pt x="1" y="1"/>
                  </a:moveTo>
                  <a:cubicBezTo>
                    <a:pt x="2" y="0"/>
                    <a:pt x="5" y="0"/>
                    <a:pt x="8" y="0"/>
                  </a:cubicBezTo>
                  <a:cubicBezTo>
                    <a:pt x="11" y="8"/>
                    <a:pt x="22" y="9"/>
                    <a:pt x="28" y="13"/>
                  </a:cubicBezTo>
                  <a:cubicBezTo>
                    <a:pt x="24" y="14"/>
                    <a:pt x="21" y="16"/>
                    <a:pt x="18" y="15"/>
                  </a:cubicBezTo>
                  <a:cubicBezTo>
                    <a:pt x="16" y="15"/>
                    <a:pt x="17" y="17"/>
                    <a:pt x="19" y="17"/>
                  </a:cubicBezTo>
                  <a:cubicBezTo>
                    <a:pt x="16" y="18"/>
                    <a:pt x="8" y="16"/>
                    <a:pt x="7" y="13"/>
                  </a:cubicBezTo>
                  <a:cubicBezTo>
                    <a:pt x="7" y="17"/>
                    <a:pt x="5" y="12"/>
                    <a:pt x="3" y="14"/>
                  </a:cubicBezTo>
                  <a:cubicBezTo>
                    <a:pt x="0" y="14"/>
                    <a:pt x="5" y="11"/>
                    <a:pt x="1" y="12"/>
                  </a:cubicBezTo>
                  <a:cubicBezTo>
                    <a:pt x="3" y="10"/>
                    <a:pt x="1" y="10"/>
                    <a:pt x="0" y="8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4" y="6"/>
                    <a:pt x="2" y="10"/>
                    <a:pt x="4" y="10"/>
                  </a:cubicBezTo>
                  <a:cubicBezTo>
                    <a:pt x="7" y="11"/>
                    <a:pt x="3" y="6"/>
                    <a:pt x="6" y="6"/>
                  </a:cubicBezTo>
                  <a:cubicBezTo>
                    <a:pt x="5" y="4"/>
                    <a:pt x="0" y="6"/>
                    <a:pt x="1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6"/>
            <p:cNvSpPr/>
            <p:nvPr/>
          </p:nvSpPr>
          <p:spPr>
            <a:xfrm>
              <a:off x="2932200" y="4079880"/>
              <a:ext cx="41040" cy="45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" h="11">
                  <a:moveTo>
                    <a:pt x="1" y="7"/>
                  </a:moveTo>
                  <a:cubicBezTo>
                    <a:pt x="4" y="6"/>
                    <a:pt x="0" y="3"/>
                    <a:pt x="1" y="0"/>
                  </a:cubicBezTo>
                  <a:cubicBezTo>
                    <a:pt x="3" y="1"/>
                    <a:pt x="3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3" y="6"/>
                    <a:pt x="8" y="4"/>
                    <a:pt x="9" y="6"/>
                  </a:cubicBezTo>
                  <a:cubicBezTo>
                    <a:pt x="6" y="6"/>
                    <a:pt x="10" y="11"/>
                    <a:pt x="7" y="10"/>
                  </a:cubicBezTo>
                  <a:cubicBezTo>
                    <a:pt x="5" y="10"/>
                    <a:pt x="7" y="6"/>
                    <a:pt x="4" y="6"/>
                  </a:cubicBezTo>
                  <a:cubicBezTo>
                    <a:pt x="4" y="7"/>
                    <a:pt x="4" y="8"/>
                    <a:pt x="3" y="8"/>
                  </a:cubicBezTo>
                  <a:cubicBezTo>
                    <a:pt x="2" y="8"/>
                    <a:pt x="2" y="8"/>
                    <a:pt x="1" y="7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7"/>
            <p:cNvSpPr/>
            <p:nvPr/>
          </p:nvSpPr>
          <p:spPr>
            <a:xfrm>
              <a:off x="5743800" y="856800"/>
              <a:ext cx="75960" cy="24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6">
                  <a:moveTo>
                    <a:pt x="18" y="3"/>
                  </a:moveTo>
                  <a:cubicBezTo>
                    <a:pt x="14" y="6"/>
                    <a:pt x="6" y="5"/>
                    <a:pt x="0" y="6"/>
                  </a:cubicBezTo>
                  <a:cubicBezTo>
                    <a:pt x="0" y="4"/>
                    <a:pt x="0" y="2"/>
                    <a:pt x="2" y="0"/>
                  </a:cubicBezTo>
                  <a:cubicBezTo>
                    <a:pt x="6" y="2"/>
                    <a:pt x="13" y="2"/>
                    <a:pt x="18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8"/>
            <p:cNvSpPr/>
            <p:nvPr/>
          </p:nvSpPr>
          <p:spPr>
            <a:xfrm>
              <a:off x="2898360" y="902880"/>
              <a:ext cx="235080" cy="58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6" h="14">
                  <a:moveTo>
                    <a:pt x="25" y="3"/>
                  </a:moveTo>
                  <a:cubicBezTo>
                    <a:pt x="25" y="4"/>
                    <a:pt x="23" y="4"/>
                    <a:pt x="22" y="4"/>
                  </a:cubicBezTo>
                  <a:cubicBezTo>
                    <a:pt x="29" y="11"/>
                    <a:pt x="47" y="1"/>
                    <a:pt x="56" y="7"/>
                  </a:cubicBezTo>
                  <a:cubicBezTo>
                    <a:pt x="44" y="14"/>
                    <a:pt x="19" y="11"/>
                    <a:pt x="8" y="10"/>
                  </a:cubicBezTo>
                  <a:cubicBezTo>
                    <a:pt x="8" y="7"/>
                    <a:pt x="11" y="7"/>
                    <a:pt x="11" y="5"/>
                  </a:cubicBezTo>
                  <a:cubicBezTo>
                    <a:pt x="9" y="3"/>
                    <a:pt x="0" y="4"/>
                    <a:pt x="3" y="0"/>
                  </a:cubicBezTo>
                  <a:cubicBezTo>
                    <a:pt x="10" y="1"/>
                    <a:pt x="20" y="0"/>
                    <a:pt x="25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9"/>
            <p:cNvSpPr/>
            <p:nvPr/>
          </p:nvSpPr>
          <p:spPr>
            <a:xfrm>
              <a:off x="2557080" y="897840"/>
              <a:ext cx="197280" cy="55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7" h="13">
                  <a:moveTo>
                    <a:pt x="15" y="3"/>
                  </a:moveTo>
                  <a:cubicBezTo>
                    <a:pt x="20" y="3"/>
                    <a:pt x="25" y="3"/>
                    <a:pt x="26" y="8"/>
                  </a:cubicBezTo>
                  <a:cubicBezTo>
                    <a:pt x="34" y="8"/>
                    <a:pt x="34" y="0"/>
                    <a:pt x="42" y="1"/>
                  </a:cubicBezTo>
                  <a:cubicBezTo>
                    <a:pt x="44" y="4"/>
                    <a:pt x="39" y="2"/>
                    <a:pt x="40" y="5"/>
                  </a:cubicBezTo>
                  <a:cubicBezTo>
                    <a:pt x="41" y="7"/>
                    <a:pt x="45" y="5"/>
                    <a:pt x="47" y="6"/>
                  </a:cubicBezTo>
                  <a:cubicBezTo>
                    <a:pt x="39" y="13"/>
                    <a:pt x="21" y="11"/>
                    <a:pt x="8" y="12"/>
                  </a:cubicBezTo>
                  <a:cubicBezTo>
                    <a:pt x="11" y="9"/>
                    <a:pt x="8" y="10"/>
                    <a:pt x="3" y="10"/>
                  </a:cubicBezTo>
                  <a:cubicBezTo>
                    <a:pt x="0" y="9"/>
                    <a:pt x="5" y="8"/>
                    <a:pt x="6" y="9"/>
                  </a:cubicBezTo>
                  <a:cubicBezTo>
                    <a:pt x="7" y="8"/>
                    <a:pt x="8" y="7"/>
                    <a:pt x="11" y="8"/>
                  </a:cubicBezTo>
                  <a:cubicBezTo>
                    <a:pt x="11" y="6"/>
                    <a:pt x="9" y="6"/>
                    <a:pt x="9" y="5"/>
                  </a:cubicBezTo>
                  <a:cubicBezTo>
                    <a:pt x="11" y="5"/>
                    <a:pt x="13" y="5"/>
                    <a:pt x="15" y="5"/>
                  </a:cubicBezTo>
                  <a:cubicBezTo>
                    <a:pt x="15" y="4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20"/>
            <p:cNvSpPr/>
            <p:nvPr/>
          </p:nvSpPr>
          <p:spPr>
            <a:xfrm>
              <a:off x="2813040" y="906480"/>
              <a:ext cx="72720" cy="460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" h="11">
                  <a:moveTo>
                    <a:pt x="5" y="0"/>
                  </a:moveTo>
                  <a:cubicBezTo>
                    <a:pt x="11" y="0"/>
                    <a:pt x="12" y="1"/>
                    <a:pt x="17" y="0"/>
                  </a:cubicBezTo>
                  <a:cubicBezTo>
                    <a:pt x="16" y="5"/>
                    <a:pt x="7" y="11"/>
                    <a:pt x="0" y="6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5" y="6"/>
                    <a:pt x="6" y="6"/>
                    <a:pt x="7" y="6"/>
                  </a:cubicBezTo>
                  <a:cubicBezTo>
                    <a:pt x="6" y="2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21"/>
            <p:cNvSpPr/>
            <p:nvPr/>
          </p:nvSpPr>
          <p:spPr>
            <a:xfrm>
              <a:off x="6494040" y="922680"/>
              <a:ext cx="105120" cy="21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5">
                  <a:moveTo>
                    <a:pt x="0" y="3"/>
                  </a:moveTo>
                  <a:cubicBezTo>
                    <a:pt x="2" y="0"/>
                    <a:pt x="25" y="5"/>
                    <a:pt x="12" y="4"/>
                  </a:cubicBezTo>
                  <a:cubicBezTo>
                    <a:pt x="8" y="4"/>
                    <a:pt x="5" y="3"/>
                    <a:pt x="0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2"/>
            <p:cNvSpPr/>
            <p:nvPr/>
          </p:nvSpPr>
          <p:spPr>
            <a:xfrm>
              <a:off x="2720520" y="956520"/>
              <a:ext cx="101520" cy="60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14">
                  <a:moveTo>
                    <a:pt x="24" y="0"/>
                  </a:moveTo>
                  <a:cubicBezTo>
                    <a:pt x="23" y="2"/>
                    <a:pt x="24" y="2"/>
                    <a:pt x="24" y="3"/>
                  </a:cubicBezTo>
                  <a:cubicBezTo>
                    <a:pt x="23" y="11"/>
                    <a:pt x="15" y="11"/>
                    <a:pt x="9" y="14"/>
                  </a:cubicBezTo>
                  <a:cubicBezTo>
                    <a:pt x="6" y="12"/>
                    <a:pt x="2" y="10"/>
                    <a:pt x="0" y="6"/>
                  </a:cubicBezTo>
                  <a:cubicBezTo>
                    <a:pt x="5" y="7"/>
                    <a:pt x="13" y="6"/>
                    <a:pt x="8" y="3"/>
                  </a:cubicBezTo>
                  <a:cubicBezTo>
                    <a:pt x="14" y="0"/>
                    <a:pt x="18" y="2"/>
                    <a:pt x="2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3"/>
            <p:cNvSpPr/>
            <p:nvPr/>
          </p:nvSpPr>
          <p:spPr>
            <a:xfrm>
              <a:off x="3071160" y="956520"/>
              <a:ext cx="58680" cy="33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8">
                  <a:moveTo>
                    <a:pt x="14" y="4"/>
                  </a:moveTo>
                  <a:cubicBezTo>
                    <a:pt x="12" y="6"/>
                    <a:pt x="0" y="8"/>
                    <a:pt x="0" y="2"/>
                  </a:cubicBezTo>
                  <a:cubicBezTo>
                    <a:pt x="5" y="0"/>
                    <a:pt x="11" y="2"/>
                    <a:pt x="14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4"/>
            <p:cNvSpPr/>
            <p:nvPr/>
          </p:nvSpPr>
          <p:spPr>
            <a:xfrm>
              <a:off x="7129440" y="1008360"/>
              <a:ext cx="54720" cy="154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4">
                  <a:moveTo>
                    <a:pt x="13" y="2"/>
                  </a:moveTo>
                  <a:cubicBezTo>
                    <a:pt x="11" y="3"/>
                    <a:pt x="4" y="4"/>
                    <a:pt x="2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4" y="1"/>
                    <a:pt x="10" y="0"/>
                    <a:pt x="13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5"/>
            <p:cNvSpPr/>
            <p:nvPr/>
          </p:nvSpPr>
          <p:spPr>
            <a:xfrm>
              <a:off x="3425400" y="1032840"/>
              <a:ext cx="40680" cy="33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" h="8">
                  <a:moveTo>
                    <a:pt x="10" y="4"/>
                  </a:moveTo>
                  <a:cubicBezTo>
                    <a:pt x="6" y="5"/>
                    <a:pt x="3" y="8"/>
                    <a:pt x="1" y="4"/>
                  </a:cubicBezTo>
                  <a:cubicBezTo>
                    <a:pt x="0" y="3"/>
                    <a:pt x="2" y="2"/>
                    <a:pt x="1" y="1"/>
                  </a:cubicBezTo>
                  <a:cubicBezTo>
                    <a:pt x="6" y="0"/>
                    <a:pt x="10" y="0"/>
                    <a:pt x="10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6"/>
            <p:cNvSpPr/>
            <p:nvPr/>
          </p:nvSpPr>
          <p:spPr>
            <a:xfrm>
              <a:off x="3896640" y="1118520"/>
              <a:ext cx="176040" cy="74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18">
                  <a:moveTo>
                    <a:pt x="2" y="2"/>
                  </a:moveTo>
                  <a:cubicBezTo>
                    <a:pt x="4" y="1"/>
                    <a:pt x="4" y="3"/>
                    <a:pt x="7" y="3"/>
                  </a:cubicBezTo>
                  <a:cubicBezTo>
                    <a:pt x="6" y="2"/>
                    <a:pt x="4" y="2"/>
                    <a:pt x="5" y="0"/>
                  </a:cubicBezTo>
                  <a:cubicBezTo>
                    <a:pt x="8" y="0"/>
                    <a:pt x="11" y="2"/>
                    <a:pt x="10" y="6"/>
                  </a:cubicBezTo>
                  <a:cubicBezTo>
                    <a:pt x="12" y="5"/>
                    <a:pt x="15" y="5"/>
                    <a:pt x="14" y="2"/>
                  </a:cubicBezTo>
                  <a:cubicBezTo>
                    <a:pt x="22" y="4"/>
                    <a:pt x="27" y="0"/>
                    <a:pt x="36" y="0"/>
                  </a:cubicBezTo>
                  <a:cubicBezTo>
                    <a:pt x="37" y="4"/>
                    <a:pt x="35" y="5"/>
                    <a:pt x="41" y="5"/>
                  </a:cubicBezTo>
                  <a:cubicBezTo>
                    <a:pt x="42" y="9"/>
                    <a:pt x="36" y="7"/>
                    <a:pt x="36" y="11"/>
                  </a:cubicBezTo>
                  <a:cubicBezTo>
                    <a:pt x="24" y="13"/>
                    <a:pt x="17" y="18"/>
                    <a:pt x="3" y="14"/>
                  </a:cubicBezTo>
                  <a:cubicBezTo>
                    <a:pt x="2" y="11"/>
                    <a:pt x="5" y="12"/>
                    <a:pt x="7" y="12"/>
                  </a:cubicBezTo>
                  <a:cubicBezTo>
                    <a:pt x="6" y="10"/>
                    <a:pt x="4" y="9"/>
                    <a:pt x="0" y="9"/>
                  </a:cubicBezTo>
                  <a:cubicBezTo>
                    <a:pt x="1" y="7"/>
                    <a:pt x="6" y="8"/>
                    <a:pt x="7" y="6"/>
                  </a:cubicBezTo>
                  <a:cubicBezTo>
                    <a:pt x="6" y="4"/>
                    <a:pt x="4" y="5"/>
                    <a:pt x="3" y="5"/>
                  </a:cubicBezTo>
                  <a:cubicBezTo>
                    <a:pt x="3" y="4"/>
                    <a:pt x="2" y="3"/>
                    <a:pt x="1" y="4"/>
                  </a:cubicBezTo>
                  <a:cubicBezTo>
                    <a:pt x="1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7"/>
            <p:cNvSpPr/>
            <p:nvPr/>
          </p:nvSpPr>
          <p:spPr>
            <a:xfrm>
              <a:off x="2796840" y="1131120"/>
              <a:ext cx="126000" cy="583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30" h="14">
                  <a:moveTo>
                    <a:pt x="16" y="0"/>
                  </a:moveTo>
                  <a:cubicBezTo>
                    <a:pt x="14" y="6"/>
                    <a:pt x="23" y="2"/>
                    <a:pt x="25" y="5"/>
                  </a:cubicBezTo>
                  <a:cubicBezTo>
                    <a:pt x="21" y="12"/>
                    <a:pt x="28" y="8"/>
                    <a:pt x="30" y="12"/>
                  </a:cubicBezTo>
                  <a:cubicBezTo>
                    <a:pt x="19" y="11"/>
                    <a:pt x="15" y="10"/>
                    <a:pt x="6" y="14"/>
                  </a:cubicBezTo>
                  <a:cubicBezTo>
                    <a:pt x="4" y="13"/>
                    <a:pt x="5" y="11"/>
                    <a:pt x="0" y="12"/>
                  </a:cubicBezTo>
                  <a:cubicBezTo>
                    <a:pt x="5" y="8"/>
                    <a:pt x="9" y="2"/>
                    <a:pt x="16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8"/>
            <p:cNvSpPr/>
            <p:nvPr/>
          </p:nvSpPr>
          <p:spPr>
            <a:xfrm>
              <a:off x="2831040" y="1189440"/>
              <a:ext cx="46080" cy="24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6">
                  <a:moveTo>
                    <a:pt x="11" y="2"/>
                  </a:moveTo>
                  <a:cubicBezTo>
                    <a:pt x="10" y="6"/>
                    <a:pt x="5" y="5"/>
                    <a:pt x="0" y="5"/>
                  </a:cubicBezTo>
                  <a:cubicBezTo>
                    <a:pt x="3" y="3"/>
                    <a:pt x="8" y="0"/>
                    <a:pt x="11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9"/>
            <p:cNvSpPr/>
            <p:nvPr/>
          </p:nvSpPr>
          <p:spPr>
            <a:xfrm>
              <a:off x="1459080" y="1298160"/>
              <a:ext cx="58680" cy="42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10">
                  <a:moveTo>
                    <a:pt x="14" y="6"/>
                  </a:moveTo>
                  <a:cubicBezTo>
                    <a:pt x="8" y="6"/>
                    <a:pt x="6" y="10"/>
                    <a:pt x="0" y="10"/>
                  </a:cubicBezTo>
                  <a:cubicBezTo>
                    <a:pt x="0" y="4"/>
                    <a:pt x="13" y="0"/>
                    <a:pt x="14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0"/>
            <p:cNvSpPr/>
            <p:nvPr/>
          </p:nvSpPr>
          <p:spPr>
            <a:xfrm>
              <a:off x="1247400" y="1353240"/>
              <a:ext cx="64080" cy="26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" h="6">
                  <a:moveTo>
                    <a:pt x="15" y="0"/>
                  </a:moveTo>
                  <a:cubicBezTo>
                    <a:pt x="13" y="5"/>
                    <a:pt x="6" y="5"/>
                    <a:pt x="0" y="6"/>
                  </a:cubicBezTo>
                  <a:cubicBezTo>
                    <a:pt x="5" y="4"/>
                    <a:pt x="10" y="2"/>
                    <a:pt x="1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1"/>
            <p:cNvSpPr/>
            <p:nvPr/>
          </p:nvSpPr>
          <p:spPr>
            <a:xfrm>
              <a:off x="4076280" y="1371240"/>
              <a:ext cx="101160" cy="92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" h="22">
                  <a:moveTo>
                    <a:pt x="10" y="6"/>
                  </a:moveTo>
                  <a:cubicBezTo>
                    <a:pt x="10" y="3"/>
                    <a:pt x="13" y="3"/>
                    <a:pt x="15" y="0"/>
                  </a:cubicBezTo>
                  <a:cubicBezTo>
                    <a:pt x="19" y="1"/>
                    <a:pt x="24" y="2"/>
                    <a:pt x="24" y="6"/>
                  </a:cubicBezTo>
                  <a:cubicBezTo>
                    <a:pt x="23" y="7"/>
                    <a:pt x="22" y="7"/>
                    <a:pt x="20" y="8"/>
                  </a:cubicBezTo>
                  <a:cubicBezTo>
                    <a:pt x="23" y="21"/>
                    <a:pt x="8" y="22"/>
                    <a:pt x="0" y="20"/>
                  </a:cubicBezTo>
                  <a:cubicBezTo>
                    <a:pt x="2" y="17"/>
                    <a:pt x="4" y="15"/>
                    <a:pt x="6" y="13"/>
                  </a:cubicBezTo>
                  <a:cubicBezTo>
                    <a:pt x="6" y="11"/>
                    <a:pt x="3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7"/>
                    <a:pt x="5" y="7"/>
                  </a:cubicBezTo>
                  <a:cubicBezTo>
                    <a:pt x="6" y="6"/>
                    <a:pt x="10" y="8"/>
                    <a:pt x="10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2"/>
            <p:cNvSpPr/>
            <p:nvPr/>
          </p:nvSpPr>
          <p:spPr>
            <a:xfrm>
              <a:off x="4746960" y="1864080"/>
              <a:ext cx="58680" cy="21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5">
                  <a:moveTo>
                    <a:pt x="14" y="1"/>
                  </a:moveTo>
                  <a:cubicBezTo>
                    <a:pt x="10" y="5"/>
                    <a:pt x="6" y="1"/>
                    <a:pt x="1" y="1"/>
                  </a:cubicBezTo>
                  <a:cubicBezTo>
                    <a:pt x="0" y="0"/>
                    <a:pt x="12" y="0"/>
                    <a:pt x="1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3"/>
            <p:cNvSpPr/>
            <p:nvPr/>
          </p:nvSpPr>
          <p:spPr>
            <a:xfrm>
              <a:off x="7040520" y="1888920"/>
              <a:ext cx="55080" cy="48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3" h="11">
                  <a:moveTo>
                    <a:pt x="3" y="2"/>
                  </a:moveTo>
                  <a:cubicBezTo>
                    <a:pt x="6" y="5"/>
                    <a:pt x="7" y="0"/>
                    <a:pt x="10" y="1"/>
                  </a:cubicBezTo>
                  <a:cubicBezTo>
                    <a:pt x="10" y="1"/>
                    <a:pt x="10" y="2"/>
                    <a:pt x="10" y="2"/>
                  </a:cubicBezTo>
                  <a:cubicBezTo>
                    <a:pt x="13" y="2"/>
                    <a:pt x="13" y="5"/>
                    <a:pt x="11" y="6"/>
                  </a:cubicBezTo>
                  <a:cubicBezTo>
                    <a:pt x="11" y="8"/>
                    <a:pt x="6" y="5"/>
                    <a:pt x="7" y="10"/>
                  </a:cubicBezTo>
                  <a:cubicBezTo>
                    <a:pt x="3" y="11"/>
                    <a:pt x="4" y="6"/>
                    <a:pt x="1" y="7"/>
                  </a:cubicBezTo>
                  <a:cubicBezTo>
                    <a:pt x="0" y="4"/>
                    <a:pt x="3" y="5"/>
                    <a:pt x="3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34"/>
            <p:cNvSpPr/>
            <p:nvPr/>
          </p:nvSpPr>
          <p:spPr>
            <a:xfrm>
              <a:off x="6846840" y="2122200"/>
              <a:ext cx="51480" cy="835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" h="20">
                  <a:moveTo>
                    <a:pt x="9" y="0"/>
                  </a:moveTo>
                  <a:cubicBezTo>
                    <a:pt x="12" y="6"/>
                    <a:pt x="8" y="13"/>
                    <a:pt x="8" y="20"/>
                  </a:cubicBezTo>
                  <a:cubicBezTo>
                    <a:pt x="2" y="17"/>
                    <a:pt x="0" y="1"/>
                    <a:pt x="9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35"/>
            <p:cNvSpPr/>
            <p:nvPr/>
          </p:nvSpPr>
          <p:spPr>
            <a:xfrm>
              <a:off x="2396880" y="2125800"/>
              <a:ext cx="227520" cy="1386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54" h="33">
                  <a:moveTo>
                    <a:pt x="54" y="29"/>
                  </a:moveTo>
                  <a:cubicBezTo>
                    <a:pt x="51" y="33"/>
                    <a:pt x="42" y="31"/>
                    <a:pt x="35" y="31"/>
                  </a:cubicBezTo>
                  <a:cubicBezTo>
                    <a:pt x="36" y="29"/>
                    <a:pt x="38" y="29"/>
                    <a:pt x="39" y="28"/>
                  </a:cubicBezTo>
                  <a:cubicBezTo>
                    <a:pt x="35" y="27"/>
                    <a:pt x="31" y="26"/>
                    <a:pt x="31" y="21"/>
                  </a:cubicBezTo>
                  <a:cubicBezTo>
                    <a:pt x="25" y="20"/>
                    <a:pt x="15" y="19"/>
                    <a:pt x="16" y="14"/>
                  </a:cubicBezTo>
                  <a:cubicBezTo>
                    <a:pt x="9" y="14"/>
                    <a:pt x="7" y="20"/>
                    <a:pt x="0" y="20"/>
                  </a:cubicBezTo>
                  <a:cubicBezTo>
                    <a:pt x="15" y="0"/>
                    <a:pt x="41" y="21"/>
                    <a:pt x="54" y="29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6"/>
            <p:cNvSpPr/>
            <p:nvPr/>
          </p:nvSpPr>
          <p:spPr>
            <a:xfrm>
              <a:off x="2772000" y="2282400"/>
              <a:ext cx="37440" cy="338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" h="8">
                  <a:moveTo>
                    <a:pt x="0" y="4"/>
                  </a:moveTo>
                  <a:cubicBezTo>
                    <a:pt x="0" y="0"/>
                    <a:pt x="6" y="4"/>
                    <a:pt x="9" y="3"/>
                  </a:cubicBezTo>
                  <a:cubicBezTo>
                    <a:pt x="9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7"/>
            <p:cNvSpPr/>
            <p:nvPr/>
          </p:nvSpPr>
          <p:spPr>
            <a:xfrm>
              <a:off x="6880320" y="2282400"/>
              <a:ext cx="67680" cy="168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6" h="40">
                  <a:moveTo>
                    <a:pt x="11" y="30"/>
                  </a:moveTo>
                  <a:cubicBezTo>
                    <a:pt x="8" y="33"/>
                    <a:pt x="12" y="36"/>
                    <a:pt x="11" y="40"/>
                  </a:cubicBezTo>
                  <a:cubicBezTo>
                    <a:pt x="7" y="37"/>
                    <a:pt x="4" y="32"/>
                    <a:pt x="7" y="26"/>
                  </a:cubicBezTo>
                  <a:cubicBezTo>
                    <a:pt x="3" y="27"/>
                    <a:pt x="1" y="21"/>
                    <a:pt x="0" y="16"/>
                  </a:cubicBezTo>
                  <a:cubicBezTo>
                    <a:pt x="1" y="16"/>
                    <a:pt x="2" y="17"/>
                    <a:pt x="3" y="17"/>
                  </a:cubicBezTo>
                  <a:cubicBezTo>
                    <a:pt x="2" y="13"/>
                    <a:pt x="2" y="4"/>
                    <a:pt x="3" y="1"/>
                  </a:cubicBezTo>
                  <a:cubicBezTo>
                    <a:pt x="7" y="0"/>
                    <a:pt x="7" y="4"/>
                    <a:pt x="11" y="3"/>
                  </a:cubicBezTo>
                  <a:cubicBezTo>
                    <a:pt x="12" y="10"/>
                    <a:pt x="16" y="16"/>
                    <a:pt x="9" y="19"/>
                  </a:cubicBezTo>
                  <a:cubicBezTo>
                    <a:pt x="10" y="22"/>
                    <a:pt x="12" y="25"/>
                    <a:pt x="12" y="28"/>
                  </a:cubicBezTo>
                  <a:cubicBezTo>
                    <a:pt x="12" y="29"/>
                    <a:pt x="11" y="29"/>
                    <a:pt x="11" y="3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8"/>
            <p:cNvSpPr/>
            <p:nvPr/>
          </p:nvSpPr>
          <p:spPr>
            <a:xfrm>
              <a:off x="6990840" y="244260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cubicBezTo>
                    <a:pt x="6" y="3"/>
                    <a:pt x="8" y="4"/>
                    <a:pt x="8" y="8"/>
                  </a:cubicBezTo>
                  <a:cubicBezTo>
                    <a:pt x="3" y="8"/>
                    <a:pt x="2" y="3"/>
                    <a:pt x="0" y="0"/>
                  </a:cubicBezTo>
                  <a:cubicBezTo>
                    <a:pt x="2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9"/>
            <p:cNvSpPr/>
            <p:nvPr/>
          </p:nvSpPr>
          <p:spPr>
            <a:xfrm>
              <a:off x="6008760" y="2513520"/>
              <a:ext cx="54720" cy="979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3" h="23">
                  <a:moveTo>
                    <a:pt x="12" y="19"/>
                  </a:moveTo>
                  <a:cubicBezTo>
                    <a:pt x="10" y="21"/>
                    <a:pt x="8" y="23"/>
                    <a:pt x="4" y="23"/>
                  </a:cubicBezTo>
                  <a:cubicBezTo>
                    <a:pt x="0" y="17"/>
                    <a:pt x="0" y="3"/>
                    <a:pt x="4" y="0"/>
                  </a:cubicBezTo>
                  <a:cubicBezTo>
                    <a:pt x="7" y="6"/>
                    <a:pt x="13" y="10"/>
                    <a:pt x="12" y="19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40"/>
            <p:cNvSpPr/>
            <p:nvPr/>
          </p:nvSpPr>
          <p:spPr>
            <a:xfrm>
              <a:off x="2198880" y="2754000"/>
              <a:ext cx="24840" cy="388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" h="9">
                  <a:moveTo>
                    <a:pt x="6" y="2"/>
                  </a:moveTo>
                  <a:cubicBezTo>
                    <a:pt x="3" y="3"/>
                    <a:pt x="6" y="9"/>
                    <a:pt x="2" y="8"/>
                  </a:cubicBezTo>
                  <a:cubicBezTo>
                    <a:pt x="2" y="5"/>
                    <a:pt x="0" y="4"/>
                    <a:pt x="1" y="1"/>
                  </a:cubicBezTo>
                  <a:cubicBezTo>
                    <a:pt x="4" y="0"/>
                    <a:pt x="3" y="3"/>
                    <a:pt x="6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41"/>
            <p:cNvSpPr/>
            <p:nvPr/>
          </p:nvSpPr>
          <p:spPr>
            <a:xfrm>
              <a:off x="7083360" y="2817720"/>
              <a:ext cx="74520" cy="42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8" h="10">
                  <a:moveTo>
                    <a:pt x="18" y="10"/>
                  </a:moveTo>
                  <a:cubicBezTo>
                    <a:pt x="12" y="8"/>
                    <a:pt x="6" y="2"/>
                    <a:pt x="0" y="7"/>
                  </a:cubicBezTo>
                  <a:cubicBezTo>
                    <a:pt x="2" y="0"/>
                    <a:pt x="18" y="2"/>
                    <a:pt x="18" y="1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42"/>
            <p:cNvSpPr/>
            <p:nvPr/>
          </p:nvSpPr>
          <p:spPr>
            <a:xfrm>
              <a:off x="7542360" y="2864160"/>
              <a:ext cx="92160" cy="70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" h="17">
                  <a:moveTo>
                    <a:pt x="22" y="0"/>
                  </a:moveTo>
                  <a:cubicBezTo>
                    <a:pt x="21" y="9"/>
                    <a:pt x="6" y="17"/>
                    <a:pt x="0" y="8"/>
                  </a:cubicBezTo>
                  <a:cubicBezTo>
                    <a:pt x="8" y="9"/>
                    <a:pt x="9" y="4"/>
                    <a:pt x="14" y="7"/>
                  </a:cubicBezTo>
                  <a:cubicBezTo>
                    <a:pt x="17" y="6"/>
                    <a:pt x="18" y="4"/>
                    <a:pt x="17" y="0"/>
                  </a:cubicBezTo>
                  <a:cubicBezTo>
                    <a:pt x="19" y="0"/>
                    <a:pt x="20" y="0"/>
                    <a:pt x="22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3"/>
            <p:cNvSpPr/>
            <p:nvPr/>
          </p:nvSpPr>
          <p:spPr>
            <a:xfrm>
              <a:off x="6581520" y="2901600"/>
              <a:ext cx="227520" cy="9396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54" h="22">
                  <a:moveTo>
                    <a:pt x="53" y="15"/>
                  </a:moveTo>
                  <a:cubicBezTo>
                    <a:pt x="53" y="15"/>
                    <a:pt x="54" y="15"/>
                    <a:pt x="54" y="15"/>
                  </a:cubicBezTo>
                  <a:cubicBezTo>
                    <a:pt x="53" y="22"/>
                    <a:pt x="49" y="14"/>
                    <a:pt x="47" y="18"/>
                  </a:cubicBezTo>
                  <a:cubicBezTo>
                    <a:pt x="32" y="14"/>
                    <a:pt x="13" y="14"/>
                    <a:pt x="0" y="7"/>
                  </a:cubicBezTo>
                  <a:cubicBezTo>
                    <a:pt x="2" y="6"/>
                    <a:pt x="3" y="4"/>
                    <a:pt x="4" y="1"/>
                  </a:cubicBezTo>
                  <a:cubicBezTo>
                    <a:pt x="8" y="4"/>
                    <a:pt x="16" y="0"/>
                    <a:pt x="18" y="7"/>
                  </a:cubicBezTo>
                  <a:cubicBezTo>
                    <a:pt x="23" y="6"/>
                    <a:pt x="27" y="10"/>
                    <a:pt x="29" y="5"/>
                  </a:cubicBezTo>
                  <a:cubicBezTo>
                    <a:pt x="34" y="6"/>
                    <a:pt x="38" y="9"/>
                    <a:pt x="45" y="8"/>
                  </a:cubicBezTo>
                  <a:cubicBezTo>
                    <a:pt x="45" y="9"/>
                    <a:pt x="42" y="10"/>
                    <a:pt x="40" y="10"/>
                  </a:cubicBezTo>
                  <a:cubicBezTo>
                    <a:pt x="39" y="13"/>
                    <a:pt x="42" y="13"/>
                    <a:pt x="44" y="13"/>
                  </a:cubicBezTo>
                  <a:cubicBezTo>
                    <a:pt x="48" y="12"/>
                    <a:pt x="47" y="14"/>
                    <a:pt x="48" y="15"/>
                  </a:cubicBezTo>
                  <a:cubicBezTo>
                    <a:pt x="50" y="15"/>
                    <a:pt x="51" y="15"/>
                    <a:pt x="53" y="15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4"/>
            <p:cNvSpPr/>
            <p:nvPr/>
          </p:nvSpPr>
          <p:spPr>
            <a:xfrm>
              <a:off x="6901560" y="2944080"/>
              <a:ext cx="71280" cy="51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5"/>
                  </a:moveTo>
                  <a:cubicBezTo>
                    <a:pt x="17" y="10"/>
                    <a:pt x="6" y="9"/>
                    <a:pt x="0" y="9"/>
                  </a:cubicBezTo>
                  <a:cubicBezTo>
                    <a:pt x="1" y="0"/>
                    <a:pt x="12" y="12"/>
                    <a:pt x="15" y="5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5"/>
            <p:cNvSpPr/>
            <p:nvPr/>
          </p:nvSpPr>
          <p:spPr>
            <a:xfrm>
              <a:off x="6978240" y="2969280"/>
              <a:ext cx="87120" cy="51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1" h="12">
                  <a:moveTo>
                    <a:pt x="21" y="0"/>
                  </a:moveTo>
                  <a:cubicBezTo>
                    <a:pt x="14" y="4"/>
                    <a:pt x="9" y="9"/>
                    <a:pt x="0" y="12"/>
                  </a:cubicBezTo>
                  <a:cubicBezTo>
                    <a:pt x="3" y="4"/>
                    <a:pt x="11" y="1"/>
                    <a:pt x="21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6"/>
            <p:cNvSpPr/>
            <p:nvPr/>
          </p:nvSpPr>
          <p:spPr>
            <a:xfrm>
              <a:off x="8134560" y="319716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" h="7">
                  <a:moveTo>
                    <a:pt x="7" y="0"/>
                  </a:moveTo>
                  <a:cubicBezTo>
                    <a:pt x="7" y="3"/>
                    <a:pt x="7" y="5"/>
                    <a:pt x="6" y="6"/>
                  </a:cubicBezTo>
                  <a:cubicBezTo>
                    <a:pt x="3" y="7"/>
                    <a:pt x="2" y="5"/>
                    <a:pt x="0" y="5"/>
                  </a:cubicBezTo>
                  <a:cubicBezTo>
                    <a:pt x="1" y="2"/>
                    <a:pt x="2" y="0"/>
                    <a:pt x="7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7"/>
            <p:cNvSpPr/>
            <p:nvPr/>
          </p:nvSpPr>
          <p:spPr>
            <a:xfrm>
              <a:off x="7200720" y="3780720"/>
              <a:ext cx="88920" cy="87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1" h="21">
                  <a:moveTo>
                    <a:pt x="5" y="0"/>
                  </a:moveTo>
                  <a:cubicBezTo>
                    <a:pt x="9" y="5"/>
                    <a:pt x="15" y="4"/>
                    <a:pt x="21" y="1"/>
                  </a:cubicBezTo>
                  <a:cubicBezTo>
                    <a:pt x="21" y="9"/>
                    <a:pt x="13" y="10"/>
                    <a:pt x="12" y="17"/>
                  </a:cubicBezTo>
                  <a:cubicBezTo>
                    <a:pt x="7" y="12"/>
                    <a:pt x="7" y="21"/>
                    <a:pt x="0" y="19"/>
                  </a:cubicBezTo>
                  <a:cubicBezTo>
                    <a:pt x="1" y="14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8"/>
            <p:cNvSpPr/>
            <p:nvPr/>
          </p:nvSpPr>
          <p:spPr>
            <a:xfrm>
              <a:off x="7570440" y="3780720"/>
              <a:ext cx="245520" cy="1814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8" h="43">
                  <a:moveTo>
                    <a:pt x="53" y="0"/>
                  </a:moveTo>
                  <a:cubicBezTo>
                    <a:pt x="53" y="2"/>
                    <a:pt x="52" y="2"/>
                    <a:pt x="52" y="4"/>
                  </a:cubicBezTo>
                  <a:cubicBezTo>
                    <a:pt x="53" y="7"/>
                    <a:pt x="55" y="2"/>
                    <a:pt x="58" y="3"/>
                  </a:cubicBezTo>
                  <a:cubicBezTo>
                    <a:pt x="56" y="12"/>
                    <a:pt x="41" y="12"/>
                    <a:pt x="41" y="21"/>
                  </a:cubicBezTo>
                  <a:cubicBezTo>
                    <a:pt x="23" y="21"/>
                    <a:pt x="18" y="43"/>
                    <a:pt x="0" y="34"/>
                  </a:cubicBezTo>
                  <a:cubicBezTo>
                    <a:pt x="15" y="20"/>
                    <a:pt x="37" y="13"/>
                    <a:pt x="53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55"/>
            <p:cNvSpPr/>
            <p:nvPr/>
          </p:nvSpPr>
          <p:spPr>
            <a:xfrm>
              <a:off x="6695640" y="3384000"/>
              <a:ext cx="21240" cy="40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" h="10">
                  <a:moveTo>
                    <a:pt x="4" y="0"/>
                  </a:moveTo>
                  <a:cubicBezTo>
                    <a:pt x="4" y="4"/>
                    <a:pt x="5" y="9"/>
                    <a:pt x="2" y="5"/>
                  </a:cubicBezTo>
                  <a:cubicBezTo>
                    <a:pt x="2" y="7"/>
                    <a:pt x="3" y="10"/>
                    <a:pt x="1" y="10"/>
                  </a:cubicBezTo>
                  <a:cubicBezTo>
                    <a:pt x="1" y="9"/>
                    <a:pt x="1" y="8"/>
                    <a:pt x="0" y="7"/>
                  </a:cubicBezTo>
                  <a:cubicBezTo>
                    <a:pt x="2" y="5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56"/>
            <p:cNvSpPr/>
            <p:nvPr/>
          </p:nvSpPr>
          <p:spPr>
            <a:xfrm>
              <a:off x="6965640" y="2734200"/>
              <a:ext cx="40680" cy="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cubicBezTo>
                    <a:pt x="3" y="0"/>
                    <a:pt x="7" y="0"/>
                    <a:pt x="10" y="0"/>
                  </a:cubicBezTo>
                  <a:cubicBezTo>
                    <a:pt x="9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293544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744160" y="491760"/>
            <a:ext cx="367200" cy="367200"/>
            <a:chOff x="5744160" y="491760"/>
            <a:chExt cx="367200" cy="367200"/>
          </a:xfrm>
        </p:grpSpPr>
        <p:sp>
          <p:nvSpPr>
            <p:cNvPr id="267" name="Freeform 28"/>
            <p:cNvSpPr/>
            <p:nvPr/>
          </p:nvSpPr>
          <p:spPr>
            <a:xfrm rot="18900000">
              <a:off x="5797440" y="545760"/>
              <a:ext cx="260640" cy="25884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 rot="18900000">
              <a:off x="5851440" y="601200"/>
              <a:ext cx="151200" cy="149040"/>
            </a:xfrm>
            <a:custGeom>
              <a:avLst/>
              <a:gdLst>
                <a:gd name="textAreaLeft" fmla="*/ 0 w 151200"/>
                <a:gd name="textAreaRight" fmla="*/ 151200 w 151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614760" y="1519200"/>
            <a:ext cx="185760" cy="185760"/>
            <a:chOff x="3614760" y="1519200"/>
            <a:chExt cx="185760" cy="185760"/>
          </a:xfrm>
        </p:grpSpPr>
        <p:sp>
          <p:nvSpPr>
            <p:cNvPr id="270" name="Freeform 28"/>
            <p:cNvSpPr/>
            <p:nvPr/>
          </p:nvSpPr>
          <p:spPr>
            <a:xfrm>
              <a:off x="3614760" y="1519200"/>
              <a:ext cx="185760" cy="18576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3653280" y="1558440"/>
              <a:ext cx="107640" cy="106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87880" y="250920"/>
            <a:ext cx="146160" cy="144360"/>
            <a:chOff x="5087880" y="250920"/>
            <a:chExt cx="146160" cy="144360"/>
          </a:xfrm>
        </p:grpSpPr>
        <p:sp>
          <p:nvSpPr>
            <p:cNvPr id="273" name="Freeform 28"/>
            <p:cNvSpPr/>
            <p:nvPr/>
          </p:nvSpPr>
          <p:spPr>
            <a:xfrm>
              <a:off x="5087880" y="250920"/>
              <a:ext cx="146160" cy="14436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5118120" y="281520"/>
              <a:ext cx="84960" cy="83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238400" y="2392200"/>
            <a:ext cx="490320" cy="493920"/>
            <a:chOff x="1238400" y="2392200"/>
            <a:chExt cx="490320" cy="493920"/>
          </a:xfrm>
        </p:grpSpPr>
        <p:sp>
          <p:nvSpPr>
            <p:cNvPr id="276" name="Freeform 33"/>
            <p:cNvSpPr/>
            <p:nvPr/>
          </p:nvSpPr>
          <p:spPr>
            <a:xfrm>
              <a:off x="1238400" y="2392200"/>
              <a:ext cx="490320" cy="493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1339560" y="2496240"/>
              <a:ext cx="284760" cy="285480"/>
            </a:xfrm>
            <a:custGeom>
              <a:avLst/>
              <a:gdLst>
                <a:gd name="textAreaLeft" fmla="*/ 0 w 284760"/>
                <a:gd name="textAreaRight" fmla="*/ 284760 w 284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85800" y="22824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Calibri"/>
              </a:rPr>
              <a:t>国外宽屏淡雅商务</a:t>
            </a:r>
            <a:r>
              <a:rPr b="0" lang="en-US" sz="4000" spc="-1" strike="noStrike">
                <a:solidFill>
                  <a:srgbClr val="3f3f3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3f3f3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86520" y="748440"/>
            <a:ext cx="2343960" cy="2343960"/>
            <a:chOff x="6986520" y="748440"/>
            <a:chExt cx="2343960" cy="2343960"/>
          </a:xfrm>
        </p:grpSpPr>
        <p:sp>
          <p:nvSpPr>
            <p:cNvPr id="280" name="Freeform 33"/>
            <p:cNvSpPr/>
            <p:nvPr/>
          </p:nvSpPr>
          <p:spPr>
            <a:xfrm rot="18900000">
              <a:off x="7331040" y="1090440"/>
              <a:ext cx="1654920" cy="1659960"/>
            </a:xfrm>
            <a:prstGeom prst="pie">
              <a:avLst/>
            </a:prstGeom>
            <a:solidFill>
              <a:srgbClr val="6cb862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 rot="18900000">
              <a:off x="7674120" y="1443960"/>
              <a:ext cx="961560" cy="959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6cb862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Content Placeholder 3"/>
          <p:cNvSpPr/>
          <p:nvPr/>
        </p:nvSpPr>
        <p:spPr>
          <a:xfrm>
            <a:off x="457200" y="4516560"/>
            <a:ext cx="8229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840" y="4694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9"/>
          <p:cNvSpPr/>
          <p:nvPr/>
        </p:nvSpPr>
        <p:spPr>
          <a:xfrm>
            <a:off x="-31680" y="3305160"/>
            <a:ext cx="9219960" cy="185904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5811" h="1171">
                <a:moveTo>
                  <a:pt x="5765" y="877"/>
                </a:moveTo>
                <a:lnTo>
                  <a:pt x="5765" y="707"/>
                </a:lnTo>
                <a:lnTo>
                  <a:pt x="5765" y="565"/>
                </a:lnTo>
                <a:lnTo>
                  <a:pt x="5738" y="565"/>
                </a:lnTo>
                <a:lnTo>
                  <a:pt x="5678" y="565"/>
                </a:lnTo>
                <a:lnTo>
                  <a:pt x="5678" y="519"/>
                </a:lnTo>
                <a:lnTo>
                  <a:pt x="5646" y="519"/>
                </a:lnTo>
                <a:lnTo>
                  <a:pt x="5646" y="473"/>
                </a:lnTo>
                <a:lnTo>
                  <a:pt x="5591" y="436"/>
                </a:lnTo>
                <a:lnTo>
                  <a:pt x="5559" y="455"/>
                </a:lnTo>
                <a:lnTo>
                  <a:pt x="5559" y="579"/>
                </a:lnTo>
                <a:lnTo>
                  <a:pt x="5549" y="579"/>
                </a:lnTo>
                <a:lnTo>
                  <a:pt x="5549" y="716"/>
                </a:lnTo>
                <a:lnTo>
                  <a:pt x="5536" y="716"/>
                </a:lnTo>
                <a:lnTo>
                  <a:pt x="5536" y="794"/>
                </a:lnTo>
                <a:lnTo>
                  <a:pt x="5522" y="794"/>
                </a:lnTo>
                <a:lnTo>
                  <a:pt x="5522" y="845"/>
                </a:lnTo>
                <a:lnTo>
                  <a:pt x="5513" y="845"/>
                </a:lnTo>
                <a:lnTo>
                  <a:pt x="5513" y="978"/>
                </a:lnTo>
                <a:lnTo>
                  <a:pt x="5471" y="978"/>
                </a:lnTo>
                <a:lnTo>
                  <a:pt x="5471" y="918"/>
                </a:lnTo>
                <a:lnTo>
                  <a:pt x="5444" y="918"/>
                </a:lnTo>
                <a:lnTo>
                  <a:pt x="5412" y="918"/>
                </a:lnTo>
                <a:lnTo>
                  <a:pt x="5412" y="620"/>
                </a:lnTo>
                <a:lnTo>
                  <a:pt x="5361" y="620"/>
                </a:lnTo>
                <a:lnTo>
                  <a:pt x="5361" y="574"/>
                </a:lnTo>
                <a:lnTo>
                  <a:pt x="5343" y="574"/>
                </a:lnTo>
                <a:lnTo>
                  <a:pt x="5269" y="574"/>
                </a:lnTo>
                <a:lnTo>
                  <a:pt x="5269" y="698"/>
                </a:lnTo>
                <a:lnTo>
                  <a:pt x="5223" y="698"/>
                </a:lnTo>
                <a:lnTo>
                  <a:pt x="5223" y="905"/>
                </a:lnTo>
                <a:lnTo>
                  <a:pt x="5201" y="905"/>
                </a:lnTo>
                <a:lnTo>
                  <a:pt x="5201" y="955"/>
                </a:lnTo>
                <a:lnTo>
                  <a:pt x="5159" y="955"/>
                </a:lnTo>
                <a:lnTo>
                  <a:pt x="5159" y="1001"/>
                </a:lnTo>
                <a:lnTo>
                  <a:pt x="5141" y="1001"/>
                </a:lnTo>
                <a:lnTo>
                  <a:pt x="5141" y="1029"/>
                </a:lnTo>
                <a:lnTo>
                  <a:pt x="5122" y="1029"/>
                </a:lnTo>
                <a:lnTo>
                  <a:pt x="5122" y="1015"/>
                </a:lnTo>
                <a:lnTo>
                  <a:pt x="5100" y="1015"/>
                </a:lnTo>
                <a:lnTo>
                  <a:pt x="4980" y="1015"/>
                </a:lnTo>
                <a:lnTo>
                  <a:pt x="4980" y="996"/>
                </a:lnTo>
                <a:lnTo>
                  <a:pt x="4980" y="987"/>
                </a:lnTo>
                <a:lnTo>
                  <a:pt x="4980" y="863"/>
                </a:lnTo>
                <a:lnTo>
                  <a:pt x="4939" y="863"/>
                </a:lnTo>
                <a:lnTo>
                  <a:pt x="4939" y="886"/>
                </a:lnTo>
                <a:lnTo>
                  <a:pt x="4930" y="886"/>
                </a:lnTo>
                <a:lnTo>
                  <a:pt x="4907" y="873"/>
                </a:lnTo>
                <a:lnTo>
                  <a:pt x="4907" y="863"/>
                </a:lnTo>
                <a:lnTo>
                  <a:pt x="4907" y="831"/>
                </a:lnTo>
                <a:lnTo>
                  <a:pt x="4856" y="831"/>
                </a:lnTo>
                <a:lnTo>
                  <a:pt x="4856" y="868"/>
                </a:lnTo>
                <a:lnTo>
                  <a:pt x="4778" y="868"/>
                </a:lnTo>
                <a:lnTo>
                  <a:pt x="4778" y="974"/>
                </a:lnTo>
                <a:lnTo>
                  <a:pt x="4751" y="974"/>
                </a:lnTo>
                <a:lnTo>
                  <a:pt x="4751" y="964"/>
                </a:lnTo>
                <a:lnTo>
                  <a:pt x="4751" y="909"/>
                </a:lnTo>
                <a:lnTo>
                  <a:pt x="4700" y="909"/>
                </a:lnTo>
                <a:lnTo>
                  <a:pt x="4663" y="909"/>
                </a:lnTo>
                <a:lnTo>
                  <a:pt x="4654" y="891"/>
                </a:lnTo>
                <a:lnTo>
                  <a:pt x="4645" y="891"/>
                </a:lnTo>
                <a:lnTo>
                  <a:pt x="4627" y="909"/>
                </a:lnTo>
                <a:lnTo>
                  <a:pt x="4572" y="909"/>
                </a:lnTo>
                <a:lnTo>
                  <a:pt x="4572" y="992"/>
                </a:lnTo>
                <a:lnTo>
                  <a:pt x="4558" y="992"/>
                </a:lnTo>
                <a:lnTo>
                  <a:pt x="4558" y="960"/>
                </a:lnTo>
                <a:lnTo>
                  <a:pt x="4540" y="960"/>
                </a:lnTo>
                <a:lnTo>
                  <a:pt x="4540" y="923"/>
                </a:lnTo>
                <a:lnTo>
                  <a:pt x="4498" y="923"/>
                </a:lnTo>
                <a:lnTo>
                  <a:pt x="4498" y="914"/>
                </a:lnTo>
                <a:lnTo>
                  <a:pt x="4498" y="804"/>
                </a:lnTo>
                <a:lnTo>
                  <a:pt x="4484" y="804"/>
                </a:lnTo>
                <a:lnTo>
                  <a:pt x="4484" y="762"/>
                </a:lnTo>
                <a:lnTo>
                  <a:pt x="4466" y="749"/>
                </a:lnTo>
                <a:lnTo>
                  <a:pt x="4448" y="749"/>
                </a:lnTo>
                <a:lnTo>
                  <a:pt x="4420" y="749"/>
                </a:lnTo>
                <a:lnTo>
                  <a:pt x="4420" y="808"/>
                </a:lnTo>
                <a:lnTo>
                  <a:pt x="4406" y="808"/>
                </a:lnTo>
                <a:lnTo>
                  <a:pt x="4406" y="873"/>
                </a:lnTo>
                <a:lnTo>
                  <a:pt x="4402" y="873"/>
                </a:lnTo>
                <a:lnTo>
                  <a:pt x="4383" y="873"/>
                </a:lnTo>
                <a:lnTo>
                  <a:pt x="4383" y="684"/>
                </a:lnTo>
                <a:lnTo>
                  <a:pt x="4154" y="684"/>
                </a:lnTo>
                <a:lnTo>
                  <a:pt x="4131" y="693"/>
                </a:lnTo>
                <a:lnTo>
                  <a:pt x="4131" y="730"/>
                </a:lnTo>
                <a:lnTo>
                  <a:pt x="4099" y="730"/>
                </a:lnTo>
                <a:lnTo>
                  <a:pt x="4099" y="726"/>
                </a:lnTo>
                <a:lnTo>
                  <a:pt x="4099" y="409"/>
                </a:lnTo>
                <a:lnTo>
                  <a:pt x="4081" y="395"/>
                </a:lnTo>
                <a:lnTo>
                  <a:pt x="4081" y="354"/>
                </a:lnTo>
                <a:lnTo>
                  <a:pt x="4003" y="354"/>
                </a:lnTo>
                <a:lnTo>
                  <a:pt x="3984" y="363"/>
                </a:lnTo>
                <a:lnTo>
                  <a:pt x="3984" y="400"/>
                </a:lnTo>
                <a:lnTo>
                  <a:pt x="3961" y="400"/>
                </a:lnTo>
                <a:lnTo>
                  <a:pt x="3961" y="689"/>
                </a:lnTo>
                <a:lnTo>
                  <a:pt x="3952" y="689"/>
                </a:lnTo>
                <a:lnTo>
                  <a:pt x="3920" y="666"/>
                </a:lnTo>
                <a:lnTo>
                  <a:pt x="3741" y="666"/>
                </a:lnTo>
                <a:lnTo>
                  <a:pt x="3741" y="643"/>
                </a:lnTo>
                <a:lnTo>
                  <a:pt x="3704" y="643"/>
                </a:lnTo>
                <a:lnTo>
                  <a:pt x="3704" y="92"/>
                </a:lnTo>
                <a:lnTo>
                  <a:pt x="3429" y="92"/>
                </a:lnTo>
                <a:lnTo>
                  <a:pt x="3429" y="670"/>
                </a:lnTo>
                <a:lnTo>
                  <a:pt x="3241" y="670"/>
                </a:lnTo>
                <a:lnTo>
                  <a:pt x="3241" y="873"/>
                </a:lnTo>
                <a:lnTo>
                  <a:pt x="3107" y="873"/>
                </a:lnTo>
                <a:lnTo>
                  <a:pt x="3107" y="854"/>
                </a:lnTo>
                <a:lnTo>
                  <a:pt x="3107" y="850"/>
                </a:lnTo>
                <a:lnTo>
                  <a:pt x="3089" y="850"/>
                </a:lnTo>
                <a:lnTo>
                  <a:pt x="3089" y="886"/>
                </a:lnTo>
                <a:lnTo>
                  <a:pt x="3052" y="886"/>
                </a:lnTo>
                <a:lnTo>
                  <a:pt x="3006" y="886"/>
                </a:lnTo>
                <a:lnTo>
                  <a:pt x="3006" y="941"/>
                </a:lnTo>
                <a:lnTo>
                  <a:pt x="2984" y="941"/>
                </a:lnTo>
                <a:lnTo>
                  <a:pt x="2984" y="914"/>
                </a:lnTo>
                <a:lnTo>
                  <a:pt x="2984" y="854"/>
                </a:lnTo>
                <a:lnTo>
                  <a:pt x="2979" y="854"/>
                </a:lnTo>
                <a:lnTo>
                  <a:pt x="2892" y="854"/>
                </a:lnTo>
                <a:lnTo>
                  <a:pt x="2892" y="138"/>
                </a:lnTo>
                <a:lnTo>
                  <a:pt x="2873" y="138"/>
                </a:lnTo>
                <a:lnTo>
                  <a:pt x="2873" y="69"/>
                </a:lnTo>
                <a:lnTo>
                  <a:pt x="2777" y="28"/>
                </a:lnTo>
                <a:lnTo>
                  <a:pt x="2731" y="18"/>
                </a:lnTo>
                <a:lnTo>
                  <a:pt x="2731" y="14"/>
                </a:lnTo>
                <a:lnTo>
                  <a:pt x="2731" y="0"/>
                </a:lnTo>
                <a:lnTo>
                  <a:pt x="2685" y="0"/>
                </a:lnTo>
                <a:lnTo>
                  <a:pt x="2685" y="18"/>
                </a:lnTo>
                <a:lnTo>
                  <a:pt x="2598" y="18"/>
                </a:lnTo>
                <a:lnTo>
                  <a:pt x="2598" y="106"/>
                </a:lnTo>
                <a:lnTo>
                  <a:pt x="2589" y="106"/>
                </a:lnTo>
                <a:lnTo>
                  <a:pt x="2589" y="753"/>
                </a:lnTo>
                <a:lnTo>
                  <a:pt x="2580" y="753"/>
                </a:lnTo>
                <a:lnTo>
                  <a:pt x="2520" y="753"/>
                </a:lnTo>
                <a:lnTo>
                  <a:pt x="2520" y="611"/>
                </a:lnTo>
                <a:lnTo>
                  <a:pt x="2515" y="606"/>
                </a:lnTo>
                <a:lnTo>
                  <a:pt x="2511" y="606"/>
                </a:lnTo>
                <a:lnTo>
                  <a:pt x="2502" y="606"/>
                </a:lnTo>
                <a:lnTo>
                  <a:pt x="2492" y="602"/>
                </a:lnTo>
                <a:lnTo>
                  <a:pt x="2492" y="464"/>
                </a:lnTo>
                <a:lnTo>
                  <a:pt x="2492" y="390"/>
                </a:lnTo>
                <a:lnTo>
                  <a:pt x="2488" y="386"/>
                </a:lnTo>
                <a:lnTo>
                  <a:pt x="2387" y="386"/>
                </a:lnTo>
                <a:lnTo>
                  <a:pt x="2378" y="390"/>
                </a:lnTo>
                <a:lnTo>
                  <a:pt x="2378" y="464"/>
                </a:lnTo>
                <a:lnTo>
                  <a:pt x="2373" y="468"/>
                </a:lnTo>
                <a:lnTo>
                  <a:pt x="2373" y="592"/>
                </a:lnTo>
                <a:lnTo>
                  <a:pt x="2364" y="602"/>
                </a:lnTo>
                <a:lnTo>
                  <a:pt x="2359" y="602"/>
                </a:lnTo>
                <a:lnTo>
                  <a:pt x="2341" y="602"/>
                </a:lnTo>
                <a:lnTo>
                  <a:pt x="2341" y="615"/>
                </a:lnTo>
                <a:lnTo>
                  <a:pt x="2313" y="615"/>
                </a:lnTo>
                <a:lnTo>
                  <a:pt x="2313" y="767"/>
                </a:lnTo>
                <a:lnTo>
                  <a:pt x="2313" y="808"/>
                </a:lnTo>
                <a:lnTo>
                  <a:pt x="2304" y="808"/>
                </a:lnTo>
                <a:lnTo>
                  <a:pt x="2277" y="808"/>
                </a:lnTo>
                <a:lnTo>
                  <a:pt x="2277" y="790"/>
                </a:lnTo>
                <a:lnTo>
                  <a:pt x="2231" y="790"/>
                </a:lnTo>
                <a:lnTo>
                  <a:pt x="2231" y="716"/>
                </a:lnTo>
                <a:lnTo>
                  <a:pt x="2116" y="716"/>
                </a:lnTo>
                <a:lnTo>
                  <a:pt x="1997" y="716"/>
                </a:lnTo>
                <a:lnTo>
                  <a:pt x="1997" y="602"/>
                </a:lnTo>
                <a:lnTo>
                  <a:pt x="1997" y="542"/>
                </a:lnTo>
                <a:lnTo>
                  <a:pt x="1859" y="542"/>
                </a:lnTo>
                <a:lnTo>
                  <a:pt x="1859" y="514"/>
                </a:lnTo>
                <a:lnTo>
                  <a:pt x="1758" y="514"/>
                </a:lnTo>
                <a:lnTo>
                  <a:pt x="1758" y="712"/>
                </a:lnTo>
                <a:lnTo>
                  <a:pt x="1744" y="712"/>
                </a:lnTo>
                <a:lnTo>
                  <a:pt x="1680" y="712"/>
                </a:lnTo>
                <a:lnTo>
                  <a:pt x="1680" y="703"/>
                </a:lnTo>
                <a:lnTo>
                  <a:pt x="1666" y="703"/>
                </a:lnTo>
                <a:lnTo>
                  <a:pt x="1657" y="703"/>
                </a:lnTo>
                <a:lnTo>
                  <a:pt x="1657" y="886"/>
                </a:lnTo>
                <a:lnTo>
                  <a:pt x="1639" y="877"/>
                </a:lnTo>
                <a:lnTo>
                  <a:pt x="1639" y="707"/>
                </a:lnTo>
                <a:lnTo>
                  <a:pt x="1639" y="565"/>
                </a:lnTo>
                <a:lnTo>
                  <a:pt x="1611" y="565"/>
                </a:lnTo>
                <a:lnTo>
                  <a:pt x="1551" y="565"/>
                </a:lnTo>
                <a:lnTo>
                  <a:pt x="1551" y="519"/>
                </a:lnTo>
                <a:lnTo>
                  <a:pt x="1519" y="519"/>
                </a:lnTo>
                <a:lnTo>
                  <a:pt x="1519" y="473"/>
                </a:lnTo>
                <a:lnTo>
                  <a:pt x="1464" y="436"/>
                </a:lnTo>
                <a:lnTo>
                  <a:pt x="1432" y="455"/>
                </a:lnTo>
                <a:lnTo>
                  <a:pt x="1432" y="579"/>
                </a:lnTo>
                <a:lnTo>
                  <a:pt x="1423" y="579"/>
                </a:lnTo>
                <a:lnTo>
                  <a:pt x="1423" y="716"/>
                </a:lnTo>
                <a:lnTo>
                  <a:pt x="1409" y="716"/>
                </a:lnTo>
                <a:lnTo>
                  <a:pt x="1409" y="794"/>
                </a:lnTo>
                <a:lnTo>
                  <a:pt x="1395" y="794"/>
                </a:lnTo>
                <a:lnTo>
                  <a:pt x="1395" y="845"/>
                </a:lnTo>
                <a:lnTo>
                  <a:pt x="1386" y="845"/>
                </a:lnTo>
                <a:lnTo>
                  <a:pt x="1386" y="978"/>
                </a:lnTo>
                <a:lnTo>
                  <a:pt x="1345" y="978"/>
                </a:lnTo>
                <a:lnTo>
                  <a:pt x="1345" y="918"/>
                </a:lnTo>
                <a:lnTo>
                  <a:pt x="1317" y="918"/>
                </a:lnTo>
                <a:lnTo>
                  <a:pt x="1285" y="918"/>
                </a:lnTo>
                <a:lnTo>
                  <a:pt x="1285" y="620"/>
                </a:lnTo>
                <a:lnTo>
                  <a:pt x="1235" y="620"/>
                </a:lnTo>
                <a:lnTo>
                  <a:pt x="1235" y="574"/>
                </a:lnTo>
                <a:lnTo>
                  <a:pt x="1216" y="574"/>
                </a:lnTo>
                <a:lnTo>
                  <a:pt x="1143" y="574"/>
                </a:lnTo>
                <a:lnTo>
                  <a:pt x="1143" y="698"/>
                </a:lnTo>
                <a:lnTo>
                  <a:pt x="1097" y="698"/>
                </a:lnTo>
                <a:lnTo>
                  <a:pt x="1097" y="905"/>
                </a:lnTo>
                <a:lnTo>
                  <a:pt x="1074" y="905"/>
                </a:lnTo>
                <a:lnTo>
                  <a:pt x="1074" y="955"/>
                </a:lnTo>
                <a:lnTo>
                  <a:pt x="1033" y="955"/>
                </a:lnTo>
                <a:lnTo>
                  <a:pt x="1033" y="1001"/>
                </a:lnTo>
                <a:lnTo>
                  <a:pt x="1014" y="1001"/>
                </a:lnTo>
                <a:lnTo>
                  <a:pt x="1014" y="1029"/>
                </a:lnTo>
                <a:lnTo>
                  <a:pt x="996" y="1029"/>
                </a:lnTo>
                <a:lnTo>
                  <a:pt x="996" y="1015"/>
                </a:lnTo>
                <a:lnTo>
                  <a:pt x="973" y="1015"/>
                </a:lnTo>
                <a:lnTo>
                  <a:pt x="854" y="1015"/>
                </a:lnTo>
                <a:lnTo>
                  <a:pt x="854" y="996"/>
                </a:lnTo>
                <a:lnTo>
                  <a:pt x="854" y="987"/>
                </a:lnTo>
                <a:lnTo>
                  <a:pt x="854" y="863"/>
                </a:lnTo>
                <a:lnTo>
                  <a:pt x="812" y="863"/>
                </a:lnTo>
                <a:lnTo>
                  <a:pt x="812" y="886"/>
                </a:lnTo>
                <a:lnTo>
                  <a:pt x="803" y="886"/>
                </a:lnTo>
                <a:lnTo>
                  <a:pt x="780" y="873"/>
                </a:lnTo>
                <a:lnTo>
                  <a:pt x="780" y="863"/>
                </a:lnTo>
                <a:lnTo>
                  <a:pt x="780" y="831"/>
                </a:lnTo>
                <a:lnTo>
                  <a:pt x="730" y="831"/>
                </a:lnTo>
                <a:lnTo>
                  <a:pt x="730" y="868"/>
                </a:lnTo>
                <a:lnTo>
                  <a:pt x="652" y="868"/>
                </a:lnTo>
                <a:lnTo>
                  <a:pt x="652" y="974"/>
                </a:lnTo>
                <a:lnTo>
                  <a:pt x="624" y="974"/>
                </a:lnTo>
                <a:lnTo>
                  <a:pt x="624" y="964"/>
                </a:lnTo>
                <a:lnTo>
                  <a:pt x="624" y="909"/>
                </a:lnTo>
                <a:lnTo>
                  <a:pt x="574" y="909"/>
                </a:lnTo>
                <a:lnTo>
                  <a:pt x="537" y="909"/>
                </a:lnTo>
                <a:lnTo>
                  <a:pt x="528" y="891"/>
                </a:lnTo>
                <a:lnTo>
                  <a:pt x="519" y="891"/>
                </a:lnTo>
                <a:lnTo>
                  <a:pt x="500" y="909"/>
                </a:lnTo>
                <a:lnTo>
                  <a:pt x="445" y="909"/>
                </a:lnTo>
                <a:lnTo>
                  <a:pt x="445" y="992"/>
                </a:lnTo>
                <a:lnTo>
                  <a:pt x="431" y="992"/>
                </a:lnTo>
                <a:lnTo>
                  <a:pt x="431" y="960"/>
                </a:lnTo>
                <a:lnTo>
                  <a:pt x="413" y="960"/>
                </a:lnTo>
                <a:lnTo>
                  <a:pt x="413" y="923"/>
                </a:lnTo>
                <a:lnTo>
                  <a:pt x="372" y="923"/>
                </a:lnTo>
                <a:lnTo>
                  <a:pt x="372" y="914"/>
                </a:lnTo>
                <a:lnTo>
                  <a:pt x="372" y="804"/>
                </a:lnTo>
                <a:lnTo>
                  <a:pt x="358" y="804"/>
                </a:lnTo>
                <a:lnTo>
                  <a:pt x="358" y="762"/>
                </a:lnTo>
                <a:lnTo>
                  <a:pt x="340" y="749"/>
                </a:lnTo>
                <a:lnTo>
                  <a:pt x="321" y="749"/>
                </a:lnTo>
                <a:lnTo>
                  <a:pt x="294" y="749"/>
                </a:lnTo>
                <a:lnTo>
                  <a:pt x="294" y="808"/>
                </a:lnTo>
                <a:lnTo>
                  <a:pt x="280" y="808"/>
                </a:lnTo>
                <a:lnTo>
                  <a:pt x="280" y="873"/>
                </a:lnTo>
                <a:lnTo>
                  <a:pt x="275" y="873"/>
                </a:lnTo>
                <a:lnTo>
                  <a:pt x="257" y="873"/>
                </a:lnTo>
                <a:lnTo>
                  <a:pt x="257" y="684"/>
                </a:lnTo>
                <a:lnTo>
                  <a:pt x="28" y="684"/>
                </a:lnTo>
                <a:lnTo>
                  <a:pt x="5" y="693"/>
                </a:lnTo>
                <a:lnTo>
                  <a:pt x="0" y="1171"/>
                </a:lnTo>
                <a:lnTo>
                  <a:pt x="5811" y="1171"/>
                </a:lnTo>
                <a:lnTo>
                  <a:pt x="5811" y="987"/>
                </a:lnTo>
                <a:lnTo>
                  <a:pt x="5811" y="905"/>
                </a:lnTo>
                <a:lnTo>
                  <a:pt x="5765" y="877"/>
                </a:lnTo>
                <a:close/>
              </a:path>
            </a:pathLst>
          </a:custGeom>
          <a:solidFill>
            <a:srgbClr val="88c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99880"/>
            <a:ext cx="8229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188280" y="5164200"/>
            <a:ext cx="360" cy="1440"/>
            <a:chOff x="9188280" y="5164200"/>
            <a:chExt cx="360" cy="1440"/>
          </a:xfrm>
        </p:grpSpPr>
        <p:sp>
          <p:nvSpPr>
            <p:cNvPr id="288" name="Line 10"/>
            <p:cNvSpPr/>
            <p:nvPr/>
          </p:nvSpPr>
          <p:spPr>
            <a:xfrm>
              <a:off x="9188280" y="516420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9188280" y="5164200"/>
              <a:ext cx="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188280" y="5164200"/>
            <a:ext cx="360" cy="1440"/>
            <a:chOff x="9188280" y="5164200"/>
            <a:chExt cx="360" cy="1440"/>
          </a:xfrm>
        </p:grpSpPr>
        <p:sp>
          <p:nvSpPr>
            <p:cNvPr id="291" name="Line 11"/>
            <p:cNvSpPr/>
            <p:nvPr/>
          </p:nvSpPr>
          <p:spPr>
            <a:xfrm>
              <a:off x="9188280" y="516420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9188280" y="5164200"/>
              <a:ext cx="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2"/>
          <p:cNvSpPr/>
          <p:nvPr/>
        </p:nvSpPr>
        <p:spPr>
          <a:xfrm>
            <a:off x="4500720" y="11318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9643"/>
                </a:solidFill>
                <a:latin typeface="Calibri"/>
                <a:ea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3"/>
          <p:cNvSpPr/>
          <p:nvPr/>
        </p:nvSpPr>
        <p:spPr>
          <a:xfrm>
            <a:off x="4500720" y="1774800"/>
            <a:ext cx="40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dolor sit amet, consectetur adipisicing elit, sed do eiusmod tempor incididunt ut labore et dolore magna aliq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25560" y="779400"/>
            <a:ext cx="2685960" cy="4065480"/>
            <a:chOff x="925560" y="779400"/>
            <a:chExt cx="2685960" cy="4065480"/>
          </a:xfrm>
        </p:grpSpPr>
        <p:grpSp>
          <p:nvGrpSpPr>
            <p:cNvPr id="296" name=""/>
            <p:cNvGrpSpPr/>
            <p:nvPr/>
          </p:nvGrpSpPr>
          <p:grpSpPr>
            <a:xfrm>
              <a:off x="1089360" y="779400"/>
              <a:ext cx="2449440" cy="4065480"/>
              <a:chOff x="1089360" y="779400"/>
              <a:chExt cx="2449440" cy="40654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089360" y="779400"/>
                <a:ext cx="2449440" cy="3984480"/>
                <a:chOff x="1089360" y="779400"/>
                <a:chExt cx="2449440" cy="3984480"/>
              </a:xfrm>
            </p:grpSpPr>
            <p:sp>
              <p:nvSpPr>
                <p:cNvPr id="298" name="AutoShape 3"/>
                <p:cNvSpPr/>
                <p:nvPr/>
              </p:nvSpPr>
              <p:spPr>
                <a:xfrm>
                  <a:off x="1089360" y="779400"/>
                  <a:ext cx="2449440" cy="398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5"/>
                <p:cNvSpPr/>
                <p:nvPr/>
              </p:nvSpPr>
              <p:spPr>
                <a:xfrm>
                  <a:off x="2175120" y="783000"/>
                  <a:ext cx="181440" cy="397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dbdbd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6"/>
                <p:cNvSpPr/>
                <p:nvPr/>
              </p:nvSpPr>
              <p:spPr>
                <a:xfrm>
                  <a:off x="2175120" y="827280"/>
                  <a:ext cx="181440" cy="1080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solidFill>
                    <a:srgbClr val="dbdbd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030040" y="4398480"/>
                <a:ext cx="465120" cy="446400"/>
                <a:chOff x="2030040" y="4398480"/>
                <a:chExt cx="465120" cy="446400"/>
              </a:xfrm>
            </p:grpSpPr>
            <p:sp>
              <p:nvSpPr>
                <p:cNvPr id="302" name="Freeform 40"/>
                <p:cNvSpPr/>
                <p:nvPr/>
              </p:nvSpPr>
              <p:spPr>
                <a:xfrm>
                  <a:off x="2180520" y="4502880"/>
                  <a:ext cx="204480" cy="34200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2000"/>
                    <a:gd name="textAreaBottom" fmla="*/ 342360 h 34200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  <a:lnTo>
                        <a:pt x="50" y="14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3"/>
                <p:cNvSpPr/>
                <p:nvPr/>
              </p:nvSpPr>
              <p:spPr>
                <a:xfrm>
                  <a:off x="2030040" y="4398480"/>
                  <a:ext cx="248400" cy="44640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46400"/>
                    <a:gd name="textAreaBottom" fmla="*/ 446760 h 446400"/>
                  </a:gdLst>
                  <a:ahLst/>
                  <a:rect l="textAreaLeft" t="textAreaTop" r="textAreaRight" b="textAreaBottom"/>
                  <a:pathLst>
                    <a:path w="652" h="1840">
                      <a:moveTo>
                        <a:pt x="635" y="1824"/>
                      </a:move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2" y="1840"/>
                      </a:lnTo>
                      <a:lnTo>
                        <a:pt x="505" y="1840"/>
                      </a:lnTo>
                      <a:lnTo>
                        <a:pt x="505" y="1840"/>
                      </a:lnTo>
                      <a:lnTo>
                        <a:pt x="496" y="1764"/>
                      </a:lnTo>
                      <a:lnTo>
                        <a:pt x="486" y="1685"/>
                      </a:lnTo>
                      <a:lnTo>
                        <a:pt x="474" y="1607"/>
                      </a:lnTo>
                      <a:lnTo>
                        <a:pt x="461" y="1528"/>
                      </a:lnTo>
                      <a:lnTo>
                        <a:pt x="446" y="1448"/>
                      </a:lnTo>
                      <a:lnTo>
                        <a:pt x="429" y="1369"/>
                      </a:lnTo>
                      <a:lnTo>
                        <a:pt x="412" y="1290"/>
                      </a:lnTo>
                      <a:lnTo>
                        <a:pt x="394" y="1211"/>
                      </a:lnTo>
                      <a:lnTo>
                        <a:pt x="374" y="1133"/>
                      </a:lnTo>
                      <a:lnTo>
                        <a:pt x="354" y="1055"/>
                      </a:lnTo>
                      <a:lnTo>
                        <a:pt x="333" y="978"/>
                      </a:lnTo>
                      <a:lnTo>
                        <a:pt x="312" y="903"/>
                      </a:lnTo>
                      <a:lnTo>
                        <a:pt x="289" y="830"/>
                      </a:lnTo>
                      <a:lnTo>
                        <a:pt x="268" y="757"/>
                      </a:lnTo>
                      <a:lnTo>
                        <a:pt x="224" y="619"/>
                      </a:lnTo>
                      <a:lnTo>
                        <a:pt x="181" y="490"/>
                      </a:lnTo>
                      <a:lnTo>
                        <a:pt x="140" y="373"/>
                      </a:lnTo>
                      <a:lnTo>
                        <a:pt x="103" y="267"/>
                      </a:lnTo>
                      <a:lnTo>
                        <a:pt x="69" y="178"/>
                      </a:lnTo>
                      <a:lnTo>
                        <a:pt x="41" y="104"/>
                      </a:lnTo>
                      <a:lnTo>
                        <a:pt x="19" y="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3" y="53"/>
                      </a:lnTo>
                      <a:lnTo>
                        <a:pt x="61" y="102"/>
                      </a:lnTo>
                      <a:lnTo>
                        <a:pt x="87" y="148"/>
                      </a:lnTo>
                      <a:lnTo>
                        <a:pt x="111" y="192"/>
                      </a:lnTo>
                      <a:lnTo>
                        <a:pt x="133" y="235"/>
                      </a:lnTo>
                      <a:lnTo>
                        <a:pt x="154" y="278"/>
                      </a:lnTo>
                      <a:lnTo>
                        <a:pt x="199" y="372"/>
                      </a:lnTo>
                      <a:lnTo>
                        <a:pt x="251" y="480"/>
                      </a:lnTo>
                      <a:lnTo>
                        <a:pt x="282" y="544"/>
                      </a:lnTo>
                      <a:lnTo>
                        <a:pt x="319" y="615"/>
                      </a:lnTo>
                      <a:lnTo>
                        <a:pt x="359" y="695"/>
                      </a:lnTo>
                      <a:lnTo>
                        <a:pt x="406" y="784"/>
                      </a:lnTo>
                      <a:lnTo>
                        <a:pt x="460" y="886"/>
                      </a:lnTo>
                      <a:lnTo>
                        <a:pt x="522" y="999"/>
                      </a:lnTo>
                      <a:lnTo>
                        <a:pt x="522" y="999"/>
                      </a:lnTo>
                      <a:lnTo>
                        <a:pt x="541" y="1038"/>
                      </a:lnTo>
                      <a:lnTo>
                        <a:pt x="559" y="1077"/>
                      </a:lnTo>
                      <a:lnTo>
                        <a:pt x="575" y="1116"/>
                      </a:lnTo>
                      <a:lnTo>
                        <a:pt x="590" y="1156"/>
                      </a:lnTo>
                      <a:lnTo>
                        <a:pt x="603" y="1197"/>
                      </a:lnTo>
                      <a:lnTo>
                        <a:pt x="614" y="1238"/>
                      </a:lnTo>
                      <a:lnTo>
                        <a:pt x="623" y="1280"/>
                      </a:lnTo>
                      <a:lnTo>
                        <a:pt x="632" y="1322"/>
                      </a:lnTo>
                      <a:lnTo>
                        <a:pt x="632" y="1322"/>
                      </a:lnTo>
                      <a:lnTo>
                        <a:pt x="632" y="1322"/>
                      </a:lnTo>
                      <a:lnTo>
                        <a:pt x="637" y="1353"/>
                      </a:lnTo>
                      <a:lnTo>
                        <a:pt x="641" y="1385"/>
                      </a:lnTo>
                      <a:lnTo>
                        <a:pt x="644" y="1416"/>
                      </a:lnTo>
                      <a:lnTo>
                        <a:pt x="647" y="1447"/>
                      </a:lnTo>
                      <a:lnTo>
                        <a:pt x="649" y="1479"/>
                      </a:lnTo>
                      <a:lnTo>
                        <a:pt x="651" y="1511"/>
                      </a:lnTo>
                      <a:lnTo>
                        <a:pt x="652" y="1543"/>
                      </a:lnTo>
                      <a:lnTo>
                        <a:pt x="652" y="1574"/>
                      </a:lnTo>
                      <a:lnTo>
                        <a:pt x="651" y="1637"/>
                      </a:lnTo>
                      <a:lnTo>
                        <a:pt x="647" y="1700"/>
                      </a:lnTo>
                      <a:lnTo>
                        <a:pt x="642" y="1763"/>
                      </a:lnTo>
                      <a:lnTo>
                        <a:pt x="635" y="1824"/>
                      </a:lnTo>
                      <a:lnTo>
                        <a:pt x="635" y="18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9"/>
                <p:cNvSpPr/>
                <p:nvPr/>
              </p:nvSpPr>
              <p:spPr>
                <a:xfrm>
                  <a:off x="2164680" y="4445640"/>
                  <a:ext cx="143280" cy="39924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399240"/>
                    <a:gd name="textAreaBottom" fmla="*/ 399600 h 399240"/>
                  </a:gdLst>
                  <a:ahLst/>
                  <a:rect l="textAreaLeft" t="textAreaTop" r="textAreaRight" b="textAreaBottom"/>
                  <a:pathLst>
                    <a:path w="373" h="1647">
                      <a:moveTo>
                        <a:pt x="228" y="1647"/>
                      </a:moveTo>
                      <a:lnTo>
                        <a:pt x="228" y="1647"/>
                      </a:lnTo>
                      <a:lnTo>
                        <a:pt x="229" y="1642"/>
                      </a:lnTo>
                      <a:lnTo>
                        <a:pt x="229" y="1642"/>
                      </a:lnTo>
                      <a:lnTo>
                        <a:pt x="238" y="1572"/>
                      </a:lnTo>
                      <a:lnTo>
                        <a:pt x="246" y="1503"/>
                      </a:lnTo>
                      <a:lnTo>
                        <a:pt x="253" y="1438"/>
                      </a:lnTo>
                      <a:lnTo>
                        <a:pt x="259" y="1373"/>
                      </a:lnTo>
                      <a:lnTo>
                        <a:pt x="264" y="1311"/>
                      </a:lnTo>
                      <a:lnTo>
                        <a:pt x="267" y="1249"/>
                      </a:lnTo>
                      <a:lnTo>
                        <a:pt x="270" y="1190"/>
                      </a:lnTo>
                      <a:lnTo>
                        <a:pt x="272" y="1133"/>
                      </a:lnTo>
                      <a:lnTo>
                        <a:pt x="272" y="1133"/>
                      </a:lnTo>
                      <a:lnTo>
                        <a:pt x="272" y="1063"/>
                      </a:lnTo>
                      <a:lnTo>
                        <a:pt x="271" y="996"/>
                      </a:lnTo>
                      <a:lnTo>
                        <a:pt x="269" y="932"/>
                      </a:lnTo>
                      <a:lnTo>
                        <a:pt x="266" y="871"/>
                      </a:lnTo>
                      <a:lnTo>
                        <a:pt x="266" y="871"/>
                      </a:lnTo>
                      <a:lnTo>
                        <a:pt x="262" y="820"/>
                      </a:lnTo>
                      <a:lnTo>
                        <a:pt x="258" y="772"/>
                      </a:lnTo>
                      <a:lnTo>
                        <a:pt x="253" y="726"/>
                      </a:lnTo>
                      <a:lnTo>
                        <a:pt x="247" y="681"/>
                      </a:lnTo>
                      <a:lnTo>
                        <a:pt x="241" y="638"/>
                      </a:lnTo>
                      <a:lnTo>
                        <a:pt x="234" y="595"/>
                      </a:lnTo>
                      <a:lnTo>
                        <a:pt x="226" y="555"/>
                      </a:lnTo>
                      <a:lnTo>
                        <a:pt x="218" y="517"/>
                      </a:lnTo>
                      <a:lnTo>
                        <a:pt x="210" y="480"/>
                      </a:lnTo>
                      <a:lnTo>
                        <a:pt x="201" y="444"/>
                      </a:lnTo>
                      <a:lnTo>
                        <a:pt x="192" y="410"/>
                      </a:lnTo>
                      <a:lnTo>
                        <a:pt x="182" y="377"/>
                      </a:lnTo>
                      <a:lnTo>
                        <a:pt x="173" y="345"/>
                      </a:lnTo>
                      <a:lnTo>
                        <a:pt x="163" y="316"/>
                      </a:lnTo>
                      <a:lnTo>
                        <a:pt x="153" y="287"/>
                      </a:lnTo>
                      <a:lnTo>
                        <a:pt x="143" y="260"/>
                      </a:lnTo>
                      <a:lnTo>
                        <a:pt x="122" y="210"/>
                      </a:lnTo>
                      <a:lnTo>
                        <a:pt x="101" y="166"/>
                      </a:lnTo>
                      <a:lnTo>
                        <a:pt x="81" y="125"/>
                      </a:lnTo>
                      <a:lnTo>
                        <a:pt x="62" y="91"/>
                      </a:lnTo>
                      <a:lnTo>
                        <a:pt x="44" y="61"/>
                      </a:lnTo>
                      <a:lnTo>
                        <a:pt x="27" y="36"/>
                      </a:lnTo>
                      <a:lnTo>
                        <a:pt x="1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" y="34"/>
                      </a:lnTo>
                      <a:lnTo>
                        <a:pt x="54" y="70"/>
                      </a:lnTo>
                      <a:lnTo>
                        <a:pt x="80" y="108"/>
                      </a:lnTo>
                      <a:lnTo>
                        <a:pt x="105" y="147"/>
                      </a:lnTo>
                      <a:lnTo>
                        <a:pt x="128" y="188"/>
                      </a:lnTo>
                      <a:lnTo>
                        <a:pt x="150" y="230"/>
                      </a:lnTo>
                      <a:lnTo>
                        <a:pt x="171" y="273"/>
                      </a:lnTo>
                      <a:lnTo>
                        <a:pt x="191" y="318"/>
                      </a:lnTo>
                      <a:lnTo>
                        <a:pt x="210" y="363"/>
                      </a:lnTo>
                      <a:lnTo>
                        <a:pt x="227" y="410"/>
                      </a:lnTo>
                      <a:lnTo>
                        <a:pt x="244" y="458"/>
                      </a:lnTo>
                      <a:lnTo>
                        <a:pt x="259" y="506"/>
                      </a:lnTo>
                      <a:lnTo>
                        <a:pt x="274" y="554"/>
                      </a:lnTo>
                      <a:lnTo>
                        <a:pt x="287" y="604"/>
                      </a:lnTo>
                      <a:lnTo>
                        <a:pt x="299" y="655"/>
                      </a:lnTo>
                      <a:lnTo>
                        <a:pt x="311" y="705"/>
                      </a:lnTo>
                      <a:lnTo>
                        <a:pt x="311" y="705"/>
                      </a:lnTo>
                      <a:lnTo>
                        <a:pt x="319" y="746"/>
                      </a:lnTo>
                      <a:lnTo>
                        <a:pt x="327" y="788"/>
                      </a:lnTo>
                      <a:lnTo>
                        <a:pt x="327" y="788"/>
                      </a:lnTo>
                      <a:lnTo>
                        <a:pt x="334" y="828"/>
                      </a:lnTo>
                      <a:lnTo>
                        <a:pt x="341" y="869"/>
                      </a:lnTo>
                      <a:lnTo>
                        <a:pt x="352" y="950"/>
                      </a:lnTo>
                      <a:lnTo>
                        <a:pt x="360" y="1031"/>
                      </a:lnTo>
                      <a:lnTo>
                        <a:pt x="367" y="1111"/>
                      </a:lnTo>
                      <a:lnTo>
                        <a:pt x="367" y="1111"/>
                      </a:lnTo>
                      <a:lnTo>
                        <a:pt x="370" y="1184"/>
                      </a:lnTo>
                      <a:lnTo>
                        <a:pt x="373" y="1255"/>
                      </a:lnTo>
                      <a:lnTo>
                        <a:pt x="373" y="1326"/>
                      </a:lnTo>
                      <a:lnTo>
                        <a:pt x="371" y="1394"/>
                      </a:lnTo>
                      <a:lnTo>
                        <a:pt x="368" y="1461"/>
                      </a:lnTo>
                      <a:lnTo>
                        <a:pt x="363" y="1525"/>
                      </a:lnTo>
                      <a:lnTo>
                        <a:pt x="357" y="1588"/>
                      </a:lnTo>
                      <a:lnTo>
                        <a:pt x="349" y="16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1"/>
                <p:cNvSpPr/>
                <p:nvPr/>
              </p:nvSpPr>
              <p:spPr>
                <a:xfrm>
                  <a:off x="2270880" y="4494240"/>
                  <a:ext cx="204480" cy="3481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8120"/>
                    <a:gd name="textAreaBottom" fmla="*/ 348480 h 34812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2"/>
                <p:cNvSpPr/>
                <p:nvPr/>
              </p:nvSpPr>
              <p:spPr>
                <a:xfrm>
                  <a:off x="2290680" y="4518720"/>
                  <a:ext cx="116640" cy="32400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304" h="1335">
                      <a:moveTo>
                        <a:pt x="90" y="1094"/>
                      </a:moveTo>
                      <a:lnTo>
                        <a:pt x="90" y="1094"/>
                      </a:lnTo>
                      <a:lnTo>
                        <a:pt x="95" y="1151"/>
                      </a:lnTo>
                      <a:lnTo>
                        <a:pt x="101" y="1210"/>
                      </a:lnTo>
                      <a:lnTo>
                        <a:pt x="108" y="1272"/>
                      </a:lnTo>
                      <a:lnTo>
                        <a:pt x="116" y="1335"/>
                      </a:lnTo>
                      <a:lnTo>
                        <a:pt x="18" y="1335"/>
                      </a:lnTo>
                      <a:lnTo>
                        <a:pt x="18" y="1335"/>
                      </a:lnTo>
                      <a:lnTo>
                        <a:pt x="17" y="1330"/>
                      </a:lnTo>
                      <a:lnTo>
                        <a:pt x="17" y="133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19"/>
                      </a:lnTo>
                      <a:lnTo>
                        <a:pt x="16" y="1319"/>
                      </a:lnTo>
                      <a:lnTo>
                        <a:pt x="9" y="1264"/>
                      </a:lnTo>
                      <a:lnTo>
                        <a:pt x="4" y="1205"/>
                      </a:lnTo>
                      <a:lnTo>
                        <a:pt x="1" y="1144"/>
                      </a:lnTo>
                      <a:lnTo>
                        <a:pt x="0" y="1082"/>
                      </a:lnTo>
                      <a:lnTo>
                        <a:pt x="0" y="1017"/>
                      </a:lnTo>
                      <a:lnTo>
                        <a:pt x="2" y="951"/>
                      </a:lnTo>
                      <a:lnTo>
                        <a:pt x="6" y="884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20" y="752"/>
                      </a:lnTo>
                      <a:lnTo>
                        <a:pt x="30" y="687"/>
                      </a:lnTo>
                      <a:lnTo>
                        <a:pt x="41" y="623"/>
                      </a:lnTo>
                      <a:lnTo>
                        <a:pt x="54" y="559"/>
                      </a:lnTo>
                      <a:lnTo>
                        <a:pt x="54" y="559"/>
                      </a:lnTo>
                      <a:lnTo>
                        <a:pt x="64" y="516"/>
                      </a:lnTo>
                      <a:lnTo>
                        <a:pt x="75" y="474"/>
                      </a:lnTo>
                      <a:lnTo>
                        <a:pt x="86" y="433"/>
                      </a:lnTo>
                      <a:lnTo>
                        <a:pt x="99" y="393"/>
                      </a:lnTo>
                      <a:lnTo>
                        <a:pt x="99" y="393"/>
                      </a:lnTo>
                      <a:lnTo>
                        <a:pt x="118" y="337"/>
                      </a:lnTo>
                      <a:lnTo>
                        <a:pt x="139" y="282"/>
                      </a:lnTo>
                      <a:lnTo>
                        <a:pt x="150" y="256"/>
                      </a:lnTo>
                      <a:lnTo>
                        <a:pt x="161" y="230"/>
                      </a:lnTo>
                      <a:lnTo>
                        <a:pt x="173" y="204"/>
                      </a:lnTo>
                      <a:lnTo>
                        <a:pt x="186" y="179"/>
                      </a:lnTo>
                      <a:lnTo>
                        <a:pt x="199" y="155"/>
                      </a:lnTo>
                      <a:lnTo>
                        <a:pt x="213" y="131"/>
                      </a:lnTo>
                      <a:lnTo>
                        <a:pt x="227" y="108"/>
                      </a:lnTo>
                      <a:lnTo>
                        <a:pt x="241" y="85"/>
                      </a:lnTo>
                      <a:lnTo>
                        <a:pt x="256" y="62"/>
                      </a:lnTo>
                      <a:lnTo>
                        <a:pt x="272" y="41"/>
                      </a:lnTo>
                      <a:lnTo>
                        <a:pt x="288" y="2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286" y="23"/>
                      </a:lnTo>
                      <a:lnTo>
                        <a:pt x="276" y="38"/>
                      </a:lnTo>
                      <a:lnTo>
                        <a:pt x="265" y="55"/>
                      </a:lnTo>
                      <a:lnTo>
                        <a:pt x="253" y="76"/>
                      </a:lnTo>
                      <a:lnTo>
                        <a:pt x="240" y="99"/>
                      </a:lnTo>
                      <a:lnTo>
                        <a:pt x="227" y="124"/>
                      </a:lnTo>
                      <a:lnTo>
                        <a:pt x="214" y="151"/>
                      </a:lnTo>
                      <a:lnTo>
                        <a:pt x="200" y="181"/>
                      </a:lnTo>
                      <a:lnTo>
                        <a:pt x="187" y="215"/>
                      </a:lnTo>
                      <a:lnTo>
                        <a:pt x="174" y="250"/>
                      </a:lnTo>
                      <a:lnTo>
                        <a:pt x="161" y="289"/>
                      </a:lnTo>
                      <a:lnTo>
                        <a:pt x="148" y="332"/>
                      </a:lnTo>
                      <a:lnTo>
                        <a:pt x="136" y="377"/>
                      </a:lnTo>
                      <a:lnTo>
                        <a:pt x="125" y="425"/>
                      </a:lnTo>
                      <a:lnTo>
                        <a:pt x="115" y="476"/>
                      </a:lnTo>
                      <a:lnTo>
                        <a:pt x="115" y="476"/>
                      </a:lnTo>
                      <a:lnTo>
                        <a:pt x="109" y="513"/>
                      </a:lnTo>
                      <a:lnTo>
                        <a:pt x="103" y="553"/>
                      </a:lnTo>
                      <a:lnTo>
                        <a:pt x="98" y="593"/>
                      </a:lnTo>
                      <a:lnTo>
                        <a:pt x="93" y="635"/>
                      </a:lnTo>
                      <a:lnTo>
                        <a:pt x="89" y="679"/>
                      </a:lnTo>
                      <a:lnTo>
                        <a:pt x="86" y="724"/>
                      </a:lnTo>
                      <a:lnTo>
                        <a:pt x="84" y="772"/>
                      </a:lnTo>
                      <a:lnTo>
                        <a:pt x="82" y="821"/>
                      </a:lnTo>
                      <a:lnTo>
                        <a:pt x="82" y="821"/>
                      </a:lnTo>
                      <a:lnTo>
                        <a:pt x="82" y="885"/>
                      </a:lnTo>
                      <a:lnTo>
                        <a:pt x="83" y="951"/>
                      </a:lnTo>
                      <a:lnTo>
                        <a:pt x="86" y="1022"/>
                      </a:lnTo>
                      <a:lnTo>
                        <a:pt x="90" y="1094"/>
                      </a:lnTo>
                      <a:lnTo>
                        <a:pt x="90" y="10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0"/>
                <p:cNvSpPr/>
                <p:nvPr/>
              </p:nvSpPr>
              <p:spPr>
                <a:xfrm>
                  <a:off x="2290680" y="4502880"/>
                  <a:ext cx="204480" cy="34200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2000"/>
                    <a:gd name="textAreaBottom" fmla="*/ 342360 h 34200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  <a:lnTo>
                        <a:pt x="50" y="14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9"/>
                <p:cNvSpPr/>
                <p:nvPr/>
              </p:nvSpPr>
              <p:spPr>
                <a:xfrm flipH="1">
                  <a:off x="2332440" y="4445640"/>
                  <a:ext cx="105120" cy="399240"/>
                </a:xfrm>
                <a:custGeom>
                  <a:avLst/>
                  <a:gdLst>
                    <a:gd name="textAreaLeft" fmla="*/ 360 w 105120"/>
                    <a:gd name="textAreaRight" fmla="*/ 105840 w 105120"/>
                    <a:gd name="textAreaTop" fmla="*/ 0 h 399240"/>
                    <a:gd name="textAreaBottom" fmla="*/ 399600 h 399240"/>
                  </a:gdLst>
                  <a:ahLst/>
                  <a:rect l="textAreaLeft" t="textAreaTop" r="textAreaRight" b="textAreaBottom"/>
                  <a:pathLst>
                    <a:path w="373" h="1647">
                      <a:moveTo>
                        <a:pt x="228" y="1647"/>
                      </a:moveTo>
                      <a:lnTo>
                        <a:pt x="228" y="1647"/>
                      </a:lnTo>
                      <a:lnTo>
                        <a:pt x="229" y="1642"/>
                      </a:lnTo>
                      <a:lnTo>
                        <a:pt x="229" y="1642"/>
                      </a:lnTo>
                      <a:lnTo>
                        <a:pt x="238" y="1572"/>
                      </a:lnTo>
                      <a:lnTo>
                        <a:pt x="246" y="1503"/>
                      </a:lnTo>
                      <a:lnTo>
                        <a:pt x="253" y="1438"/>
                      </a:lnTo>
                      <a:lnTo>
                        <a:pt x="259" y="1373"/>
                      </a:lnTo>
                      <a:lnTo>
                        <a:pt x="264" y="1311"/>
                      </a:lnTo>
                      <a:lnTo>
                        <a:pt x="267" y="1249"/>
                      </a:lnTo>
                      <a:lnTo>
                        <a:pt x="270" y="1190"/>
                      </a:lnTo>
                      <a:lnTo>
                        <a:pt x="272" y="1133"/>
                      </a:lnTo>
                      <a:lnTo>
                        <a:pt x="272" y="1133"/>
                      </a:lnTo>
                      <a:lnTo>
                        <a:pt x="272" y="1063"/>
                      </a:lnTo>
                      <a:lnTo>
                        <a:pt x="271" y="996"/>
                      </a:lnTo>
                      <a:lnTo>
                        <a:pt x="269" y="932"/>
                      </a:lnTo>
                      <a:lnTo>
                        <a:pt x="266" y="871"/>
                      </a:lnTo>
                      <a:lnTo>
                        <a:pt x="266" y="871"/>
                      </a:lnTo>
                      <a:lnTo>
                        <a:pt x="262" y="820"/>
                      </a:lnTo>
                      <a:lnTo>
                        <a:pt x="258" y="772"/>
                      </a:lnTo>
                      <a:lnTo>
                        <a:pt x="253" y="726"/>
                      </a:lnTo>
                      <a:lnTo>
                        <a:pt x="247" y="681"/>
                      </a:lnTo>
                      <a:lnTo>
                        <a:pt x="241" y="638"/>
                      </a:lnTo>
                      <a:lnTo>
                        <a:pt x="234" y="595"/>
                      </a:lnTo>
                      <a:lnTo>
                        <a:pt x="226" y="555"/>
                      </a:lnTo>
                      <a:lnTo>
                        <a:pt x="218" y="517"/>
                      </a:lnTo>
                      <a:lnTo>
                        <a:pt x="210" y="480"/>
                      </a:lnTo>
                      <a:lnTo>
                        <a:pt x="201" y="444"/>
                      </a:lnTo>
                      <a:lnTo>
                        <a:pt x="192" y="410"/>
                      </a:lnTo>
                      <a:lnTo>
                        <a:pt x="182" y="377"/>
                      </a:lnTo>
                      <a:lnTo>
                        <a:pt x="173" y="345"/>
                      </a:lnTo>
                      <a:lnTo>
                        <a:pt x="163" y="316"/>
                      </a:lnTo>
                      <a:lnTo>
                        <a:pt x="153" y="287"/>
                      </a:lnTo>
                      <a:lnTo>
                        <a:pt x="143" y="260"/>
                      </a:lnTo>
                      <a:lnTo>
                        <a:pt x="122" y="210"/>
                      </a:lnTo>
                      <a:lnTo>
                        <a:pt x="101" y="166"/>
                      </a:lnTo>
                      <a:lnTo>
                        <a:pt x="81" y="125"/>
                      </a:lnTo>
                      <a:lnTo>
                        <a:pt x="62" y="91"/>
                      </a:lnTo>
                      <a:lnTo>
                        <a:pt x="44" y="61"/>
                      </a:lnTo>
                      <a:lnTo>
                        <a:pt x="27" y="36"/>
                      </a:lnTo>
                      <a:lnTo>
                        <a:pt x="1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" y="34"/>
                      </a:lnTo>
                      <a:lnTo>
                        <a:pt x="54" y="70"/>
                      </a:lnTo>
                      <a:lnTo>
                        <a:pt x="80" y="108"/>
                      </a:lnTo>
                      <a:lnTo>
                        <a:pt x="105" y="147"/>
                      </a:lnTo>
                      <a:lnTo>
                        <a:pt x="128" y="188"/>
                      </a:lnTo>
                      <a:lnTo>
                        <a:pt x="150" y="230"/>
                      </a:lnTo>
                      <a:lnTo>
                        <a:pt x="171" y="273"/>
                      </a:lnTo>
                      <a:lnTo>
                        <a:pt x="191" y="318"/>
                      </a:lnTo>
                      <a:lnTo>
                        <a:pt x="210" y="363"/>
                      </a:lnTo>
                      <a:lnTo>
                        <a:pt x="227" y="410"/>
                      </a:lnTo>
                      <a:lnTo>
                        <a:pt x="244" y="458"/>
                      </a:lnTo>
                      <a:lnTo>
                        <a:pt x="259" y="506"/>
                      </a:lnTo>
                      <a:lnTo>
                        <a:pt x="274" y="554"/>
                      </a:lnTo>
                      <a:lnTo>
                        <a:pt x="287" y="604"/>
                      </a:lnTo>
                      <a:lnTo>
                        <a:pt x="299" y="655"/>
                      </a:lnTo>
                      <a:lnTo>
                        <a:pt x="311" y="705"/>
                      </a:lnTo>
                      <a:lnTo>
                        <a:pt x="311" y="705"/>
                      </a:lnTo>
                      <a:lnTo>
                        <a:pt x="319" y="746"/>
                      </a:lnTo>
                      <a:lnTo>
                        <a:pt x="327" y="788"/>
                      </a:lnTo>
                      <a:lnTo>
                        <a:pt x="327" y="788"/>
                      </a:lnTo>
                      <a:lnTo>
                        <a:pt x="334" y="828"/>
                      </a:lnTo>
                      <a:lnTo>
                        <a:pt x="341" y="869"/>
                      </a:lnTo>
                      <a:lnTo>
                        <a:pt x="352" y="950"/>
                      </a:lnTo>
                      <a:lnTo>
                        <a:pt x="360" y="1031"/>
                      </a:lnTo>
                      <a:lnTo>
                        <a:pt x="367" y="1111"/>
                      </a:lnTo>
                      <a:lnTo>
                        <a:pt x="367" y="1111"/>
                      </a:lnTo>
                      <a:lnTo>
                        <a:pt x="370" y="1184"/>
                      </a:lnTo>
                      <a:lnTo>
                        <a:pt x="373" y="1255"/>
                      </a:lnTo>
                      <a:lnTo>
                        <a:pt x="373" y="1326"/>
                      </a:lnTo>
                      <a:lnTo>
                        <a:pt x="371" y="1394"/>
                      </a:lnTo>
                      <a:lnTo>
                        <a:pt x="368" y="1461"/>
                      </a:lnTo>
                      <a:lnTo>
                        <a:pt x="363" y="1525"/>
                      </a:lnTo>
                      <a:lnTo>
                        <a:pt x="357" y="1588"/>
                      </a:lnTo>
                      <a:lnTo>
                        <a:pt x="349" y="16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2"/>
                <p:cNvSpPr/>
                <p:nvPr/>
              </p:nvSpPr>
              <p:spPr>
                <a:xfrm>
                  <a:off x="2164680" y="4520880"/>
                  <a:ext cx="116640" cy="32400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304" h="1335">
                      <a:moveTo>
                        <a:pt x="90" y="1094"/>
                      </a:moveTo>
                      <a:lnTo>
                        <a:pt x="90" y="1094"/>
                      </a:lnTo>
                      <a:lnTo>
                        <a:pt x="95" y="1151"/>
                      </a:lnTo>
                      <a:lnTo>
                        <a:pt x="101" y="1210"/>
                      </a:lnTo>
                      <a:lnTo>
                        <a:pt x="108" y="1272"/>
                      </a:lnTo>
                      <a:lnTo>
                        <a:pt x="116" y="1335"/>
                      </a:lnTo>
                      <a:lnTo>
                        <a:pt x="18" y="1335"/>
                      </a:lnTo>
                      <a:lnTo>
                        <a:pt x="18" y="1335"/>
                      </a:lnTo>
                      <a:lnTo>
                        <a:pt x="17" y="1330"/>
                      </a:lnTo>
                      <a:lnTo>
                        <a:pt x="17" y="133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19"/>
                      </a:lnTo>
                      <a:lnTo>
                        <a:pt x="16" y="1319"/>
                      </a:lnTo>
                      <a:lnTo>
                        <a:pt x="9" y="1264"/>
                      </a:lnTo>
                      <a:lnTo>
                        <a:pt x="4" y="1205"/>
                      </a:lnTo>
                      <a:lnTo>
                        <a:pt x="1" y="1144"/>
                      </a:lnTo>
                      <a:lnTo>
                        <a:pt x="0" y="1082"/>
                      </a:lnTo>
                      <a:lnTo>
                        <a:pt x="0" y="1017"/>
                      </a:lnTo>
                      <a:lnTo>
                        <a:pt x="2" y="951"/>
                      </a:lnTo>
                      <a:lnTo>
                        <a:pt x="6" y="884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20" y="752"/>
                      </a:lnTo>
                      <a:lnTo>
                        <a:pt x="30" y="687"/>
                      </a:lnTo>
                      <a:lnTo>
                        <a:pt x="41" y="623"/>
                      </a:lnTo>
                      <a:lnTo>
                        <a:pt x="54" y="559"/>
                      </a:lnTo>
                      <a:lnTo>
                        <a:pt x="54" y="559"/>
                      </a:lnTo>
                      <a:lnTo>
                        <a:pt x="64" y="516"/>
                      </a:lnTo>
                      <a:lnTo>
                        <a:pt x="75" y="474"/>
                      </a:lnTo>
                      <a:lnTo>
                        <a:pt x="86" y="433"/>
                      </a:lnTo>
                      <a:lnTo>
                        <a:pt x="99" y="393"/>
                      </a:lnTo>
                      <a:lnTo>
                        <a:pt x="99" y="393"/>
                      </a:lnTo>
                      <a:lnTo>
                        <a:pt x="118" y="337"/>
                      </a:lnTo>
                      <a:lnTo>
                        <a:pt x="139" y="282"/>
                      </a:lnTo>
                      <a:lnTo>
                        <a:pt x="150" y="256"/>
                      </a:lnTo>
                      <a:lnTo>
                        <a:pt x="161" y="230"/>
                      </a:lnTo>
                      <a:lnTo>
                        <a:pt x="173" y="204"/>
                      </a:lnTo>
                      <a:lnTo>
                        <a:pt x="186" y="179"/>
                      </a:lnTo>
                      <a:lnTo>
                        <a:pt x="199" y="155"/>
                      </a:lnTo>
                      <a:lnTo>
                        <a:pt x="213" y="131"/>
                      </a:lnTo>
                      <a:lnTo>
                        <a:pt x="227" y="108"/>
                      </a:lnTo>
                      <a:lnTo>
                        <a:pt x="241" y="85"/>
                      </a:lnTo>
                      <a:lnTo>
                        <a:pt x="256" y="62"/>
                      </a:lnTo>
                      <a:lnTo>
                        <a:pt x="272" y="41"/>
                      </a:lnTo>
                      <a:lnTo>
                        <a:pt x="288" y="2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286" y="23"/>
                      </a:lnTo>
                      <a:lnTo>
                        <a:pt x="276" y="38"/>
                      </a:lnTo>
                      <a:lnTo>
                        <a:pt x="265" y="55"/>
                      </a:lnTo>
                      <a:lnTo>
                        <a:pt x="253" y="76"/>
                      </a:lnTo>
                      <a:lnTo>
                        <a:pt x="240" y="99"/>
                      </a:lnTo>
                      <a:lnTo>
                        <a:pt x="227" y="124"/>
                      </a:lnTo>
                      <a:lnTo>
                        <a:pt x="214" y="151"/>
                      </a:lnTo>
                      <a:lnTo>
                        <a:pt x="200" y="181"/>
                      </a:lnTo>
                      <a:lnTo>
                        <a:pt x="187" y="215"/>
                      </a:lnTo>
                      <a:lnTo>
                        <a:pt x="174" y="250"/>
                      </a:lnTo>
                      <a:lnTo>
                        <a:pt x="161" y="289"/>
                      </a:lnTo>
                      <a:lnTo>
                        <a:pt x="148" y="332"/>
                      </a:lnTo>
                      <a:lnTo>
                        <a:pt x="136" y="377"/>
                      </a:lnTo>
                      <a:lnTo>
                        <a:pt x="125" y="425"/>
                      </a:lnTo>
                      <a:lnTo>
                        <a:pt x="115" y="476"/>
                      </a:lnTo>
                      <a:lnTo>
                        <a:pt x="115" y="476"/>
                      </a:lnTo>
                      <a:lnTo>
                        <a:pt x="109" y="513"/>
                      </a:lnTo>
                      <a:lnTo>
                        <a:pt x="103" y="553"/>
                      </a:lnTo>
                      <a:lnTo>
                        <a:pt x="98" y="593"/>
                      </a:lnTo>
                      <a:lnTo>
                        <a:pt x="93" y="635"/>
                      </a:lnTo>
                      <a:lnTo>
                        <a:pt x="89" y="679"/>
                      </a:lnTo>
                      <a:lnTo>
                        <a:pt x="86" y="724"/>
                      </a:lnTo>
                      <a:lnTo>
                        <a:pt x="84" y="772"/>
                      </a:lnTo>
                      <a:lnTo>
                        <a:pt x="82" y="821"/>
                      </a:lnTo>
                      <a:lnTo>
                        <a:pt x="82" y="821"/>
                      </a:lnTo>
                      <a:lnTo>
                        <a:pt x="82" y="885"/>
                      </a:lnTo>
                      <a:lnTo>
                        <a:pt x="83" y="951"/>
                      </a:lnTo>
                      <a:lnTo>
                        <a:pt x="86" y="1022"/>
                      </a:lnTo>
                      <a:lnTo>
                        <a:pt x="90" y="1094"/>
                      </a:lnTo>
                      <a:lnTo>
                        <a:pt x="90" y="10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"/>
            <p:cNvGrpSpPr/>
            <p:nvPr/>
          </p:nvGrpSpPr>
          <p:grpSpPr>
            <a:xfrm>
              <a:off x="2354400" y="1236600"/>
              <a:ext cx="1257120" cy="372960"/>
              <a:chOff x="2354400" y="1236600"/>
              <a:chExt cx="1257120" cy="372960"/>
            </a:xfrm>
          </p:grpSpPr>
          <p:sp>
            <p:nvSpPr>
              <p:cNvPr id="311" name="AutoShape 3"/>
              <p:cNvSpPr/>
              <p:nvPr/>
            </p:nvSpPr>
            <p:spPr>
              <a:xfrm>
                <a:off x="2354400" y="1236600"/>
                <a:ext cx="12571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2357280" y="1239840"/>
                <a:ext cx="1252080" cy="368280"/>
              </a:xfrm>
              <a:custGeom>
                <a:avLst/>
                <a:gdLst>
                  <a:gd name="textAreaLeft" fmla="*/ 0 w 1252080"/>
                  <a:gd name="textAreaRight" fmla="*/ 1252440 w 125208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578" h="464">
                    <a:moveTo>
                      <a:pt x="1424" y="0"/>
                    </a:moveTo>
                    <a:lnTo>
                      <a:pt x="0" y="0"/>
                    </a:lnTo>
                    <a:lnTo>
                      <a:pt x="0" y="464"/>
                    </a:lnTo>
                    <a:lnTo>
                      <a:pt x="1424" y="464"/>
                    </a:lnTo>
                    <a:lnTo>
                      <a:pt x="1578" y="231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a4d3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925560" y="955800"/>
              <a:ext cx="1257120" cy="372960"/>
              <a:chOff x="925560" y="955800"/>
              <a:chExt cx="1257120" cy="372960"/>
            </a:xfrm>
          </p:grpSpPr>
          <p:sp>
            <p:nvSpPr>
              <p:cNvPr id="314" name="AutoShape 3"/>
              <p:cNvSpPr/>
              <p:nvPr/>
            </p:nvSpPr>
            <p:spPr>
              <a:xfrm rot="10800000">
                <a:off x="925560" y="955800"/>
                <a:ext cx="12571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"/>
              <p:cNvSpPr/>
              <p:nvPr/>
            </p:nvSpPr>
            <p:spPr>
              <a:xfrm flipH="1">
                <a:off x="929520" y="957600"/>
                <a:ext cx="1252440" cy="368280"/>
              </a:xfrm>
              <a:custGeom>
                <a:avLst/>
                <a:gdLst>
                  <a:gd name="textAreaLeft" fmla="*/ -360 w 1252440"/>
                  <a:gd name="textAreaRight" fmla="*/ 1252440 w 125244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578" h="464">
                    <a:moveTo>
                      <a:pt x="1424" y="0"/>
                    </a:moveTo>
                    <a:lnTo>
                      <a:pt x="0" y="0"/>
                    </a:lnTo>
                    <a:lnTo>
                      <a:pt x="0" y="464"/>
                    </a:lnTo>
                    <a:lnTo>
                      <a:pt x="1424" y="464"/>
                    </a:lnTo>
                    <a:lnTo>
                      <a:pt x="1578" y="231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a4d3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9"/>
          <p:cNvSpPr/>
          <p:nvPr/>
        </p:nvSpPr>
        <p:spPr>
          <a:xfrm>
            <a:off x="0" y="768240"/>
            <a:ext cx="9139320" cy="4392720"/>
          </a:xfrm>
          <a:custGeom>
            <a:avLst/>
            <a:gdLst>
              <a:gd name="textAreaLeft" fmla="*/ 0 w 9139320"/>
              <a:gd name="textAreaRight" fmla="*/ 9139680 w 9139320"/>
              <a:gd name="textAreaTop" fmla="*/ 0 h 4392720"/>
              <a:gd name="textAreaBottom" fmla="*/ 4393080 h 4392720"/>
            </a:gdLst>
            <a:ahLst/>
            <a:rect l="textAreaLeft" t="textAreaTop" r="textAreaRight" b="textAreaBottom"/>
            <a:pathLst>
              <a:path w="6720" h="4224">
                <a:moveTo>
                  <a:pt x="0" y="4200"/>
                </a:moveTo>
                <a:cubicBezTo>
                  <a:pt x="0" y="4200"/>
                  <a:pt x="1890" y="240"/>
                  <a:pt x="6720" y="0"/>
                </a:cubicBezTo>
                <a:cubicBezTo>
                  <a:pt x="6720" y="4224"/>
                  <a:pt x="6720" y="4224"/>
                  <a:pt x="6720" y="4224"/>
                </a:cubicBezTo>
                <a:lnTo>
                  <a:pt x="0" y="4200"/>
                </a:lnTo>
                <a:close/>
              </a:path>
            </a:pathLst>
          </a:custGeom>
          <a:solidFill>
            <a:srgbClr val="cfe8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7160" y="4587840"/>
            <a:ext cx="1169280" cy="307080"/>
            <a:chOff x="227160" y="4587840"/>
            <a:chExt cx="1169280" cy="307080"/>
          </a:xfrm>
        </p:grpSpPr>
        <p:sp>
          <p:nvSpPr>
            <p:cNvPr id="319" name="TextBox 70"/>
            <p:cNvSpPr/>
            <p:nvPr/>
          </p:nvSpPr>
          <p:spPr>
            <a:xfrm>
              <a:off x="362160" y="458784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Placeh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ounded Rectangle 72"/>
            <p:cNvSpPr/>
            <p:nvPr/>
          </p:nvSpPr>
          <p:spPr>
            <a:xfrm>
              <a:off x="227160" y="4709160"/>
              <a:ext cx="12816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037520" y="771480"/>
            <a:ext cx="7061760" cy="3924360"/>
            <a:chOff x="1037520" y="771480"/>
            <a:chExt cx="7061760" cy="3924360"/>
          </a:xfrm>
        </p:grpSpPr>
        <p:sp>
          <p:nvSpPr>
            <p:cNvPr id="322" name="Straight Connector 42"/>
            <p:cNvSpPr/>
            <p:nvPr/>
          </p:nvSpPr>
          <p:spPr>
            <a:xfrm>
              <a:off x="1564200" y="2642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45"/>
            <p:cNvSpPr/>
            <p:nvPr/>
          </p:nvSpPr>
          <p:spPr>
            <a:xfrm>
              <a:off x="1564200" y="231516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46"/>
            <p:cNvSpPr/>
            <p:nvPr/>
          </p:nvSpPr>
          <p:spPr>
            <a:xfrm>
              <a:off x="1564200" y="19908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47"/>
            <p:cNvSpPr/>
            <p:nvPr/>
          </p:nvSpPr>
          <p:spPr>
            <a:xfrm>
              <a:off x="1564200" y="16538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48"/>
            <p:cNvSpPr/>
            <p:nvPr/>
          </p:nvSpPr>
          <p:spPr>
            <a:xfrm>
              <a:off x="1564200" y="13104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49"/>
            <p:cNvSpPr/>
            <p:nvPr/>
          </p:nvSpPr>
          <p:spPr>
            <a:xfrm>
              <a:off x="1564200" y="9774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55"/>
            <p:cNvSpPr/>
            <p:nvPr/>
          </p:nvSpPr>
          <p:spPr>
            <a:xfrm>
              <a:off x="1564200" y="2975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56"/>
            <p:cNvSpPr/>
            <p:nvPr/>
          </p:nvSpPr>
          <p:spPr>
            <a:xfrm>
              <a:off x="1564200" y="33192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57"/>
            <p:cNvSpPr/>
            <p:nvPr/>
          </p:nvSpPr>
          <p:spPr>
            <a:xfrm>
              <a:off x="1564200" y="3641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58"/>
            <p:cNvSpPr/>
            <p:nvPr/>
          </p:nvSpPr>
          <p:spPr>
            <a:xfrm>
              <a:off x="1564200" y="398772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1"/>
            <p:cNvSpPr/>
            <p:nvPr/>
          </p:nvSpPr>
          <p:spPr>
            <a:xfrm flipV="1">
              <a:off x="1517400" y="771480"/>
              <a:ext cx="0" cy="35352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2"/>
            <p:cNvSpPr/>
            <p:nvPr/>
          </p:nvSpPr>
          <p:spPr>
            <a:xfrm>
              <a:off x="1517400" y="4306680"/>
              <a:ext cx="6581880" cy="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3"/>
            <p:cNvSpPr/>
            <p:nvPr/>
          </p:nvSpPr>
          <p:spPr>
            <a:xfrm>
              <a:off x="1632240" y="3319200"/>
              <a:ext cx="216000" cy="98748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987480"/>
                <a:gd name="textAreaBottom" fmla="*/ 977040 h 987480"/>
              </a:gdLst>
              <a:ahLst/>
              <a:rect l="textAreaLeft" t="textAreaTop" r="textAreaRight" b="textAreaBottom"/>
              <a:pathLst>
                <a:path w="21600" h="98620">
                  <a:moveTo>
                    <a:pt x="3600" y="0"/>
                  </a:moveTo>
                  <a:arcTo wR="3600" hR="3600" stAng="16200000" swAng="-5400000"/>
                  <a:lnTo>
                    <a:pt x="0" y="95020"/>
                  </a:lnTo>
                  <a:arcTo wR="3600" hR="3600" stAng="10800000" swAng="-5400000"/>
                  <a:lnTo>
                    <a:pt x="18000" y="98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8"/>
            <p:cNvSpPr/>
            <p:nvPr/>
          </p:nvSpPr>
          <p:spPr>
            <a:xfrm>
              <a:off x="1219680" y="4152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9"/>
            <p:cNvSpPr/>
            <p:nvPr/>
          </p:nvSpPr>
          <p:spPr>
            <a:xfrm>
              <a:off x="1037520" y="823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30"/>
            <p:cNvSpPr/>
            <p:nvPr/>
          </p:nvSpPr>
          <p:spPr>
            <a:xfrm>
              <a:off x="1127880" y="248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1"/>
            <p:cNvSpPr/>
            <p:nvPr/>
          </p:nvSpPr>
          <p:spPr>
            <a:xfrm>
              <a:off x="1127880" y="3819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2"/>
            <p:cNvSpPr/>
            <p:nvPr/>
          </p:nvSpPr>
          <p:spPr>
            <a:xfrm>
              <a:off x="1127880" y="3486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3"/>
            <p:cNvSpPr/>
            <p:nvPr/>
          </p:nvSpPr>
          <p:spPr>
            <a:xfrm>
              <a:off x="1127880" y="3153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4"/>
            <p:cNvSpPr/>
            <p:nvPr/>
          </p:nvSpPr>
          <p:spPr>
            <a:xfrm>
              <a:off x="1127880" y="2820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5"/>
            <p:cNvSpPr/>
            <p:nvPr/>
          </p:nvSpPr>
          <p:spPr>
            <a:xfrm>
              <a:off x="1127880" y="2155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1127880" y="1822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7"/>
            <p:cNvSpPr/>
            <p:nvPr/>
          </p:nvSpPr>
          <p:spPr>
            <a:xfrm>
              <a:off x="1127880" y="1489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8"/>
            <p:cNvSpPr/>
            <p:nvPr/>
          </p:nvSpPr>
          <p:spPr>
            <a:xfrm>
              <a:off x="1127880" y="115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ounded Rectangle 62"/>
            <p:cNvSpPr/>
            <p:nvPr/>
          </p:nvSpPr>
          <p:spPr>
            <a:xfrm>
              <a:off x="2182320" y="3129120"/>
              <a:ext cx="216000" cy="1177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177920"/>
                <a:gd name="textAreaBottom" fmla="*/ 1167480 h 1177920"/>
              </a:gdLst>
              <a:ahLst/>
              <a:rect l="textAreaLeft" t="textAreaTop" r="textAreaRight" b="textAreaBottom"/>
              <a:pathLst>
                <a:path w="21600" h="117632">
                  <a:moveTo>
                    <a:pt x="3600" y="0"/>
                  </a:moveTo>
                  <a:arcTo wR="3600" hR="3600" stAng="16200000" swAng="-5400000"/>
                  <a:lnTo>
                    <a:pt x="0" y="114032"/>
                  </a:lnTo>
                  <a:arcTo wR="3600" hR="3600" stAng="10800000" swAng="-5400000"/>
                  <a:lnTo>
                    <a:pt x="18000" y="1176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ounded Rectangle 63"/>
            <p:cNvSpPr/>
            <p:nvPr/>
          </p:nvSpPr>
          <p:spPr>
            <a:xfrm>
              <a:off x="2714400" y="2642040"/>
              <a:ext cx="216000" cy="16646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664640"/>
                <a:gd name="textAreaBottom" fmla="*/ 1654200 h 1664640"/>
              </a:gdLst>
              <a:ahLst/>
              <a:rect l="textAreaLeft" t="textAreaTop" r="textAreaRight" b="textAreaBottom"/>
              <a:pathLst>
                <a:path w="21600" h="166223">
                  <a:moveTo>
                    <a:pt x="3600" y="0"/>
                  </a:moveTo>
                  <a:arcTo wR="3600" hR="3600" stAng="16200000" swAng="-5400000"/>
                  <a:lnTo>
                    <a:pt x="0" y="162623"/>
                  </a:lnTo>
                  <a:arcTo wR="3600" hR="3600" stAng="10800000" swAng="-5400000"/>
                  <a:lnTo>
                    <a:pt x="18000" y="166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ounded Rectangle 64"/>
            <p:cNvSpPr/>
            <p:nvPr/>
          </p:nvSpPr>
          <p:spPr>
            <a:xfrm>
              <a:off x="3246480" y="2488320"/>
              <a:ext cx="216000" cy="18187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818720"/>
                <a:gd name="textAreaBottom" fmla="*/ 1808280 h 1818720"/>
              </a:gdLst>
              <a:ahLst/>
              <a:rect l="textAreaLeft" t="textAreaTop" r="textAreaRight" b="textAreaBottom"/>
              <a:pathLst>
                <a:path w="21600" h="181605">
                  <a:moveTo>
                    <a:pt x="3600" y="0"/>
                  </a:moveTo>
                  <a:arcTo wR="3600" hR="3600" stAng="16200000" swAng="-5400000"/>
                  <a:lnTo>
                    <a:pt x="0" y="178005"/>
                  </a:lnTo>
                  <a:arcTo wR="3600" hR="3600" stAng="10800000" swAng="-5400000"/>
                  <a:lnTo>
                    <a:pt x="18000" y="181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1502640" y="4354200"/>
              <a:ext cx="4752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20710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26028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31348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>
              <a:off x="3666960" y="4354200"/>
              <a:ext cx="4402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42004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47322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2642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57960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63280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860160" y="4354200"/>
              <a:ext cx="4402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7393680" y="4354200"/>
              <a:ext cx="489600" cy="34164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714" h="613">
                  <a:moveTo>
                    <a:pt x="714" y="74"/>
                  </a:moveTo>
                  <a:cubicBezTo>
                    <a:pt x="714" y="539"/>
                    <a:pt x="714" y="539"/>
                    <a:pt x="714" y="539"/>
                  </a:cubicBezTo>
                  <a:cubicBezTo>
                    <a:pt x="714" y="580"/>
                    <a:pt x="681" y="613"/>
                    <a:pt x="640" y="613"/>
                  </a:cubicBezTo>
                  <a:cubicBezTo>
                    <a:pt x="0" y="613"/>
                    <a:pt x="0" y="613"/>
                    <a:pt x="0" y="6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0" y="0"/>
                    <a:pt x="640" y="0"/>
                    <a:pt x="640" y="0"/>
                  </a:cubicBezTo>
                  <a:cubicBezTo>
                    <a:pt x="681" y="0"/>
                    <a:pt x="714" y="33"/>
                    <a:pt x="714" y="7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ounded Rectangle 69"/>
            <p:cNvSpPr/>
            <p:nvPr/>
          </p:nvSpPr>
          <p:spPr>
            <a:xfrm>
              <a:off x="3778920" y="2820960"/>
              <a:ext cx="216000" cy="14857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485720"/>
                <a:gd name="textAreaBottom" fmla="*/ 1475280 h 1485720"/>
              </a:gdLst>
              <a:ahLst/>
              <a:rect l="textAreaLeft" t="textAreaTop" r="textAreaRight" b="textAreaBottom"/>
              <a:pathLst>
                <a:path w="21600" h="148361">
                  <a:moveTo>
                    <a:pt x="3600" y="0"/>
                  </a:moveTo>
                  <a:arcTo wR="3600" hR="3600" stAng="16200000" swAng="-5400000"/>
                  <a:lnTo>
                    <a:pt x="0" y="144761"/>
                  </a:lnTo>
                  <a:arcTo wR="3600" hR="3600" stAng="10800000" swAng="-5400000"/>
                  <a:lnTo>
                    <a:pt x="18000" y="1483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ounded Rectangle 76"/>
            <p:cNvSpPr/>
            <p:nvPr/>
          </p:nvSpPr>
          <p:spPr>
            <a:xfrm>
              <a:off x="4311720" y="3794760"/>
              <a:ext cx="216000" cy="511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511920"/>
                <a:gd name="textAreaBottom" fmla="*/ 501480 h 511920"/>
              </a:gdLst>
              <a:ahLst/>
              <a:rect l="textAreaLeft" t="textAreaTop" r="textAreaRight" b="textAreaBottom"/>
              <a:pathLst>
                <a:path w="21600" h="51143">
                  <a:moveTo>
                    <a:pt x="3600" y="0"/>
                  </a:moveTo>
                  <a:arcTo wR="3600" hR="3600" stAng="16200000" swAng="-5400000"/>
                  <a:lnTo>
                    <a:pt x="0" y="47543"/>
                  </a:lnTo>
                  <a:arcTo wR="3600" hR="3600" stAng="10800000" swAng="-5400000"/>
                  <a:lnTo>
                    <a:pt x="18000" y="51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ounded Rectangle 77"/>
            <p:cNvSpPr/>
            <p:nvPr/>
          </p:nvSpPr>
          <p:spPr>
            <a:xfrm>
              <a:off x="4843800" y="3897000"/>
              <a:ext cx="216000" cy="4100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410040"/>
                <a:gd name="textAreaBottom" fmla="*/ 399600 h 410040"/>
              </a:gdLst>
              <a:ahLst/>
              <a:rect l="textAreaLeft" t="textAreaTop" r="textAreaRight" b="textAreaBottom"/>
              <a:pathLst>
                <a:path w="21600" h="40972">
                  <a:moveTo>
                    <a:pt x="3600" y="0"/>
                  </a:moveTo>
                  <a:arcTo wR="3600" hR="3600" stAng="16200000" swAng="-5400000"/>
                  <a:lnTo>
                    <a:pt x="0" y="37372"/>
                  </a:lnTo>
                  <a:arcTo wR="3600" hR="3600" stAng="10800000" swAng="-5400000"/>
                  <a:lnTo>
                    <a:pt x="18000" y="409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ounded Rectangle 78"/>
            <p:cNvSpPr/>
            <p:nvPr/>
          </p:nvSpPr>
          <p:spPr>
            <a:xfrm>
              <a:off x="5375520" y="3461760"/>
              <a:ext cx="216000" cy="844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844920"/>
                <a:gd name="textAreaBottom" fmla="*/ 834480 h 844920"/>
              </a:gdLst>
              <a:ahLst/>
              <a:rect l="textAreaLeft" t="textAreaTop" r="textAreaRight" b="textAreaBottom"/>
              <a:pathLst>
                <a:path w="21600" h="84387">
                  <a:moveTo>
                    <a:pt x="3600" y="0"/>
                  </a:moveTo>
                  <a:arcTo wR="3600" hR="3600" stAng="16200000" swAng="-5400000"/>
                  <a:lnTo>
                    <a:pt x="0" y="80787"/>
                  </a:lnTo>
                  <a:arcTo wR="3600" hR="3600" stAng="10800000" swAng="-5400000"/>
                  <a:lnTo>
                    <a:pt x="18000" y="843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ounded Rectangle 79"/>
            <p:cNvSpPr/>
            <p:nvPr/>
          </p:nvSpPr>
          <p:spPr>
            <a:xfrm>
              <a:off x="5907600" y="2975040"/>
              <a:ext cx="216000" cy="133200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332000"/>
                <a:gd name="textAreaBottom" fmla="*/ 1321560 h 1332000"/>
              </a:gdLst>
              <a:ahLst/>
              <a:rect l="textAreaLeft" t="textAreaTop" r="textAreaRight" b="textAreaBottom"/>
              <a:pathLst>
                <a:path w="21600" h="133014">
                  <a:moveTo>
                    <a:pt x="3600" y="0"/>
                  </a:moveTo>
                  <a:arcTo wR="3600" hR="3600" stAng="16200000" swAng="-5400000"/>
                  <a:lnTo>
                    <a:pt x="0" y="129414"/>
                  </a:lnTo>
                  <a:arcTo wR="3600" hR="3600" stAng="10800000" swAng="-5400000"/>
                  <a:lnTo>
                    <a:pt x="18000" y="133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ounded Rectangle 80"/>
            <p:cNvSpPr/>
            <p:nvPr/>
          </p:nvSpPr>
          <p:spPr>
            <a:xfrm>
              <a:off x="6439680" y="2355840"/>
              <a:ext cx="216000" cy="19508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950840"/>
                <a:gd name="textAreaBottom" fmla="*/ 1940400 h 1950840"/>
              </a:gdLst>
              <a:ahLst/>
              <a:rect l="textAreaLeft" t="textAreaTop" r="textAreaRight" b="textAreaBottom"/>
              <a:pathLst>
                <a:path w="21600" h="194795">
                  <a:moveTo>
                    <a:pt x="3600" y="0"/>
                  </a:moveTo>
                  <a:arcTo wR="3600" hR="3600" stAng="16200000" swAng="-5400000"/>
                  <a:lnTo>
                    <a:pt x="0" y="191195"/>
                  </a:lnTo>
                  <a:arcTo wR="3600" hR="3600" stAng="10800000" swAng="-5400000"/>
                  <a:lnTo>
                    <a:pt x="18000" y="1947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ounded Rectangle 81"/>
            <p:cNvSpPr/>
            <p:nvPr/>
          </p:nvSpPr>
          <p:spPr>
            <a:xfrm>
              <a:off x="6972480" y="2130120"/>
              <a:ext cx="216000" cy="217656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2176560"/>
                <a:gd name="textAreaBottom" fmla="*/ 2166120 h 2176560"/>
              </a:gdLst>
              <a:ahLst/>
              <a:rect l="textAreaLeft" t="textAreaTop" r="textAreaRight" b="textAreaBottom"/>
              <a:pathLst>
                <a:path w="21600" h="217330">
                  <a:moveTo>
                    <a:pt x="3600" y="0"/>
                  </a:moveTo>
                  <a:arcTo wR="3600" hR="3600" stAng="16200000" swAng="-5400000"/>
                  <a:lnTo>
                    <a:pt x="0" y="213730"/>
                  </a:lnTo>
                  <a:arcTo wR="3600" hR="3600" stAng="10800000" swAng="-5400000"/>
                  <a:lnTo>
                    <a:pt x="18000" y="217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ounded Rectangle 82"/>
            <p:cNvSpPr/>
            <p:nvPr/>
          </p:nvSpPr>
          <p:spPr>
            <a:xfrm>
              <a:off x="7530480" y="2642040"/>
              <a:ext cx="216000" cy="16646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664640"/>
                <a:gd name="textAreaBottom" fmla="*/ 1654200 h 1664640"/>
              </a:gdLst>
              <a:ahLst/>
              <a:rect l="textAreaLeft" t="textAreaTop" r="textAreaRight" b="textAreaBottom"/>
              <a:pathLst>
                <a:path w="21600" h="166223">
                  <a:moveTo>
                    <a:pt x="3600" y="0"/>
                  </a:moveTo>
                  <a:arcTo wR="3600" hR="3600" stAng="16200000" swAng="-5400000"/>
                  <a:lnTo>
                    <a:pt x="0" y="162623"/>
                  </a:lnTo>
                  <a:arcTo wR="3600" hR="3600" stAng="10800000" swAng="-5400000"/>
                  <a:lnTo>
                    <a:pt x="18000" y="166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16360" y="480708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9"/>
          <p:cNvSpPr/>
          <p:nvPr/>
        </p:nvSpPr>
        <p:spPr>
          <a:xfrm>
            <a:off x="-31680" y="3305160"/>
            <a:ext cx="9219960" cy="185904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5811" h="1171">
                <a:moveTo>
                  <a:pt x="5765" y="877"/>
                </a:moveTo>
                <a:lnTo>
                  <a:pt x="5765" y="707"/>
                </a:lnTo>
                <a:lnTo>
                  <a:pt x="5765" y="565"/>
                </a:lnTo>
                <a:lnTo>
                  <a:pt x="5738" y="565"/>
                </a:lnTo>
                <a:lnTo>
                  <a:pt x="5678" y="565"/>
                </a:lnTo>
                <a:lnTo>
                  <a:pt x="5678" y="519"/>
                </a:lnTo>
                <a:lnTo>
                  <a:pt x="5646" y="519"/>
                </a:lnTo>
                <a:lnTo>
                  <a:pt x="5646" y="473"/>
                </a:lnTo>
                <a:lnTo>
                  <a:pt x="5591" y="436"/>
                </a:lnTo>
                <a:lnTo>
                  <a:pt x="5559" y="455"/>
                </a:lnTo>
                <a:lnTo>
                  <a:pt x="5559" y="579"/>
                </a:lnTo>
                <a:lnTo>
                  <a:pt x="5549" y="579"/>
                </a:lnTo>
                <a:lnTo>
                  <a:pt x="5549" y="716"/>
                </a:lnTo>
                <a:lnTo>
                  <a:pt x="5536" y="716"/>
                </a:lnTo>
                <a:lnTo>
                  <a:pt x="5536" y="794"/>
                </a:lnTo>
                <a:lnTo>
                  <a:pt x="5522" y="794"/>
                </a:lnTo>
                <a:lnTo>
                  <a:pt x="5522" y="845"/>
                </a:lnTo>
                <a:lnTo>
                  <a:pt x="5513" y="845"/>
                </a:lnTo>
                <a:lnTo>
                  <a:pt x="5513" y="978"/>
                </a:lnTo>
                <a:lnTo>
                  <a:pt x="5471" y="978"/>
                </a:lnTo>
                <a:lnTo>
                  <a:pt x="5471" y="918"/>
                </a:lnTo>
                <a:lnTo>
                  <a:pt x="5444" y="918"/>
                </a:lnTo>
                <a:lnTo>
                  <a:pt x="5412" y="918"/>
                </a:lnTo>
                <a:lnTo>
                  <a:pt x="5412" y="620"/>
                </a:lnTo>
                <a:lnTo>
                  <a:pt x="5361" y="620"/>
                </a:lnTo>
                <a:lnTo>
                  <a:pt x="5361" y="574"/>
                </a:lnTo>
                <a:lnTo>
                  <a:pt x="5343" y="574"/>
                </a:lnTo>
                <a:lnTo>
                  <a:pt x="5269" y="574"/>
                </a:lnTo>
                <a:lnTo>
                  <a:pt x="5269" y="698"/>
                </a:lnTo>
                <a:lnTo>
                  <a:pt x="5223" y="698"/>
                </a:lnTo>
                <a:lnTo>
                  <a:pt x="5223" y="905"/>
                </a:lnTo>
                <a:lnTo>
                  <a:pt x="5201" y="905"/>
                </a:lnTo>
                <a:lnTo>
                  <a:pt x="5201" y="955"/>
                </a:lnTo>
                <a:lnTo>
                  <a:pt x="5159" y="955"/>
                </a:lnTo>
                <a:lnTo>
                  <a:pt x="5159" y="1001"/>
                </a:lnTo>
                <a:lnTo>
                  <a:pt x="5141" y="1001"/>
                </a:lnTo>
                <a:lnTo>
                  <a:pt x="5141" y="1029"/>
                </a:lnTo>
                <a:lnTo>
                  <a:pt x="5122" y="1029"/>
                </a:lnTo>
                <a:lnTo>
                  <a:pt x="5122" y="1015"/>
                </a:lnTo>
                <a:lnTo>
                  <a:pt x="5100" y="1015"/>
                </a:lnTo>
                <a:lnTo>
                  <a:pt x="4980" y="1015"/>
                </a:lnTo>
                <a:lnTo>
                  <a:pt x="4980" y="996"/>
                </a:lnTo>
                <a:lnTo>
                  <a:pt x="4980" y="987"/>
                </a:lnTo>
                <a:lnTo>
                  <a:pt x="4980" y="863"/>
                </a:lnTo>
                <a:lnTo>
                  <a:pt x="4939" y="863"/>
                </a:lnTo>
                <a:lnTo>
                  <a:pt x="4939" y="886"/>
                </a:lnTo>
                <a:lnTo>
                  <a:pt x="4930" y="886"/>
                </a:lnTo>
                <a:lnTo>
                  <a:pt x="4907" y="873"/>
                </a:lnTo>
                <a:lnTo>
                  <a:pt x="4907" y="863"/>
                </a:lnTo>
                <a:lnTo>
                  <a:pt x="4907" y="831"/>
                </a:lnTo>
                <a:lnTo>
                  <a:pt x="4856" y="831"/>
                </a:lnTo>
                <a:lnTo>
                  <a:pt x="4856" y="868"/>
                </a:lnTo>
                <a:lnTo>
                  <a:pt x="4778" y="868"/>
                </a:lnTo>
                <a:lnTo>
                  <a:pt x="4778" y="974"/>
                </a:lnTo>
                <a:lnTo>
                  <a:pt x="4751" y="974"/>
                </a:lnTo>
                <a:lnTo>
                  <a:pt x="4751" y="964"/>
                </a:lnTo>
                <a:lnTo>
                  <a:pt x="4751" y="909"/>
                </a:lnTo>
                <a:lnTo>
                  <a:pt x="4700" y="909"/>
                </a:lnTo>
                <a:lnTo>
                  <a:pt x="4663" y="909"/>
                </a:lnTo>
                <a:lnTo>
                  <a:pt x="4654" y="891"/>
                </a:lnTo>
                <a:lnTo>
                  <a:pt x="4645" y="891"/>
                </a:lnTo>
                <a:lnTo>
                  <a:pt x="4627" y="909"/>
                </a:lnTo>
                <a:lnTo>
                  <a:pt x="4572" y="909"/>
                </a:lnTo>
                <a:lnTo>
                  <a:pt x="4572" y="992"/>
                </a:lnTo>
                <a:lnTo>
                  <a:pt x="4558" y="992"/>
                </a:lnTo>
                <a:lnTo>
                  <a:pt x="4558" y="960"/>
                </a:lnTo>
                <a:lnTo>
                  <a:pt x="4540" y="960"/>
                </a:lnTo>
                <a:lnTo>
                  <a:pt x="4540" y="923"/>
                </a:lnTo>
                <a:lnTo>
                  <a:pt x="4498" y="923"/>
                </a:lnTo>
                <a:lnTo>
                  <a:pt x="4498" y="914"/>
                </a:lnTo>
                <a:lnTo>
                  <a:pt x="4498" y="804"/>
                </a:lnTo>
                <a:lnTo>
                  <a:pt x="4484" y="804"/>
                </a:lnTo>
                <a:lnTo>
                  <a:pt x="4484" y="762"/>
                </a:lnTo>
                <a:lnTo>
                  <a:pt x="4466" y="749"/>
                </a:lnTo>
                <a:lnTo>
                  <a:pt x="4448" y="749"/>
                </a:lnTo>
                <a:lnTo>
                  <a:pt x="4420" y="749"/>
                </a:lnTo>
                <a:lnTo>
                  <a:pt x="4420" y="808"/>
                </a:lnTo>
                <a:lnTo>
                  <a:pt x="4406" y="808"/>
                </a:lnTo>
                <a:lnTo>
                  <a:pt x="4406" y="873"/>
                </a:lnTo>
                <a:lnTo>
                  <a:pt x="4402" y="873"/>
                </a:lnTo>
                <a:lnTo>
                  <a:pt x="4383" y="873"/>
                </a:lnTo>
                <a:lnTo>
                  <a:pt x="4383" y="684"/>
                </a:lnTo>
                <a:lnTo>
                  <a:pt x="4154" y="684"/>
                </a:lnTo>
                <a:lnTo>
                  <a:pt x="4131" y="693"/>
                </a:lnTo>
                <a:lnTo>
                  <a:pt x="4131" y="730"/>
                </a:lnTo>
                <a:lnTo>
                  <a:pt x="4099" y="730"/>
                </a:lnTo>
                <a:lnTo>
                  <a:pt x="4099" y="726"/>
                </a:lnTo>
                <a:lnTo>
                  <a:pt x="4099" y="409"/>
                </a:lnTo>
                <a:lnTo>
                  <a:pt x="4081" y="395"/>
                </a:lnTo>
                <a:lnTo>
                  <a:pt x="4081" y="354"/>
                </a:lnTo>
                <a:lnTo>
                  <a:pt x="4003" y="354"/>
                </a:lnTo>
                <a:lnTo>
                  <a:pt x="3984" y="363"/>
                </a:lnTo>
                <a:lnTo>
                  <a:pt x="3984" y="400"/>
                </a:lnTo>
                <a:lnTo>
                  <a:pt x="3961" y="400"/>
                </a:lnTo>
                <a:lnTo>
                  <a:pt x="3961" y="689"/>
                </a:lnTo>
                <a:lnTo>
                  <a:pt x="3952" y="689"/>
                </a:lnTo>
                <a:lnTo>
                  <a:pt x="3920" y="666"/>
                </a:lnTo>
                <a:lnTo>
                  <a:pt x="3741" y="666"/>
                </a:lnTo>
                <a:lnTo>
                  <a:pt x="3741" y="643"/>
                </a:lnTo>
                <a:lnTo>
                  <a:pt x="3704" y="643"/>
                </a:lnTo>
                <a:lnTo>
                  <a:pt x="3704" y="92"/>
                </a:lnTo>
                <a:lnTo>
                  <a:pt x="3429" y="92"/>
                </a:lnTo>
                <a:lnTo>
                  <a:pt x="3429" y="670"/>
                </a:lnTo>
                <a:lnTo>
                  <a:pt x="3241" y="670"/>
                </a:lnTo>
                <a:lnTo>
                  <a:pt x="3241" y="873"/>
                </a:lnTo>
                <a:lnTo>
                  <a:pt x="3107" y="873"/>
                </a:lnTo>
                <a:lnTo>
                  <a:pt x="3107" y="854"/>
                </a:lnTo>
                <a:lnTo>
                  <a:pt x="3107" y="850"/>
                </a:lnTo>
                <a:lnTo>
                  <a:pt x="3089" y="850"/>
                </a:lnTo>
                <a:lnTo>
                  <a:pt x="3089" y="886"/>
                </a:lnTo>
                <a:lnTo>
                  <a:pt x="3052" y="886"/>
                </a:lnTo>
                <a:lnTo>
                  <a:pt x="3006" y="886"/>
                </a:lnTo>
                <a:lnTo>
                  <a:pt x="3006" y="941"/>
                </a:lnTo>
                <a:lnTo>
                  <a:pt x="2984" y="941"/>
                </a:lnTo>
                <a:lnTo>
                  <a:pt x="2984" y="914"/>
                </a:lnTo>
                <a:lnTo>
                  <a:pt x="2984" y="854"/>
                </a:lnTo>
                <a:lnTo>
                  <a:pt x="2979" y="854"/>
                </a:lnTo>
                <a:lnTo>
                  <a:pt x="2892" y="854"/>
                </a:lnTo>
                <a:lnTo>
                  <a:pt x="2892" y="138"/>
                </a:lnTo>
                <a:lnTo>
                  <a:pt x="2873" y="138"/>
                </a:lnTo>
                <a:lnTo>
                  <a:pt x="2873" y="69"/>
                </a:lnTo>
                <a:lnTo>
                  <a:pt x="2777" y="28"/>
                </a:lnTo>
                <a:lnTo>
                  <a:pt x="2731" y="18"/>
                </a:lnTo>
                <a:lnTo>
                  <a:pt x="2731" y="14"/>
                </a:lnTo>
                <a:lnTo>
                  <a:pt x="2731" y="0"/>
                </a:lnTo>
                <a:lnTo>
                  <a:pt x="2685" y="0"/>
                </a:lnTo>
                <a:lnTo>
                  <a:pt x="2685" y="18"/>
                </a:lnTo>
                <a:lnTo>
                  <a:pt x="2598" y="18"/>
                </a:lnTo>
                <a:lnTo>
                  <a:pt x="2598" y="106"/>
                </a:lnTo>
                <a:lnTo>
                  <a:pt x="2589" y="106"/>
                </a:lnTo>
                <a:lnTo>
                  <a:pt x="2589" y="753"/>
                </a:lnTo>
                <a:lnTo>
                  <a:pt x="2580" y="753"/>
                </a:lnTo>
                <a:lnTo>
                  <a:pt x="2520" y="753"/>
                </a:lnTo>
                <a:lnTo>
                  <a:pt x="2520" y="611"/>
                </a:lnTo>
                <a:lnTo>
                  <a:pt x="2515" y="606"/>
                </a:lnTo>
                <a:lnTo>
                  <a:pt x="2511" y="606"/>
                </a:lnTo>
                <a:lnTo>
                  <a:pt x="2502" y="606"/>
                </a:lnTo>
                <a:lnTo>
                  <a:pt x="2492" y="602"/>
                </a:lnTo>
                <a:lnTo>
                  <a:pt x="2492" y="464"/>
                </a:lnTo>
                <a:lnTo>
                  <a:pt x="2492" y="390"/>
                </a:lnTo>
                <a:lnTo>
                  <a:pt x="2488" y="386"/>
                </a:lnTo>
                <a:lnTo>
                  <a:pt x="2387" y="386"/>
                </a:lnTo>
                <a:lnTo>
                  <a:pt x="2378" y="390"/>
                </a:lnTo>
                <a:lnTo>
                  <a:pt x="2378" y="464"/>
                </a:lnTo>
                <a:lnTo>
                  <a:pt x="2373" y="468"/>
                </a:lnTo>
                <a:lnTo>
                  <a:pt x="2373" y="592"/>
                </a:lnTo>
                <a:lnTo>
                  <a:pt x="2364" y="602"/>
                </a:lnTo>
                <a:lnTo>
                  <a:pt x="2359" y="602"/>
                </a:lnTo>
                <a:lnTo>
                  <a:pt x="2341" y="602"/>
                </a:lnTo>
                <a:lnTo>
                  <a:pt x="2341" y="615"/>
                </a:lnTo>
                <a:lnTo>
                  <a:pt x="2313" y="615"/>
                </a:lnTo>
                <a:lnTo>
                  <a:pt x="2313" y="767"/>
                </a:lnTo>
                <a:lnTo>
                  <a:pt x="2313" y="808"/>
                </a:lnTo>
                <a:lnTo>
                  <a:pt x="2304" y="808"/>
                </a:lnTo>
                <a:lnTo>
                  <a:pt x="2277" y="808"/>
                </a:lnTo>
                <a:lnTo>
                  <a:pt x="2277" y="790"/>
                </a:lnTo>
                <a:lnTo>
                  <a:pt x="2231" y="790"/>
                </a:lnTo>
                <a:lnTo>
                  <a:pt x="2231" y="716"/>
                </a:lnTo>
                <a:lnTo>
                  <a:pt x="2116" y="716"/>
                </a:lnTo>
                <a:lnTo>
                  <a:pt x="1997" y="716"/>
                </a:lnTo>
                <a:lnTo>
                  <a:pt x="1997" y="602"/>
                </a:lnTo>
                <a:lnTo>
                  <a:pt x="1997" y="542"/>
                </a:lnTo>
                <a:lnTo>
                  <a:pt x="1859" y="542"/>
                </a:lnTo>
                <a:lnTo>
                  <a:pt x="1859" y="514"/>
                </a:lnTo>
                <a:lnTo>
                  <a:pt x="1758" y="514"/>
                </a:lnTo>
                <a:lnTo>
                  <a:pt x="1758" y="712"/>
                </a:lnTo>
                <a:lnTo>
                  <a:pt x="1744" y="712"/>
                </a:lnTo>
                <a:lnTo>
                  <a:pt x="1680" y="712"/>
                </a:lnTo>
                <a:lnTo>
                  <a:pt x="1680" y="703"/>
                </a:lnTo>
                <a:lnTo>
                  <a:pt x="1666" y="703"/>
                </a:lnTo>
                <a:lnTo>
                  <a:pt x="1657" y="703"/>
                </a:lnTo>
                <a:lnTo>
                  <a:pt x="1657" y="886"/>
                </a:lnTo>
                <a:lnTo>
                  <a:pt x="1639" y="877"/>
                </a:lnTo>
                <a:lnTo>
                  <a:pt x="1639" y="707"/>
                </a:lnTo>
                <a:lnTo>
                  <a:pt x="1639" y="565"/>
                </a:lnTo>
                <a:lnTo>
                  <a:pt x="1611" y="565"/>
                </a:lnTo>
                <a:lnTo>
                  <a:pt x="1551" y="565"/>
                </a:lnTo>
                <a:lnTo>
                  <a:pt x="1551" y="519"/>
                </a:lnTo>
                <a:lnTo>
                  <a:pt x="1519" y="519"/>
                </a:lnTo>
                <a:lnTo>
                  <a:pt x="1519" y="473"/>
                </a:lnTo>
                <a:lnTo>
                  <a:pt x="1464" y="436"/>
                </a:lnTo>
                <a:lnTo>
                  <a:pt x="1432" y="455"/>
                </a:lnTo>
                <a:lnTo>
                  <a:pt x="1432" y="579"/>
                </a:lnTo>
                <a:lnTo>
                  <a:pt x="1423" y="579"/>
                </a:lnTo>
                <a:lnTo>
                  <a:pt x="1423" y="716"/>
                </a:lnTo>
                <a:lnTo>
                  <a:pt x="1409" y="716"/>
                </a:lnTo>
                <a:lnTo>
                  <a:pt x="1409" y="794"/>
                </a:lnTo>
                <a:lnTo>
                  <a:pt x="1395" y="794"/>
                </a:lnTo>
                <a:lnTo>
                  <a:pt x="1395" y="845"/>
                </a:lnTo>
                <a:lnTo>
                  <a:pt x="1386" y="845"/>
                </a:lnTo>
                <a:lnTo>
                  <a:pt x="1386" y="978"/>
                </a:lnTo>
                <a:lnTo>
                  <a:pt x="1345" y="978"/>
                </a:lnTo>
                <a:lnTo>
                  <a:pt x="1345" y="918"/>
                </a:lnTo>
                <a:lnTo>
                  <a:pt x="1317" y="918"/>
                </a:lnTo>
                <a:lnTo>
                  <a:pt x="1285" y="918"/>
                </a:lnTo>
                <a:lnTo>
                  <a:pt x="1285" y="620"/>
                </a:lnTo>
                <a:lnTo>
                  <a:pt x="1235" y="620"/>
                </a:lnTo>
                <a:lnTo>
                  <a:pt x="1235" y="574"/>
                </a:lnTo>
                <a:lnTo>
                  <a:pt x="1216" y="574"/>
                </a:lnTo>
                <a:lnTo>
                  <a:pt x="1143" y="574"/>
                </a:lnTo>
                <a:lnTo>
                  <a:pt x="1143" y="698"/>
                </a:lnTo>
                <a:lnTo>
                  <a:pt x="1097" y="698"/>
                </a:lnTo>
                <a:lnTo>
                  <a:pt x="1097" y="905"/>
                </a:lnTo>
                <a:lnTo>
                  <a:pt x="1074" y="905"/>
                </a:lnTo>
                <a:lnTo>
                  <a:pt x="1074" y="955"/>
                </a:lnTo>
                <a:lnTo>
                  <a:pt x="1033" y="955"/>
                </a:lnTo>
                <a:lnTo>
                  <a:pt x="1033" y="1001"/>
                </a:lnTo>
                <a:lnTo>
                  <a:pt x="1014" y="1001"/>
                </a:lnTo>
                <a:lnTo>
                  <a:pt x="1014" y="1029"/>
                </a:lnTo>
                <a:lnTo>
                  <a:pt x="996" y="1029"/>
                </a:lnTo>
                <a:lnTo>
                  <a:pt x="996" y="1015"/>
                </a:lnTo>
                <a:lnTo>
                  <a:pt x="973" y="1015"/>
                </a:lnTo>
                <a:lnTo>
                  <a:pt x="854" y="1015"/>
                </a:lnTo>
                <a:lnTo>
                  <a:pt x="854" y="996"/>
                </a:lnTo>
                <a:lnTo>
                  <a:pt x="854" y="987"/>
                </a:lnTo>
                <a:lnTo>
                  <a:pt x="854" y="863"/>
                </a:lnTo>
                <a:lnTo>
                  <a:pt x="812" y="863"/>
                </a:lnTo>
                <a:lnTo>
                  <a:pt x="812" y="886"/>
                </a:lnTo>
                <a:lnTo>
                  <a:pt x="803" y="886"/>
                </a:lnTo>
                <a:lnTo>
                  <a:pt x="780" y="873"/>
                </a:lnTo>
                <a:lnTo>
                  <a:pt x="780" y="863"/>
                </a:lnTo>
                <a:lnTo>
                  <a:pt x="780" y="831"/>
                </a:lnTo>
                <a:lnTo>
                  <a:pt x="730" y="831"/>
                </a:lnTo>
                <a:lnTo>
                  <a:pt x="730" y="868"/>
                </a:lnTo>
                <a:lnTo>
                  <a:pt x="652" y="868"/>
                </a:lnTo>
                <a:lnTo>
                  <a:pt x="652" y="974"/>
                </a:lnTo>
                <a:lnTo>
                  <a:pt x="624" y="974"/>
                </a:lnTo>
                <a:lnTo>
                  <a:pt x="624" y="964"/>
                </a:lnTo>
                <a:lnTo>
                  <a:pt x="624" y="909"/>
                </a:lnTo>
                <a:lnTo>
                  <a:pt x="574" y="909"/>
                </a:lnTo>
                <a:lnTo>
                  <a:pt x="537" y="909"/>
                </a:lnTo>
                <a:lnTo>
                  <a:pt x="528" y="891"/>
                </a:lnTo>
                <a:lnTo>
                  <a:pt x="519" y="891"/>
                </a:lnTo>
                <a:lnTo>
                  <a:pt x="500" y="909"/>
                </a:lnTo>
                <a:lnTo>
                  <a:pt x="445" y="909"/>
                </a:lnTo>
                <a:lnTo>
                  <a:pt x="445" y="992"/>
                </a:lnTo>
                <a:lnTo>
                  <a:pt x="431" y="992"/>
                </a:lnTo>
                <a:lnTo>
                  <a:pt x="431" y="960"/>
                </a:lnTo>
                <a:lnTo>
                  <a:pt x="413" y="960"/>
                </a:lnTo>
                <a:lnTo>
                  <a:pt x="413" y="923"/>
                </a:lnTo>
                <a:lnTo>
                  <a:pt x="372" y="923"/>
                </a:lnTo>
                <a:lnTo>
                  <a:pt x="372" y="914"/>
                </a:lnTo>
                <a:lnTo>
                  <a:pt x="372" y="804"/>
                </a:lnTo>
                <a:lnTo>
                  <a:pt x="358" y="804"/>
                </a:lnTo>
                <a:lnTo>
                  <a:pt x="358" y="762"/>
                </a:lnTo>
                <a:lnTo>
                  <a:pt x="340" y="749"/>
                </a:lnTo>
                <a:lnTo>
                  <a:pt x="321" y="749"/>
                </a:lnTo>
                <a:lnTo>
                  <a:pt x="294" y="749"/>
                </a:lnTo>
                <a:lnTo>
                  <a:pt x="294" y="808"/>
                </a:lnTo>
                <a:lnTo>
                  <a:pt x="280" y="808"/>
                </a:lnTo>
                <a:lnTo>
                  <a:pt x="280" y="873"/>
                </a:lnTo>
                <a:lnTo>
                  <a:pt x="275" y="873"/>
                </a:lnTo>
                <a:lnTo>
                  <a:pt x="257" y="873"/>
                </a:lnTo>
                <a:lnTo>
                  <a:pt x="257" y="684"/>
                </a:lnTo>
                <a:lnTo>
                  <a:pt x="28" y="684"/>
                </a:lnTo>
                <a:lnTo>
                  <a:pt x="5" y="693"/>
                </a:lnTo>
                <a:lnTo>
                  <a:pt x="0" y="1171"/>
                </a:lnTo>
                <a:lnTo>
                  <a:pt x="5811" y="1171"/>
                </a:lnTo>
                <a:lnTo>
                  <a:pt x="5811" y="987"/>
                </a:lnTo>
                <a:lnTo>
                  <a:pt x="5811" y="905"/>
                </a:lnTo>
                <a:lnTo>
                  <a:pt x="5765" y="877"/>
                </a:lnTo>
                <a:close/>
              </a:path>
            </a:pathLst>
          </a:custGeom>
          <a:solidFill>
            <a:srgbClr val="88c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12720" y="987480"/>
            <a:ext cx="7923240" cy="2809800"/>
            <a:chOff x="612720" y="987480"/>
            <a:chExt cx="7923240" cy="2809800"/>
          </a:xfrm>
        </p:grpSpPr>
        <p:sp>
          <p:nvSpPr>
            <p:cNvPr id="372" name="Freeform 6"/>
            <p:cNvSpPr/>
            <p:nvPr/>
          </p:nvSpPr>
          <p:spPr>
            <a:xfrm>
              <a:off x="2154240" y="2392560"/>
              <a:ext cx="1342800" cy="140472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0"/>
                  </a:moveTo>
                  <a:cubicBezTo>
                    <a:pt x="1236" y="1212"/>
                    <a:pt x="1236" y="1212"/>
                    <a:pt x="1236" y="1212"/>
                  </a:cubicBezTo>
                  <a:cubicBezTo>
                    <a:pt x="1236" y="1256"/>
                    <a:pt x="1200" y="1292"/>
                    <a:pt x="1156" y="1292"/>
                  </a:cubicBezTo>
                  <a:cubicBezTo>
                    <a:pt x="80" y="1292"/>
                    <a:pt x="80" y="1292"/>
                    <a:pt x="80" y="1292"/>
                  </a:cubicBezTo>
                  <a:cubicBezTo>
                    <a:pt x="36" y="1292"/>
                    <a:pt x="0" y="1256"/>
                    <a:pt x="0" y="121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>
              <a:off x="5005440" y="2392560"/>
              <a:ext cx="1341360" cy="140472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0"/>
                  </a:moveTo>
                  <a:cubicBezTo>
                    <a:pt x="1236" y="1212"/>
                    <a:pt x="1236" y="1212"/>
                    <a:pt x="1236" y="1212"/>
                  </a:cubicBezTo>
                  <a:cubicBezTo>
                    <a:pt x="1236" y="1256"/>
                    <a:pt x="1201" y="1292"/>
                    <a:pt x="1156" y="1292"/>
                  </a:cubicBezTo>
                  <a:cubicBezTo>
                    <a:pt x="80" y="1292"/>
                    <a:pt x="80" y="1292"/>
                    <a:pt x="80" y="1292"/>
                  </a:cubicBezTo>
                  <a:cubicBezTo>
                    <a:pt x="36" y="1292"/>
                    <a:pt x="0" y="1256"/>
                    <a:pt x="0" y="121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730080" y="987480"/>
              <a:ext cx="1341720" cy="140508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0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3579840" y="987480"/>
              <a:ext cx="1342800" cy="14050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0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6429240" y="987480"/>
              <a:ext cx="1343160" cy="140508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1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612720" y="2094120"/>
              <a:ext cx="7923240" cy="598320"/>
            </a:xfrm>
            <a:custGeom>
              <a:avLst/>
              <a:gdLst>
                <a:gd name="textAreaLeft" fmla="*/ 0 w 7923240"/>
                <a:gd name="textAreaRight" fmla="*/ 7923600 w 792324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7295" h="550">
                  <a:moveTo>
                    <a:pt x="6807" y="543"/>
                  </a:moveTo>
                  <a:cubicBezTo>
                    <a:pt x="6796" y="550"/>
                    <a:pt x="6791" y="546"/>
                    <a:pt x="6795" y="533"/>
                  </a:cubicBezTo>
                  <a:cubicBezTo>
                    <a:pt x="6869" y="334"/>
                    <a:pt x="6869" y="334"/>
                    <a:pt x="6869" y="334"/>
                  </a:cubicBezTo>
                  <a:cubicBezTo>
                    <a:pt x="6874" y="321"/>
                    <a:pt x="6867" y="311"/>
                    <a:pt x="6853" y="311"/>
                  </a:cubicBezTo>
                  <a:cubicBezTo>
                    <a:pt x="24" y="311"/>
                    <a:pt x="24" y="311"/>
                    <a:pt x="24" y="311"/>
                  </a:cubicBezTo>
                  <a:cubicBezTo>
                    <a:pt x="11" y="311"/>
                    <a:pt x="0" y="300"/>
                    <a:pt x="0" y="287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250"/>
                    <a:pt x="11" y="239"/>
                    <a:pt x="24" y="239"/>
                  </a:cubicBezTo>
                  <a:cubicBezTo>
                    <a:pt x="6853" y="239"/>
                    <a:pt x="6853" y="239"/>
                    <a:pt x="6853" y="239"/>
                  </a:cubicBezTo>
                  <a:cubicBezTo>
                    <a:pt x="6867" y="239"/>
                    <a:pt x="6874" y="229"/>
                    <a:pt x="6869" y="216"/>
                  </a:cubicBezTo>
                  <a:cubicBezTo>
                    <a:pt x="6795" y="17"/>
                    <a:pt x="6795" y="17"/>
                    <a:pt x="6795" y="17"/>
                  </a:cubicBezTo>
                  <a:cubicBezTo>
                    <a:pt x="6791" y="5"/>
                    <a:pt x="6796" y="0"/>
                    <a:pt x="6807" y="7"/>
                  </a:cubicBezTo>
                  <a:cubicBezTo>
                    <a:pt x="7282" y="265"/>
                    <a:pt x="7282" y="265"/>
                    <a:pt x="7282" y="265"/>
                  </a:cubicBezTo>
                  <a:cubicBezTo>
                    <a:pt x="7295" y="271"/>
                    <a:pt x="7295" y="279"/>
                    <a:pt x="7282" y="285"/>
                  </a:cubicBezTo>
                  <a:lnTo>
                    <a:pt x="6807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0"/>
          <p:cNvSpPr/>
          <p:nvPr/>
        </p:nvSpPr>
        <p:spPr>
          <a:xfrm>
            <a:off x="881640" y="101916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2308680" y="336384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3580560" y="1019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109840" y="33638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6692040" y="10159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"/>
          <p:cNvSpPr/>
          <p:nvPr/>
        </p:nvSpPr>
        <p:spPr>
          <a:xfrm>
            <a:off x="73008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3"/>
          <p:cNvSpPr/>
          <p:nvPr/>
        </p:nvSpPr>
        <p:spPr>
          <a:xfrm>
            <a:off x="358128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4"/>
          <p:cNvSpPr/>
          <p:nvPr/>
        </p:nvSpPr>
        <p:spPr>
          <a:xfrm>
            <a:off x="642924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5"/>
          <p:cNvSpPr/>
          <p:nvPr/>
        </p:nvSpPr>
        <p:spPr>
          <a:xfrm>
            <a:off x="2155680" y="286056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6"/>
          <p:cNvSpPr/>
          <p:nvPr/>
        </p:nvSpPr>
        <p:spPr>
          <a:xfrm>
            <a:off x="5005440" y="2860560"/>
            <a:ext cx="13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611440" y="1655640"/>
            <a:ext cx="1528920" cy="2644920"/>
            <a:chOff x="2611440" y="1655640"/>
            <a:chExt cx="1528920" cy="2644920"/>
          </a:xfrm>
        </p:grpSpPr>
        <p:sp>
          <p:nvSpPr>
            <p:cNvPr id="389" name="AutoShape 32"/>
            <p:cNvSpPr/>
            <p:nvPr/>
          </p:nvSpPr>
          <p:spPr>
            <a:xfrm>
              <a:off x="2620080" y="1655640"/>
              <a:ext cx="15199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3024360" y="3623400"/>
              <a:ext cx="715320" cy="196200"/>
            </a:xfrm>
            <a:custGeom>
              <a:avLst/>
              <a:gdLst>
                <a:gd name="textAreaLeft" fmla="*/ 0 w 715320"/>
                <a:gd name="textAreaRight" fmla="*/ 715680 w 7153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61" h="44">
                  <a:moveTo>
                    <a:pt x="159" y="13"/>
                  </a:moveTo>
                  <a:cubicBezTo>
                    <a:pt x="158" y="28"/>
                    <a:pt x="161" y="40"/>
                    <a:pt x="151" y="40"/>
                  </a:cubicBezTo>
                  <a:cubicBezTo>
                    <a:pt x="138" y="40"/>
                    <a:pt x="105" y="44"/>
                    <a:pt x="91" y="39"/>
                  </a:cubicBezTo>
                  <a:cubicBezTo>
                    <a:pt x="40" y="16"/>
                    <a:pt x="0" y="22"/>
                    <a:pt x="0" y="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58" y="0"/>
                    <a:pt x="15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2611440" y="1660320"/>
              <a:ext cx="1528920" cy="193212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344" h="434">
                  <a:moveTo>
                    <a:pt x="306" y="280"/>
                  </a:moveTo>
                  <a:cubicBezTo>
                    <a:pt x="268" y="327"/>
                    <a:pt x="270" y="348"/>
                    <a:pt x="267" y="374"/>
                  </a:cubicBezTo>
                  <a:cubicBezTo>
                    <a:pt x="263" y="399"/>
                    <a:pt x="263" y="417"/>
                    <a:pt x="249" y="425"/>
                  </a:cubicBezTo>
                  <a:cubicBezTo>
                    <a:pt x="236" y="433"/>
                    <a:pt x="172" y="434"/>
                    <a:pt x="172" y="434"/>
                  </a:cubicBezTo>
                  <a:cubicBezTo>
                    <a:pt x="172" y="434"/>
                    <a:pt x="108" y="433"/>
                    <a:pt x="94" y="425"/>
                  </a:cubicBezTo>
                  <a:cubicBezTo>
                    <a:pt x="81" y="417"/>
                    <a:pt x="80" y="399"/>
                    <a:pt x="77" y="374"/>
                  </a:cubicBezTo>
                  <a:cubicBezTo>
                    <a:pt x="74" y="348"/>
                    <a:pt x="76" y="327"/>
                    <a:pt x="38" y="280"/>
                  </a:cubicBezTo>
                  <a:cubicBezTo>
                    <a:pt x="0" y="234"/>
                    <a:pt x="1" y="171"/>
                    <a:pt x="1" y="171"/>
                  </a:cubicBezTo>
                  <a:cubicBezTo>
                    <a:pt x="1" y="76"/>
                    <a:pt x="77" y="0"/>
                    <a:pt x="172" y="0"/>
                  </a:cubicBezTo>
                  <a:cubicBezTo>
                    <a:pt x="266" y="0"/>
                    <a:pt x="343" y="76"/>
                    <a:pt x="343" y="171"/>
                  </a:cubicBezTo>
                  <a:cubicBezTo>
                    <a:pt x="343" y="171"/>
                    <a:pt x="344" y="234"/>
                    <a:pt x="306" y="280"/>
                  </a:cubicBez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3029400" y="3948840"/>
              <a:ext cx="692640" cy="18216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2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3029400" y="3796920"/>
              <a:ext cx="692640" cy="18324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1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3113280" y="4127040"/>
              <a:ext cx="506520" cy="173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14" h="39">
                  <a:moveTo>
                    <a:pt x="103" y="24"/>
                  </a:moveTo>
                  <a:cubicBezTo>
                    <a:pt x="94" y="24"/>
                    <a:pt x="86" y="39"/>
                    <a:pt x="8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8" y="35"/>
                    <a:pt x="24" y="28"/>
                  </a:cubicBezTo>
                  <a:cubicBezTo>
                    <a:pt x="19" y="21"/>
                    <a:pt x="3" y="14"/>
                    <a:pt x="1" y="8"/>
                  </a:cubicBezTo>
                  <a:cubicBezTo>
                    <a:pt x="0" y="2"/>
                    <a:pt x="3" y="0"/>
                    <a:pt x="9" y="1"/>
                  </a:cubicBezTo>
                  <a:cubicBezTo>
                    <a:pt x="15" y="1"/>
                    <a:pt x="91" y="14"/>
                    <a:pt x="107" y="16"/>
                  </a:cubicBezTo>
                  <a:cubicBezTo>
                    <a:pt x="114" y="18"/>
                    <a:pt x="112" y="24"/>
                    <a:pt x="103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9"/>
            <p:cNvSpPr/>
            <p:nvPr/>
          </p:nvSpPr>
          <p:spPr>
            <a:xfrm>
              <a:off x="2700000" y="1699920"/>
              <a:ext cx="1346400" cy="111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"/>
            <p:cNvSpPr/>
            <p:nvPr/>
          </p:nvSpPr>
          <p:spPr>
            <a:xfrm>
              <a:off x="3375360" y="2572560"/>
              <a:ext cx="262080" cy="101520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59" h="228">
                  <a:moveTo>
                    <a:pt x="29" y="228"/>
                  </a:moveTo>
                  <a:cubicBezTo>
                    <a:pt x="29" y="228"/>
                    <a:pt x="29" y="184"/>
                    <a:pt x="25" y="171"/>
                  </a:cubicBezTo>
                  <a:cubicBezTo>
                    <a:pt x="21" y="157"/>
                    <a:pt x="23" y="155"/>
                    <a:pt x="25" y="144"/>
                  </a:cubicBezTo>
                  <a:cubicBezTo>
                    <a:pt x="28" y="133"/>
                    <a:pt x="23" y="126"/>
                    <a:pt x="23" y="119"/>
                  </a:cubicBezTo>
                  <a:cubicBezTo>
                    <a:pt x="23" y="112"/>
                    <a:pt x="59" y="9"/>
                    <a:pt x="59" y="9"/>
                  </a:cubicBezTo>
                  <a:cubicBezTo>
                    <a:pt x="59" y="9"/>
                    <a:pt x="58" y="0"/>
                    <a:pt x="55" y="9"/>
                  </a:cubicBezTo>
                  <a:cubicBezTo>
                    <a:pt x="52" y="17"/>
                    <a:pt x="22" y="121"/>
                    <a:pt x="17" y="119"/>
                  </a:cubicBezTo>
                  <a:cubicBezTo>
                    <a:pt x="13" y="118"/>
                    <a:pt x="7" y="85"/>
                    <a:pt x="9" y="78"/>
                  </a:cubicBezTo>
                  <a:cubicBezTo>
                    <a:pt x="11" y="71"/>
                    <a:pt x="22" y="64"/>
                    <a:pt x="15" y="61"/>
                  </a:cubicBezTo>
                  <a:cubicBezTo>
                    <a:pt x="8" y="61"/>
                    <a:pt x="0" y="61"/>
                    <a:pt x="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1"/>
            <p:cNvSpPr/>
            <p:nvPr/>
          </p:nvSpPr>
          <p:spPr>
            <a:xfrm>
              <a:off x="3108960" y="2572560"/>
              <a:ext cx="266040" cy="10152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0" h="228">
                  <a:moveTo>
                    <a:pt x="31" y="228"/>
                  </a:moveTo>
                  <a:cubicBezTo>
                    <a:pt x="31" y="228"/>
                    <a:pt x="30" y="184"/>
                    <a:pt x="34" y="171"/>
                  </a:cubicBezTo>
                  <a:cubicBezTo>
                    <a:pt x="38" y="157"/>
                    <a:pt x="37" y="155"/>
                    <a:pt x="34" y="144"/>
                  </a:cubicBezTo>
                  <a:cubicBezTo>
                    <a:pt x="31" y="133"/>
                    <a:pt x="36" y="126"/>
                    <a:pt x="37" y="119"/>
                  </a:cubicBezTo>
                  <a:cubicBezTo>
                    <a:pt x="37" y="112"/>
                    <a:pt x="0" y="9"/>
                    <a:pt x="0" y="9"/>
                  </a:cubicBezTo>
                  <a:cubicBezTo>
                    <a:pt x="0" y="9"/>
                    <a:pt x="2" y="0"/>
                    <a:pt x="4" y="9"/>
                  </a:cubicBezTo>
                  <a:cubicBezTo>
                    <a:pt x="7" y="17"/>
                    <a:pt x="37" y="121"/>
                    <a:pt x="42" y="119"/>
                  </a:cubicBezTo>
                  <a:cubicBezTo>
                    <a:pt x="47" y="118"/>
                    <a:pt x="52" y="85"/>
                    <a:pt x="51" y="78"/>
                  </a:cubicBezTo>
                  <a:cubicBezTo>
                    <a:pt x="49" y="71"/>
                    <a:pt x="37" y="64"/>
                    <a:pt x="44" y="61"/>
                  </a:cubicBezTo>
                  <a:cubicBezTo>
                    <a:pt x="52" y="61"/>
                    <a:pt x="60" y="61"/>
                    <a:pt x="6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2"/>
            <p:cNvSpPr/>
            <p:nvPr/>
          </p:nvSpPr>
          <p:spPr>
            <a:xfrm>
              <a:off x="3247200" y="2474280"/>
              <a:ext cx="88200" cy="3697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0" h="83">
                  <a:moveTo>
                    <a:pt x="20" y="83"/>
                  </a:moveTo>
                  <a:cubicBezTo>
                    <a:pt x="20" y="83"/>
                    <a:pt x="0" y="11"/>
                    <a:pt x="1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3"/>
            <p:cNvSpPr/>
            <p:nvPr/>
          </p:nvSpPr>
          <p:spPr>
            <a:xfrm>
              <a:off x="3411000" y="2474280"/>
              <a:ext cx="93600" cy="369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cubicBezTo>
                    <a:pt x="0" y="83"/>
                    <a:pt x="21" y="11"/>
                    <a:pt x="20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4"/>
            <p:cNvSpPr/>
            <p:nvPr/>
          </p:nvSpPr>
          <p:spPr>
            <a:xfrm>
              <a:off x="3095280" y="2466360"/>
              <a:ext cx="555840" cy="1465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25" h="33">
                  <a:moveTo>
                    <a:pt x="0" y="26"/>
                  </a:moveTo>
                  <a:cubicBezTo>
                    <a:pt x="1" y="24"/>
                    <a:pt x="11" y="33"/>
                    <a:pt x="13" y="31"/>
                  </a:cubicBezTo>
                  <a:cubicBezTo>
                    <a:pt x="13" y="30"/>
                    <a:pt x="5" y="21"/>
                    <a:pt x="6" y="20"/>
                  </a:cubicBezTo>
                  <a:cubicBezTo>
                    <a:pt x="6" y="19"/>
                    <a:pt x="16" y="28"/>
                    <a:pt x="17" y="27"/>
                  </a:cubicBezTo>
                  <a:cubicBezTo>
                    <a:pt x="18" y="26"/>
                    <a:pt x="10" y="16"/>
                    <a:pt x="11" y="15"/>
                  </a:cubicBezTo>
                  <a:cubicBezTo>
                    <a:pt x="12" y="14"/>
                    <a:pt x="20" y="24"/>
                    <a:pt x="21" y="23"/>
                  </a:cubicBezTo>
                  <a:cubicBezTo>
                    <a:pt x="22" y="23"/>
                    <a:pt x="17" y="11"/>
                    <a:pt x="18" y="11"/>
                  </a:cubicBezTo>
                  <a:cubicBezTo>
                    <a:pt x="18" y="10"/>
                    <a:pt x="26" y="21"/>
                    <a:pt x="27" y="20"/>
                  </a:cubicBezTo>
                  <a:cubicBezTo>
                    <a:pt x="28" y="20"/>
                    <a:pt x="23" y="8"/>
                    <a:pt x="24" y="7"/>
                  </a:cubicBezTo>
                  <a:cubicBezTo>
                    <a:pt x="25" y="7"/>
                    <a:pt x="31" y="18"/>
                    <a:pt x="32" y="18"/>
                  </a:cubicBezTo>
                  <a:cubicBezTo>
                    <a:pt x="33" y="18"/>
                    <a:pt x="30" y="5"/>
                    <a:pt x="31" y="5"/>
                  </a:cubicBezTo>
                  <a:cubicBezTo>
                    <a:pt x="32" y="4"/>
                    <a:pt x="37" y="16"/>
                    <a:pt x="38" y="16"/>
                  </a:cubicBezTo>
                  <a:cubicBezTo>
                    <a:pt x="39" y="16"/>
                    <a:pt x="37" y="3"/>
                    <a:pt x="38" y="3"/>
                  </a:cubicBezTo>
                  <a:cubicBezTo>
                    <a:pt x="39" y="2"/>
                    <a:pt x="43" y="15"/>
                    <a:pt x="44" y="15"/>
                  </a:cubicBezTo>
                  <a:cubicBezTo>
                    <a:pt x="45" y="14"/>
                    <a:pt x="44" y="1"/>
                    <a:pt x="45" y="1"/>
                  </a:cubicBezTo>
                  <a:cubicBezTo>
                    <a:pt x="46" y="1"/>
                    <a:pt x="49" y="14"/>
                    <a:pt x="50" y="14"/>
                  </a:cubicBezTo>
                  <a:cubicBezTo>
                    <a:pt x="51" y="13"/>
                    <a:pt x="51" y="1"/>
                    <a:pt x="52" y="0"/>
                  </a:cubicBezTo>
                  <a:cubicBezTo>
                    <a:pt x="53" y="0"/>
                    <a:pt x="55" y="13"/>
                    <a:pt x="56" y="13"/>
                  </a:cubicBezTo>
                  <a:cubicBezTo>
                    <a:pt x="57" y="13"/>
                    <a:pt x="58" y="0"/>
                    <a:pt x="59" y="0"/>
                  </a:cubicBezTo>
                  <a:cubicBezTo>
                    <a:pt x="60" y="0"/>
                    <a:pt x="61" y="13"/>
                    <a:pt x="63" y="13"/>
                  </a:cubicBezTo>
                  <a:cubicBezTo>
                    <a:pt x="64" y="13"/>
                    <a:pt x="65" y="0"/>
                    <a:pt x="66" y="0"/>
                  </a:cubicBezTo>
                  <a:cubicBezTo>
                    <a:pt x="68" y="0"/>
                    <a:pt x="68" y="13"/>
                    <a:pt x="69" y="13"/>
                  </a:cubicBezTo>
                  <a:cubicBezTo>
                    <a:pt x="70" y="13"/>
                    <a:pt x="72" y="1"/>
                    <a:pt x="73" y="1"/>
                  </a:cubicBezTo>
                  <a:cubicBezTo>
                    <a:pt x="74" y="1"/>
                    <a:pt x="75" y="14"/>
                    <a:pt x="76" y="14"/>
                  </a:cubicBezTo>
                  <a:cubicBezTo>
                    <a:pt x="77" y="14"/>
                    <a:pt x="79" y="1"/>
                    <a:pt x="80" y="1"/>
                  </a:cubicBezTo>
                  <a:cubicBezTo>
                    <a:pt x="81" y="1"/>
                    <a:pt x="81" y="14"/>
                    <a:pt x="82" y="15"/>
                  </a:cubicBezTo>
                  <a:cubicBezTo>
                    <a:pt x="83" y="15"/>
                    <a:pt x="86" y="2"/>
                    <a:pt x="87" y="2"/>
                  </a:cubicBezTo>
                  <a:cubicBezTo>
                    <a:pt x="89" y="3"/>
                    <a:pt x="87" y="15"/>
                    <a:pt x="88" y="16"/>
                  </a:cubicBezTo>
                  <a:cubicBezTo>
                    <a:pt x="89" y="16"/>
                    <a:pt x="94" y="4"/>
                    <a:pt x="95" y="4"/>
                  </a:cubicBezTo>
                  <a:cubicBezTo>
                    <a:pt x="96" y="4"/>
                    <a:pt x="93" y="17"/>
                    <a:pt x="94" y="17"/>
                  </a:cubicBezTo>
                  <a:cubicBezTo>
                    <a:pt x="95" y="18"/>
                    <a:pt x="101" y="6"/>
                    <a:pt x="102" y="6"/>
                  </a:cubicBezTo>
                  <a:cubicBezTo>
                    <a:pt x="103" y="7"/>
                    <a:pt x="98" y="19"/>
                    <a:pt x="99" y="19"/>
                  </a:cubicBezTo>
                  <a:cubicBezTo>
                    <a:pt x="100" y="20"/>
                    <a:pt x="108" y="9"/>
                    <a:pt x="109" y="10"/>
                  </a:cubicBezTo>
                  <a:cubicBezTo>
                    <a:pt x="110" y="11"/>
                    <a:pt x="103" y="22"/>
                    <a:pt x="104" y="22"/>
                  </a:cubicBezTo>
                  <a:cubicBezTo>
                    <a:pt x="105" y="23"/>
                    <a:pt x="114" y="14"/>
                    <a:pt x="115" y="15"/>
                  </a:cubicBezTo>
                  <a:cubicBezTo>
                    <a:pt x="116" y="16"/>
                    <a:pt x="108" y="26"/>
                    <a:pt x="108" y="26"/>
                  </a:cubicBezTo>
                  <a:cubicBezTo>
                    <a:pt x="109" y="27"/>
                    <a:pt x="119" y="19"/>
                    <a:pt x="120" y="20"/>
                  </a:cubicBezTo>
                  <a:cubicBezTo>
                    <a:pt x="121" y="21"/>
                    <a:pt x="112" y="30"/>
                    <a:pt x="113" y="31"/>
                  </a:cubicBezTo>
                  <a:cubicBezTo>
                    <a:pt x="113" y="32"/>
                    <a:pt x="124" y="24"/>
                    <a:pt x="125" y="25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003640" y="1655640"/>
            <a:ext cx="1536840" cy="2644920"/>
            <a:chOff x="5003640" y="1655640"/>
            <a:chExt cx="1536840" cy="2644920"/>
          </a:xfrm>
        </p:grpSpPr>
        <p:sp>
          <p:nvSpPr>
            <p:cNvPr id="402" name="AutoShape 32"/>
            <p:cNvSpPr/>
            <p:nvPr/>
          </p:nvSpPr>
          <p:spPr>
            <a:xfrm>
              <a:off x="5012280" y="1655640"/>
              <a:ext cx="152784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5418720" y="3623400"/>
              <a:ext cx="719280" cy="19620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61" h="44">
                  <a:moveTo>
                    <a:pt x="159" y="13"/>
                  </a:moveTo>
                  <a:cubicBezTo>
                    <a:pt x="158" y="28"/>
                    <a:pt x="161" y="40"/>
                    <a:pt x="151" y="40"/>
                  </a:cubicBezTo>
                  <a:cubicBezTo>
                    <a:pt x="138" y="40"/>
                    <a:pt x="105" y="44"/>
                    <a:pt x="91" y="39"/>
                  </a:cubicBezTo>
                  <a:cubicBezTo>
                    <a:pt x="40" y="16"/>
                    <a:pt x="0" y="22"/>
                    <a:pt x="0" y="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58" y="0"/>
                    <a:pt x="15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5"/>
            <p:cNvSpPr/>
            <p:nvPr/>
          </p:nvSpPr>
          <p:spPr>
            <a:xfrm>
              <a:off x="5003640" y="1660320"/>
              <a:ext cx="1536840" cy="1932120"/>
            </a:xfrm>
            <a:custGeom>
              <a:avLst/>
              <a:gdLst>
                <a:gd name="textAreaLeft" fmla="*/ 0 w 1536840"/>
                <a:gd name="textAreaRight" fmla="*/ 1537200 w 153684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344" h="434">
                  <a:moveTo>
                    <a:pt x="306" y="280"/>
                  </a:moveTo>
                  <a:cubicBezTo>
                    <a:pt x="268" y="327"/>
                    <a:pt x="270" y="348"/>
                    <a:pt x="267" y="374"/>
                  </a:cubicBezTo>
                  <a:cubicBezTo>
                    <a:pt x="263" y="399"/>
                    <a:pt x="263" y="417"/>
                    <a:pt x="249" y="425"/>
                  </a:cubicBezTo>
                  <a:cubicBezTo>
                    <a:pt x="236" y="433"/>
                    <a:pt x="172" y="434"/>
                    <a:pt x="172" y="434"/>
                  </a:cubicBezTo>
                  <a:cubicBezTo>
                    <a:pt x="172" y="434"/>
                    <a:pt x="108" y="433"/>
                    <a:pt x="94" y="425"/>
                  </a:cubicBezTo>
                  <a:cubicBezTo>
                    <a:pt x="81" y="417"/>
                    <a:pt x="80" y="399"/>
                    <a:pt x="77" y="374"/>
                  </a:cubicBezTo>
                  <a:cubicBezTo>
                    <a:pt x="74" y="348"/>
                    <a:pt x="76" y="327"/>
                    <a:pt x="38" y="280"/>
                  </a:cubicBezTo>
                  <a:cubicBezTo>
                    <a:pt x="0" y="234"/>
                    <a:pt x="1" y="171"/>
                    <a:pt x="1" y="171"/>
                  </a:cubicBezTo>
                  <a:cubicBezTo>
                    <a:pt x="1" y="76"/>
                    <a:pt x="77" y="0"/>
                    <a:pt x="172" y="0"/>
                  </a:cubicBezTo>
                  <a:cubicBezTo>
                    <a:pt x="266" y="0"/>
                    <a:pt x="343" y="76"/>
                    <a:pt x="343" y="171"/>
                  </a:cubicBezTo>
                  <a:cubicBezTo>
                    <a:pt x="343" y="171"/>
                    <a:pt x="344" y="234"/>
                    <a:pt x="306" y="2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6"/>
            <p:cNvSpPr/>
            <p:nvPr/>
          </p:nvSpPr>
          <p:spPr>
            <a:xfrm>
              <a:off x="5423760" y="3948840"/>
              <a:ext cx="696600" cy="18216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2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"/>
            <p:cNvSpPr/>
            <p:nvPr/>
          </p:nvSpPr>
          <p:spPr>
            <a:xfrm>
              <a:off x="5423760" y="3796920"/>
              <a:ext cx="696600" cy="18324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1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8"/>
            <p:cNvSpPr/>
            <p:nvPr/>
          </p:nvSpPr>
          <p:spPr>
            <a:xfrm>
              <a:off x="5508000" y="4127040"/>
              <a:ext cx="509040" cy="1735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14" h="39">
                  <a:moveTo>
                    <a:pt x="103" y="24"/>
                  </a:moveTo>
                  <a:cubicBezTo>
                    <a:pt x="94" y="24"/>
                    <a:pt x="86" y="39"/>
                    <a:pt x="8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8" y="35"/>
                    <a:pt x="24" y="28"/>
                  </a:cubicBezTo>
                  <a:cubicBezTo>
                    <a:pt x="19" y="21"/>
                    <a:pt x="3" y="14"/>
                    <a:pt x="1" y="8"/>
                  </a:cubicBezTo>
                  <a:cubicBezTo>
                    <a:pt x="0" y="2"/>
                    <a:pt x="3" y="0"/>
                    <a:pt x="9" y="1"/>
                  </a:cubicBezTo>
                  <a:cubicBezTo>
                    <a:pt x="15" y="1"/>
                    <a:pt x="91" y="14"/>
                    <a:pt x="107" y="16"/>
                  </a:cubicBezTo>
                  <a:cubicBezTo>
                    <a:pt x="114" y="18"/>
                    <a:pt x="112" y="24"/>
                    <a:pt x="103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39"/>
            <p:cNvSpPr/>
            <p:nvPr/>
          </p:nvSpPr>
          <p:spPr>
            <a:xfrm>
              <a:off x="5092560" y="1699920"/>
              <a:ext cx="1353600" cy="111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0"/>
            <p:cNvSpPr/>
            <p:nvPr/>
          </p:nvSpPr>
          <p:spPr>
            <a:xfrm>
              <a:off x="5771520" y="2572560"/>
              <a:ext cx="263520" cy="1015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59" h="228">
                  <a:moveTo>
                    <a:pt x="29" y="228"/>
                  </a:moveTo>
                  <a:cubicBezTo>
                    <a:pt x="29" y="228"/>
                    <a:pt x="29" y="184"/>
                    <a:pt x="25" y="171"/>
                  </a:cubicBezTo>
                  <a:cubicBezTo>
                    <a:pt x="21" y="157"/>
                    <a:pt x="23" y="155"/>
                    <a:pt x="25" y="144"/>
                  </a:cubicBezTo>
                  <a:cubicBezTo>
                    <a:pt x="28" y="133"/>
                    <a:pt x="23" y="126"/>
                    <a:pt x="23" y="119"/>
                  </a:cubicBezTo>
                  <a:cubicBezTo>
                    <a:pt x="23" y="112"/>
                    <a:pt x="59" y="9"/>
                    <a:pt x="59" y="9"/>
                  </a:cubicBezTo>
                  <a:cubicBezTo>
                    <a:pt x="59" y="9"/>
                    <a:pt x="58" y="0"/>
                    <a:pt x="55" y="9"/>
                  </a:cubicBezTo>
                  <a:cubicBezTo>
                    <a:pt x="52" y="17"/>
                    <a:pt x="22" y="121"/>
                    <a:pt x="17" y="119"/>
                  </a:cubicBezTo>
                  <a:cubicBezTo>
                    <a:pt x="13" y="118"/>
                    <a:pt x="7" y="85"/>
                    <a:pt x="9" y="78"/>
                  </a:cubicBezTo>
                  <a:cubicBezTo>
                    <a:pt x="11" y="71"/>
                    <a:pt x="22" y="64"/>
                    <a:pt x="15" y="61"/>
                  </a:cubicBezTo>
                  <a:cubicBezTo>
                    <a:pt x="8" y="61"/>
                    <a:pt x="0" y="61"/>
                    <a:pt x="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"/>
            <p:cNvSpPr/>
            <p:nvPr/>
          </p:nvSpPr>
          <p:spPr>
            <a:xfrm>
              <a:off x="5504040" y="2572560"/>
              <a:ext cx="267480" cy="10152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0" h="228">
                  <a:moveTo>
                    <a:pt x="31" y="228"/>
                  </a:moveTo>
                  <a:cubicBezTo>
                    <a:pt x="31" y="228"/>
                    <a:pt x="30" y="184"/>
                    <a:pt x="34" y="171"/>
                  </a:cubicBezTo>
                  <a:cubicBezTo>
                    <a:pt x="38" y="157"/>
                    <a:pt x="37" y="155"/>
                    <a:pt x="34" y="144"/>
                  </a:cubicBezTo>
                  <a:cubicBezTo>
                    <a:pt x="31" y="133"/>
                    <a:pt x="36" y="126"/>
                    <a:pt x="37" y="119"/>
                  </a:cubicBezTo>
                  <a:cubicBezTo>
                    <a:pt x="37" y="112"/>
                    <a:pt x="0" y="9"/>
                    <a:pt x="0" y="9"/>
                  </a:cubicBezTo>
                  <a:cubicBezTo>
                    <a:pt x="0" y="9"/>
                    <a:pt x="2" y="0"/>
                    <a:pt x="4" y="9"/>
                  </a:cubicBezTo>
                  <a:cubicBezTo>
                    <a:pt x="7" y="17"/>
                    <a:pt x="37" y="121"/>
                    <a:pt x="42" y="119"/>
                  </a:cubicBezTo>
                  <a:cubicBezTo>
                    <a:pt x="47" y="118"/>
                    <a:pt x="52" y="85"/>
                    <a:pt x="51" y="78"/>
                  </a:cubicBezTo>
                  <a:cubicBezTo>
                    <a:pt x="49" y="71"/>
                    <a:pt x="37" y="64"/>
                    <a:pt x="44" y="61"/>
                  </a:cubicBezTo>
                  <a:cubicBezTo>
                    <a:pt x="52" y="61"/>
                    <a:pt x="60" y="61"/>
                    <a:pt x="6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2"/>
            <p:cNvSpPr/>
            <p:nvPr/>
          </p:nvSpPr>
          <p:spPr>
            <a:xfrm>
              <a:off x="5642640" y="2474280"/>
              <a:ext cx="88920" cy="369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0" h="83">
                  <a:moveTo>
                    <a:pt x="20" y="83"/>
                  </a:moveTo>
                  <a:cubicBezTo>
                    <a:pt x="20" y="83"/>
                    <a:pt x="0" y="11"/>
                    <a:pt x="1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3"/>
            <p:cNvSpPr/>
            <p:nvPr/>
          </p:nvSpPr>
          <p:spPr>
            <a:xfrm>
              <a:off x="5807160" y="2474280"/>
              <a:ext cx="93960" cy="369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cubicBezTo>
                    <a:pt x="0" y="83"/>
                    <a:pt x="21" y="11"/>
                    <a:pt x="20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4"/>
            <p:cNvSpPr/>
            <p:nvPr/>
          </p:nvSpPr>
          <p:spPr>
            <a:xfrm>
              <a:off x="5490000" y="2466360"/>
              <a:ext cx="558720" cy="146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25" h="33">
                  <a:moveTo>
                    <a:pt x="0" y="26"/>
                  </a:moveTo>
                  <a:cubicBezTo>
                    <a:pt x="1" y="24"/>
                    <a:pt x="11" y="33"/>
                    <a:pt x="13" y="31"/>
                  </a:cubicBezTo>
                  <a:cubicBezTo>
                    <a:pt x="13" y="30"/>
                    <a:pt x="5" y="21"/>
                    <a:pt x="6" y="20"/>
                  </a:cubicBezTo>
                  <a:cubicBezTo>
                    <a:pt x="6" y="19"/>
                    <a:pt x="16" y="28"/>
                    <a:pt x="17" y="27"/>
                  </a:cubicBezTo>
                  <a:cubicBezTo>
                    <a:pt x="18" y="26"/>
                    <a:pt x="10" y="16"/>
                    <a:pt x="11" y="15"/>
                  </a:cubicBezTo>
                  <a:cubicBezTo>
                    <a:pt x="12" y="14"/>
                    <a:pt x="20" y="24"/>
                    <a:pt x="21" y="23"/>
                  </a:cubicBezTo>
                  <a:cubicBezTo>
                    <a:pt x="22" y="23"/>
                    <a:pt x="17" y="11"/>
                    <a:pt x="18" y="11"/>
                  </a:cubicBezTo>
                  <a:cubicBezTo>
                    <a:pt x="18" y="10"/>
                    <a:pt x="26" y="21"/>
                    <a:pt x="27" y="20"/>
                  </a:cubicBezTo>
                  <a:cubicBezTo>
                    <a:pt x="28" y="20"/>
                    <a:pt x="23" y="8"/>
                    <a:pt x="24" y="7"/>
                  </a:cubicBezTo>
                  <a:cubicBezTo>
                    <a:pt x="25" y="7"/>
                    <a:pt x="31" y="18"/>
                    <a:pt x="32" y="18"/>
                  </a:cubicBezTo>
                  <a:cubicBezTo>
                    <a:pt x="33" y="18"/>
                    <a:pt x="30" y="5"/>
                    <a:pt x="31" y="5"/>
                  </a:cubicBezTo>
                  <a:cubicBezTo>
                    <a:pt x="32" y="4"/>
                    <a:pt x="37" y="16"/>
                    <a:pt x="38" y="16"/>
                  </a:cubicBezTo>
                  <a:cubicBezTo>
                    <a:pt x="39" y="16"/>
                    <a:pt x="37" y="3"/>
                    <a:pt x="38" y="3"/>
                  </a:cubicBezTo>
                  <a:cubicBezTo>
                    <a:pt x="39" y="2"/>
                    <a:pt x="43" y="15"/>
                    <a:pt x="44" y="15"/>
                  </a:cubicBezTo>
                  <a:cubicBezTo>
                    <a:pt x="45" y="14"/>
                    <a:pt x="44" y="1"/>
                    <a:pt x="45" y="1"/>
                  </a:cubicBezTo>
                  <a:cubicBezTo>
                    <a:pt x="46" y="1"/>
                    <a:pt x="49" y="14"/>
                    <a:pt x="50" y="14"/>
                  </a:cubicBezTo>
                  <a:cubicBezTo>
                    <a:pt x="51" y="13"/>
                    <a:pt x="51" y="1"/>
                    <a:pt x="52" y="0"/>
                  </a:cubicBezTo>
                  <a:cubicBezTo>
                    <a:pt x="53" y="0"/>
                    <a:pt x="55" y="13"/>
                    <a:pt x="56" y="13"/>
                  </a:cubicBezTo>
                  <a:cubicBezTo>
                    <a:pt x="57" y="13"/>
                    <a:pt x="58" y="0"/>
                    <a:pt x="59" y="0"/>
                  </a:cubicBezTo>
                  <a:cubicBezTo>
                    <a:pt x="60" y="0"/>
                    <a:pt x="61" y="13"/>
                    <a:pt x="63" y="13"/>
                  </a:cubicBezTo>
                  <a:cubicBezTo>
                    <a:pt x="64" y="13"/>
                    <a:pt x="65" y="0"/>
                    <a:pt x="66" y="0"/>
                  </a:cubicBezTo>
                  <a:cubicBezTo>
                    <a:pt x="68" y="0"/>
                    <a:pt x="68" y="13"/>
                    <a:pt x="69" y="13"/>
                  </a:cubicBezTo>
                  <a:cubicBezTo>
                    <a:pt x="70" y="13"/>
                    <a:pt x="72" y="1"/>
                    <a:pt x="73" y="1"/>
                  </a:cubicBezTo>
                  <a:cubicBezTo>
                    <a:pt x="74" y="1"/>
                    <a:pt x="75" y="14"/>
                    <a:pt x="76" y="14"/>
                  </a:cubicBezTo>
                  <a:cubicBezTo>
                    <a:pt x="77" y="14"/>
                    <a:pt x="79" y="1"/>
                    <a:pt x="80" y="1"/>
                  </a:cubicBezTo>
                  <a:cubicBezTo>
                    <a:pt x="81" y="1"/>
                    <a:pt x="81" y="14"/>
                    <a:pt x="82" y="15"/>
                  </a:cubicBezTo>
                  <a:cubicBezTo>
                    <a:pt x="83" y="15"/>
                    <a:pt x="86" y="2"/>
                    <a:pt x="87" y="2"/>
                  </a:cubicBezTo>
                  <a:cubicBezTo>
                    <a:pt x="89" y="3"/>
                    <a:pt x="87" y="15"/>
                    <a:pt x="88" y="16"/>
                  </a:cubicBezTo>
                  <a:cubicBezTo>
                    <a:pt x="89" y="16"/>
                    <a:pt x="94" y="4"/>
                    <a:pt x="95" y="4"/>
                  </a:cubicBezTo>
                  <a:cubicBezTo>
                    <a:pt x="96" y="4"/>
                    <a:pt x="93" y="17"/>
                    <a:pt x="94" y="17"/>
                  </a:cubicBezTo>
                  <a:cubicBezTo>
                    <a:pt x="95" y="18"/>
                    <a:pt x="101" y="6"/>
                    <a:pt x="102" y="6"/>
                  </a:cubicBezTo>
                  <a:cubicBezTo>
                    <a:pt x="103" y="7"/>
                    <a:pt x="98" y="19"/>
                    <a:pt x="99" y="19"/>
                  </a:cubicBezTo>
                  <a:cubicBezTo>
                    <a:pt x="100" y="20"/>
                    <a:pt x="108" y="9"/>
                    <a:pt x="109" y="10"/>
                  </a:cubicBezTo>
                  <a:cubicBezTo>
                    <a:pt x="110" y="11"/>
                    <a:pt x="103" y="22"/>
                    <a:pt x="104" y="22"/>
                  </a:cubicBezTo>
                  <a:cubicBezTo>
                    <a:pt x="105" y="23"/>
                    <a:pt x="114" y="14"/>
                    <a:pt x="115" y="15"/>
                  </a:cubicBezTo>
                  <a:cubicBezTo>
                    <a:pt x="116" y="16"/>
                    <a:pt x="108" y="26"/>
                    <a:pt x="108" y="26"/>
                  </a:cubicBezTo>
                  <a:cubicBezTo>
                    <a:pt x="109" y="27"/>
                    <a:pt x="119" y="19"/>
                    <a:pt x="120" y="20"/>
                  </a:cubicBezTo>
                  <a:cubicBezTo>
                    <a:pt x="121" y="21"/>
                    <a:pt x="112" y="30"/>
                    <a:pt x="113" y="31"/>
                  </a:cubicBezTo>
                  <a:cubicBezTo>
                    <a:pt x="113" y="32"/>
                    <a:pt x="124" y="24"/>
                    <a:pt x="125" y="25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68"/>
          <p:cNvSpPr/>
          <p:nvPr/>
        </p:nvSpPr>
        <p:spPr>
          <a:xfrm>
            <a:off x="250920" y="20048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9"/>
          <p:cNvSpPr/>
          <p:nvPr/>
        </p:nvSpPr>
        <p:spPr>
          <a:xfrm>
            <a:off x="6732720" y="20048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23400" y="47624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66760" y="515880"/>
            <a:ext cx="3979800" cy="4626000"/>
            <a:chOff x="266760" y="515880"/>
            <a:chExt cx="3979800" cy="4626000"/>
          </a:xfrm>
        </p:grpSpPr>
        <p:sp>
          <p:nvSpPr>
            <p:cNvPr id="419" name="Rectangle 1"/>
            <p:cNvSpPr/>
            <p:nvPr/>
          </p:nvSpPr>
          <p:spPr>
            <a:xfrm>
              <a:off x="2153880" y="641880"/>
              <a:ext cx="191880" cy="4500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66760" y="515880"/>
              <a:ext cx="3979800" cy="3978360"/>
              <a:chOff x="266760" y="515880"/>
              <a:chExt cx="3979800" cy="397836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267120" y="515880"/>
                <a:ext cx="3978720" cy="3978360"/>
                <a:chOff x="267120" y="515880"/>
                <a:chExt cx="3978720" cy="3978360"/>
              </a:xfrm>
            </p:grpSpPr>
            <p:sp>
              <p:nvSpPr>
                <p:cNvPr id="422" name="Freeform 26"/>
                <p:cNvSpPr/>
                <p:nvPr/>
              </p:nvSpPr>
              <p:spPr>
                <a:xfrm>
                  <a:off x="267120" y="515880"/>
                  <a:ext cx="3978720" cy="3978360"/>
                </a:xfrm>
                <a:custGeom>
                  <a:avLst/>
                  <a:gdLst>
                    <a:gd name="textAreaLeft" fmla="*/ 0 w 3978720"/>
                    <a:gd name="textAreaRight" fmla="*/ 3979080 w 3978720"/>
                    <a:gd name="textAreaTop" fmla="*/ 0 h 3978360"/>
                    <a:gd name="textAreaBottom" fmla="*/ 3978720 h 3978360"/>
                  </a:gdLst>
                  <a:ahLst/>
                  <a:rect l="textAreaLeft" t="textAreaTop" r="textAreaRight" b="textAreaBottom"/>
                  <a:pathLst>
                    <a:path w="3089" h="3089">
                      <a:moveTo>
                        <a:pt x="1545" y="0"/>
                      </a:moveTo>
                      <a:lnTo>
                        <a:pt x="1545" y="0"/>
                      </a:lnTo>
                      <a:lnTo>
                        <a:pt x="1554" y="1"/>
                      </a:lnTo>
                      <a:lnTo>
                        <a:pt x="1562" y="4"/>
                      </a:lnTo>
                      <a:lnTo>
                        <a:pt x="1570" y="8"/>
                      </a:lnTo>
                      <a:lnTo>
                        <a:pt x="1577" y="13"/>
                      </a:lnTo>
                      <a:lnTo>
                        <a:pt x="3076" y="1513"/>
                      </a:lnTo>
                      <a:lnTo>
                        <a:pt x="3076" y="1513"/>
                      </a:lnTo>
                      <a:lnTo>
                        <a:pt x="3082" y="1520"/>
                      </a:lnTo>
                      <a:lnTo>
                        <a:pt x="3086" y="1528"/>
                      </a:lnTo>
                      <a:lnTo>
                        <a:pt x="3089" y="1536"/>
                      </a:lnTo>
                      <a:lnTo>
                        <a:pt x="3089" y="1545"/>
                      </a:lnTo>
                      <a:lnTo>
                        <a:pt x="3089" y="1553"/>
                      </a:lnTo>
                      <a:lnTo>
                        <a:pt x="3086" y="1562"/>
                      </a:lnTo>
                      <a:lnTo>
                        <a:pt x="3082" y="1570"/>
                      </a:lnTo>
                      <a:lnTo>
                        <a:pt x="3076" y="1577"/>
                      </a:lnTo>
                      <a:lnTo>
                        <a:pt x="1577" y="3076"/>
                      </a:lnTo>
                      <a:lnTo>
                        <a:pt x="1577" y="3076"/>
                      </a:lnTo>
                      <a:lnTo>
                        <a:pt x="1570" y="3082"/>
                      </a:lnTo>
                      <a:lnTo>
                        <a:pt x="1562" y="3086"/>
                      </a:lnTo>
                      <a:lnTo>
                        <a:pt x="1554" y="3089"/>
                      </a:lnTo>
                      <a:lnTo>
                        <a:pt x="1545" y="3089"/>
                      </a:lnTo>
                      <a:lnTo>
                        <a:pt x="1545" y="3089"/>
                      </a:lnTo>
                      <a:lnTo>
                        <a:pt x="1536" y="3089"/>
                      </a:lnTo>
                      <a:lnTo>
                        <a:pt x="1528" y="3086"/>
                      </a:lnTo>
                      <a:lnTo>
                        <a:pt x="1520" y="3082"/>
                      </a:lnTo>
                      <a:lnTo>
                        <a:pt x="1513" y="3076"/>
                      </a:lnTo>
                      <a:lnTo>
                        <a:pt x="13" y="1577"/>
                      </a:lnTo>
                      <a:lnTo>
                        <a:pt x="13" y="1577"/>
                      </a:lnTo>
                      <a:lnTo>
                        <a:pt x="8" y="1570"/>
                      </a:lnTo>
                      <a:lnTo>
                        <a:pt x="4" y="1562"/>
                      </a:lnTo>
                      <a:lnTo>
                        <a:pt x="1" y="1554"/>
                      </a:lnTo>
                      <a:lnTo>
                        <a:pt x="0" y="1545"/>
                      </a:lnTo>
                      <a:lnTo>
                        <a:pt x="0" y="1545"/>
                      </a:lnTo>
                      <a:lnTo>
                        <a:pt x="1" y="1536"/>
                      </a:lnTo>
                      <a:lnTo>
                        <a:pt x="4" y="1528"/>
                      </a:lnTo>
                      <a:lnTo>
                        <a:pt x="8" y="1520"/>
                      </a:lnTo>
                      <a:lnTo>
                        <a:pt x="13" y="1513"/>
                      </a:lnTo>
                      <a:lnTo>
                        <a:pt x="1513" y="13"/>
                      </a:lnTo>
                      <a:lnTo>
                        <a:pt x="1513" y="13"/>
                      </a:lnTo>
                      <a:lnTo>
                        <a:pt x="1520" y="8"/>
                      </a:lnTo>
                      <a:lnTo>
                        <a:pt x="1528" y="4"/>
                      </a:lnTo>
                      <a:lnTo>
                        <a:pt x="1536" y="1"/>
                      </a:lnTo>
                      <a:lnTo>
                        <a:pt x="1545" y="0"/>
                      </a:ln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cfe8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9840" y="583920"/>
                  <a:ext cx="3832920" cy="3832560"/>
                  <a:chOff x="339840" y="583920"/>
                  <a:chExt cx="3832920" cy="3832560"/>
                </a:xfrm>
              </p:grpSpPr>
              <p:sp>
                <p:nvSpPr>
                  <p:cNvPr id="424" name="Freeform 25"/>
                  <p:cNvSpPr/>
                  <p:nvPr/>
                </p:nvSpPr>
                <p:spPr>
                  <a:xfrm>
                    <a:off x="339840" y="583920"/>
                    <a:ext cx="3832920" cy="383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26"/>
                  <p:cNvSpPr/>
                  <p:nvPr/>
                </p:nvSpPr>
                <p:spPr>
                  <a:xfrm>
                    <a:off x="359280" y="603360"/>
                    <a:ext cx="3793320" cy="3792960"/>
                  </a:xfrm>
                  <a:custGeom>
                    <a:avLst/>
                    <a:gdLst>
                      <a:gd name="textAreaLeft" fmla="*/ 0 w 3793320"/>
                      <a:gd name="textAreaRight" fmla="*/ 3793680 w 3793320"/>
                      <a:gd name="textAreaTop" fmla="*/ 0 h 3792960"/>
                      <a:gd name="textAreaBottom" fmla="*/ 3793320 h 3792960"/>
                    </a:gdLst>
                    <a:ahLst/>
                    <a:rect l="textAreaLeft" t="textAreaTop" r="textAreaRight" b="textAreaBottom"/>
                    <a:pathLst>
                      <a:path w="3089" h="3089">
                        <a:moveTo>
                          <a:pt x="1545" y="0"/>
                        </a:moveTo>
                        <a:lnTo>
                          <a:pt x="1545" y="0"/>
                        </a:lnTo>
                        <a:lnTo>
                          <a:pt x="1554" y="1"/>
                        </a:lnTo>
                        <a:lnTo>
                          <a:pt x="1562" y="4"/>
                        </a:lnTo>
                        <a:lnTo>
                          <a:pt x="1570" y="8"/>
                        </a:lnTo>
                        <a:lnTo>
                          <a:pt x="1577" y="13"/>
                        </a:lnTo>
                        <a:lnTo>
                          <a:pt x="3076" y="1513"/>
                        </a:lnTo>
                        <a:lnTo>
                          <a:pt x="3076" y="1513"/>
                        </a:lnTo>
                        <a:lnTo>
                          <a:pt x="3082" y="1520"/>
                        </a:lnTo>
                        <a:lnTo>
                          <a:pt x="3086" y="1528"/>
                        </a:lnTo>
                        <a:lnTo>
                          <a:pt x="3089" y="1536"/>
                        </a:lnTo>
                        <a:lnTo>
                          <a:pt x="3089" y="1545"/>
                        </a:lnTo>
                        <a:lnTo>
                          <a:pt x="3089" y="1553"/>
                        </a:lnTo>
                        <a:lnTo>
                          <a:pt x="3086" y="1562"/>
                        </a:lnTo>
                        <a:lnTo>
                          <a:pt x="3082" y="1570"/>
                        </a:lnTo>
                        <a:lnTo>
                          <a:pt x="3076" y="1577"/>
                        </a:lnTo>
                        <a:lnTo>
                          <a:pt x="1577" y="3076"/>
                        </a:lnTo>
                        <a:lnTo>
                          <a:pt x="1577" y="3076"/>
                        </a:lnTo>
                        <a:lnTo>
                          <a:pt x="1570" y="3082"/>
                        </a:lnTo>
                        <a:lnTo>
                          <a:pt x="1562" y="3086"/>
                        </a:lnTo>
                        <a:lnTo>
                          <a:pt x="1554" y="3089"/>
                        </a:lnTo>
                        <a:lnTo>
                          <a:pt x="1545" y="3089"/>
                        </a:lnTo>
                        <a:lnTo>
                          <a:pt x="1545" y="3089"/>
                        </a:lnTo>
                        <a:lnTo>
                          <a:pt x="1536" y="3089"/>
                        </a:lnTo>
                        <a:lnTo>
                          <a:pt x="1528" y="3086"/>
                        </a:lnTo>
                        <a:lnTo>
                          <a:pt x="1520" y="3082"/>
                        </a:lnTo>
                        <a:lnTo>
                          <a:pt x="1513" y="3076"/>
                        </a:lnTo>
                        <a:lnTo>
                          <a:pt x="13" y="1577"/>
                        </a:lnTo>
                        <a:lnTo>
                          <a:pt x="13" y="1577"/>
                        </a:lnTo>
                        <a:lnTo>
                          <a:pt x="8" y="1570"/>
                        </a:lnTo>
                        <a:lnTo>
                          <a:pt x="4" y="1562"/>
                        </a:lnTo>
                        <a:lnTo>
                          <a:pt x="1" y="1554"/>
                        </a:lnTo>
                        <a:lnTo>
                          <a:pt x="0" y="1545"/>
                        </a:lnTo>
                        <a:lnTo>
                          <a:pt x="0" y="1545"/>
                        </a:lnTo>
                        <a:lnTo>
                          <a:pt x="1" y="1536"/>
                        </a:lnTo>
                        <a:lnTo>
                          <a:pt x="4" y="1528"/>
                        </a:lnTo>
                        <a:lnTo>
                          <a:pt x="8" y="1520"/>
                        </a:lnTo>
                        <a:lnTo>
                          <a:pt x="13" y="1513"/>
                        </a:lnTo>
                        <a:lnTo>
                          <a:pt x="1513" y="13"/>
                        </a:lnTo>
                        <a:lnTo>
                          <a:pt x="1513" y="13"/>
                        </a:lnTo>
                        <a:lnTo>
                          <a:pt x="1520" y="8"/>
                        </a:lnTo>
                        <a:lnTo>
                          <a:pt x="1528" y="4"/>
                        </a:lnTo>
                        <a:lnTo>
                          <a:pt x="1536" y="1"/>
                        </a:lnTo>
                        <a:lnTo>
                          <a:pt x="1545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27"/>
                  <p:cNvSpPr/>
                  <p:nvPr/>
                </p:nvSpPr>
                <p:spPr>
                  <a:xfrm>
                    <a:off x="339840" y="583920"/>
                    <a:ext cx="3832920" cy="3832560"/>
                  </a:xfrm>
                  <a:custGeom>
                    <a:avLst/>
                    <a:gdLst>
                      <a:gd name="textAreaLeft" fmla="*/ 0 w 3832920"/>
                      <a:gd name="textAreaRight" fmla="*/ 3833280 w 3832920"/>
                      <a:gd name="textAreaTop" fmla="*/ 0 h 3832560"/>
                      <a:gd name="textAreaBottom" fmla="*/ 3832920 h 3832560"/>
                    </a:gdLst>
                    <a:ahLst/>
                    <a:rect l="textAreaLeft" t="textAreaTop" r="textAreaRight" b="textAreaBottom"/>
                    <a:pathLst>
                      <a:path w="3121" h="3121">
                        <a:moveTo>
                          <a:pt x="1561" y="0"/>
                        </a:moveTo>
                        <a:lnTo>
                          <a:pt x="1561" y="0"/>
                        </a:lnTo>
                        <a:lnTo>
                          <a:pt x="1549" y="1"/>
                        </a:lnTo>
                        <a:lnTo>
                          <a:pt x="1537" y="5"/>
                        </a:lnTo>
                        <a:lnTo>
                          <a:pt x="1526" y="10"/>
                        </a:lnTo>
                        <a:lnTo>
                          <a:pt x="1517" y="18"/>
                        </a:lnTo>
                        <a:lnTo>
                          <a:pt x="18" y="1517"/>
                        </a:lnTo>
                        <a:lnTo>
                          <a:pt x="18" y="1517"/>
                        </a:lnTo>
                        <a:lnTo>
                          <a:pt x="10" y="1526"/>
                        </a:lnTo>
                        <a:lnTo>
                          <a:pt x="5" y="1537"/>
                        </a:lnTo>
                        <a:lnTo>
                          <a:pt x="1" y="1549"/>
                        </a:lnTo>
                        <a:lnTo>
                          <a:pt x="0" y="1561"/>
                        </a:lnTo>
                        <a:lnTo>
                          <a:pt x="1" y="1573"/>
                        </a:lnTo>
                        <a:lnTo>
                          <a:pt x="5" y="1584"/>
                        </a:lnTo>
                        <a:lnTo>
                          <a:pt x="10" y="1594"/>
                        </a:lnTo>
                        <a:lnTo>
                          <a:pt x="18" y="1605"/>
                        </a:lnTo>
                        <a:lnTo>
                          <a:pt x="1517" y="3104"/>
                        </a:lnTo>
                        <a:lnTo>
                          <a:pt x="1517" y="3104"/>
                        </a:lnTo>
                        <a:lnTo>
                          <a:pt x="1526" y="3112"/>
                        </a:lnTo>
                        <a:lnTo>
                          <a:pt x="1537" y="3117"/>
                        </a:lnTo>
                        <a:lnTo>
                          <a:pt x="1549" y="3121"/>
                        </a:lnTo>
                        <a:lnTo>
                          <a:pt x="1561" y="3121"/>
                        </a:lnTo>
                        <a:lnTo>
                          <a:pt x="1561" y="3121"/>
                        </a:lnTo>
                        <a:lnTo>
                          <a:pt x="1573" y="3121"/>
                        </a:lnTo>
                        <a:lnTo>
                          <a:pt x="1584" y="3117"/>
                        </a:lnTo>
                        <a:lnTo>
                          <a:pt x="1594" y="3112"/>
                        </a:lnTo>
                        <a:lnTo>
                          <a:pt x="1605" y="3104"/>
                        </a:lnTo>
                        <a:lnTo>
                          <a:pt x="3104" y="1605"/>
                        </a:lnTo>
                        <a:lnTo>
                          <a:pt x="3104" y="1605"/>
                        </a:lnTo>
                        <a:lnTo>
                          <a:pt x="3112" y="1594"/>
                        </a:lnTo>
                        <a:lnTo>
                          <a:pt x="3117" y="1584"/>
                        </a:lnTo>
                        <a:lnTo>
                          <a:pt x="3121" y="1573"/>
                        </a:lnTo>
                        <a:lnTo>
                          <a:pt x="3121" y="1561"/>
                        </a:lnTo>
                        <a:lnTo>
                          <a:pt x="3121" y="1549"/>
                        </a:lnTo>
                        <a:lnTo>
                          <a:pt x="3117" y="1537"/>
                        </a:lnTo>
                        <a:lnTo>
                          <a:pt x="3112" y="1526"/>
                        </a:lnTo>
                        <a:lnTo>
                          <a:pt x="3104" y="1517"/>
                        </a:lnTo>
                        <a:lnTo>
                          <a:pt x="1605" y="18"/>
                        </a:lnTo>
                        <a:lnTo>
                          <a:pt x="1605" y="18"/>
                        </a:lnTo>
                        <a:lnTo>
                          <a:pt x="1594" y="10"/>
                        </a:lnTo>
                        <a:lnTo>
                          <a:pt x="1584" y="5"/>
                        </a:lnTo>
                        <a:lnTo>
                          <a:pt x="1573" y="1"/>
                        </a:lnTo>
                        <a:lnTo>
                          <a:pt x="1561" y="0"/>
                        </a:lnTo>
                        <a:lnTo>
                          <a:pt x="1561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212200" y="4261680"/>
                  <a:ext cx="88560" cy="88560"/>
                  <a:chOff x="2212200" y="4261680"/>
                  <a:chExt cx="88560" cy="88560"/>
                </a:xfrm>
              </p:grpSpPr>
              <p:sp>
                <p:nvSpPr>
                  <p:cNvPr id="428" name="Oval 19"/>
                  <p:cNvSpPr/>
                  <p:nvPr/>
                </p:nvSpPr>
                <p:spPr>
                  <a:xfrm>
                    <a:off x="2212200" y="4261680"/>
                    <a:ext cx="8856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Straight Connector 20"/>
                  <p:cNvSpPr/>
                  <p:nvPr/>
                </p:nvSpPr>
                <p:spPr>
                  <a:xfrm>
                    <a:off x="2225160" y="4274640"/>
                    <a:ext cx="62640" cy="62640"/>
                  </a:xfrm>
                  <a:prstGeom prst="line">
                    <a:avLst/>
                  </a:prstGeom>
                  <a:ln w="9360">
                    <a:solidFill>
                      <a:srgbClr val="a4d3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212200" y="641880"/>
                  <a:ext cx="88560" cy="88560"/>
                  <a:chOff x="2212200" y="641880"/>
                  <a:chExt cx="88560" cy="88560"/>
                </a:xfrm>
              </p:grpSpPr>
              <p:sp>
                <p:nvSpPr>
                  <p:cNvPr id="431" name="Oval 17"/>
                  <p:cNvSpPr/>
                  <p:nvPr/>
                </p:nvSpPr>
                <p:spPr>
                  <a:xfrm flipH="1">
                    <a:off x="2212200" y="641880"/>
                    <a:ext cx="8856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Straight Connector 18"/>
                  <p:cNvSpPr/>
                  <p:nvPr/>
                </p:nvSpPr>
                <p:spPr>
                  <a:xfrm flipH="1">
                    <a:off x="2225160" y="654840"/>
                    <a:ext cx="62640" cy="62640"/>
                  </a:xfrm>
                  <a:prstGeom prst="line">
                    <a:avLst/>
                  </a:prstGeom>
                  <a:ln w="9360">
                    <a:solidFill>
                      <a:srgbClr val="a4d3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266760" y="2109240"/>
                <a:ext cx="3979800" cy="2384640"/>
                <a:chOff x="266760" y="2109240"/>
                <a:chExt cx="3979800" cy="2384640"/>
              </a:xfrm>
            </p:grpSpPr>
            <p:sp>
              <p:nvSpPr>
                <p:cNvPr id="434" name="Freeform 37"/>
                <p:cNvSpPr/>
                <p:nvPr/>
              </p:nvSpPr>
              <p:spPr>
                <a:xfrm>
                  <a:off x="266760" y="2109240"/>
                  <a:ext cx="3979800" cy="2384640"/>
                </a:xfrm>
                <a:custGeom>
                  <a:avLst/>
                  <a:gdLst>
                    <a:gd name="textAreaLeft" fmla="*/ 0 w 3979800"/>
                    <a:gd name="textAreaRight" fmla="*/ 3980160 w 3979800"/>
                    <a:gd name="textAreaTop" fmla="*/ 0 h 2384640"/>
                    <a:gd name="textAreaBottom" fmla="*/ 2385000 h 2384640"/>
                  </a:gdLst>
                  <a:ahLst/>
                  <a:rect l="textAreaLeft" t="textAreaTop" r="textAreaRight" b="textAreaBottom"/>
                  <a:pathLst>
                    <a:path w="2872" h="1721">
                      <a:moveTo>
                        <a:pt x="661" y="0"/>
                      </a:moveTo>
                      <a:lnTo>
                        <a:pt x="661" y="0"/>
                      </a:lnTo>
                      <a:lnTo>
                        <a:pt x="614" y="1"/>
                      </a:lnTo>
                      <a:lnTo>
                        <a:pt x="566" y="5"/>
                      </a:lnTo>
                      <a:lnTo>
                        <a:pt x="517" y="12"/>
                      </a:lnTo>
                      <a:lnTo>
                        <a:pt x="468" y="19"/>
                      </a:lnTo>
                      <a:lnTo>
                        <a:pt x="417" y="30"/>
                      </a:lnTo>
                      <a:lnTo>
                        <a:pt x="366" y="42"/>
                      </a:lnTo>
                      <a:lnTo>
                        <a:pt x="315" y="56"/>
                      </a:lnTo>
                      <a:lnTo>
                        <a:pt x="265" y="71"/>
                      </a:lnTo>
                      <a:lnTo>
                        <a:pt x="264" y="71"/>
                      </a:lnTo>
                      <a:lnTo>
                        <a:pt x="264" y="71"/>
                      </a:lnTo>
                      <a:lnTo>
                        <a:pt x="233" y="82"/>
                      </a:lnTo>
                      <a:lnTo>
                        <a:pt x="233" y="82"/>
                      </a:lnTo>
                      <a:lnTo>
                        <a:pt x="193" y="96"/>
                      </a:lnTo>
                      <a:lnTo>
                        <a:pt x="193" y="96"/>
                      </a:lnTo>
                      <a:lnTo>
                        <a:pt x="148" y="114"/>
                      </a:lnTo>
                      <a:lnTo>
                        <a:pt x="17" y="245"/>
                      </a:lnTo>
                      <a:lnTo>
                        <a:pt x="17" y="245"/>
                      </a:lnTo>
                      <a:lnTo>
                        <a:pt x="12" y="251"/>
                      </a:lnTo>
                      <a:lnTo>
                        <a:pt x="7" y="258"/>
                      </a:lnTo>
                      <a:lnTo>
                        <a:pt x="4" y="265"/>
                      </a:lnTo>
                      <a:lnTo>
                        <a:pt x="1" y="272"/>
                      </a:lnTo>
                      <a:lnTo>
                        <a:pt x="1" y="272"/>
                      </a:lnTo>
                      <a:lnTo>
                        <a:pt x="0" y="279"/>
                      </a:lnTo>
                      <a:lnTo>
                        <a:pt x="0" y="287"/>
                      </a:lnTo>
                      <a:lnTo>
                        <a:pt x="1" y="294"/>
                      </a:lnTo>
                      <a:lnTo>
                        <a:pt x="2" y="301"/>
                      </a:lnTo>
                      <a:lnTo>
                        <a:pt x="2" y="301"/>
                      </a:lnTo>
                      <a:lnTo>
                        <a:pt x="5" y="307"/>
                      </a:lnTo>
                      <a:lnTo>
                        <a:pt x="7" y="314"/>
                      </a:lnTo>
                      <a:lnTo>
                        <a:pt x="7" y="314"/>
                      </a:lnTo>
                      <a:lnTo>
                        <a:pt x="12" y="320"/>
                      </a:lnTo>
                      <a:lnTo>
                        <a:pt x="17" y="326"/>
                      </a:lnTo>
                      <a:lnTo>
                        <a:pt x="691" y="1000"/>
                      </a:lnTo>
                      <a:lnTo>
                        <a:pt x="771" y="1080"/>
                      </a:lnTo>
                      <a:lnTo>
                        <a:pt x="864" y="1172"/>
                      </a:lnTo>
                      <a:lnTo>
                        <a:pt x="1396" y="1704"/>
                      </a:lnTo>
                      <a:lnTo>
                        <a:pt x="1396" y="1704"/>
                      </a:lnTo>
                      <a:lnTo>
                        <a:pt x="1404" y="1712"/>
                      </a:lnTo>
                      <a:lnTo>
                        <a:pt x="1415" y="1716"/>
                      </a:lnTo>
                      <a:lnTo>
                        <a:pt x="1425" y="1720"/>
                      </a:lnTo>
                      <a:lnTo>
                        <a:pt x="1436" y="1721"/>
                      </a:lnTo>
                      <a:lnTo>
                        <a:pt x="1436" y="1721"/>
                      </a:lnTo>
                      <a:lnTo>
                        <a:pt x="1447" y="1720"/>
                      </a:lnTo>
                      <a:lnTo>
                        <a:pt x="1457" y="1716"/>
                      </a:lnTo>
                      <a:lnTo>
                        <a:pt x="1467" y="1712"/>
                      </a:lnTo>
                      <a:lnTo>
                        <a:pt x="1476" y="1704"/>
                      </a:lnTo>
                      <a:lnTo>
                        <a:pt x="2776" y="404"/>
                      </a:lnTo>
                      <a:lnTo>
                        <a:pt x="2855" y="326"/>
                      </a:lnTo>
                      <a:lnTo>
                        <a:pt x="2855" y="326"/>
                      </a:lnTo>
                      <a:lnTo>
                        <a:pt x="2863" y="316"/>
                      </a:lnTo>
                      <a:lnTo>
                        <a:pt x="2867" y="307"/>
                      </a:lnTo>
                      <a:lnTo>
                        <a:pt x="2871" y="296"/>
                      </a:lnTo>
                      <a:lnTo>
                        <a:pt x="2872" y="285"/>
                      </a:lnTo>
                      <a:lnTo>
                        <a:pt x="2871" y="275"/>
                      </a:lnTo>
                      <a:lnTo>
                        <a:pt x="2867" y="264"/>
                      </a:lnTo>
                      <a:lnTo>
                        <a:pt x="2863" y="253"/>
                      </a:lnTo>
                      <a:lnTo>
                        <a:pt x="2855" y="245"/>
                      </a:lnTo>
                      <a:lnTo>
                        <a:pt x="2852" y="242"/>
                      </a:lnTo>
                      <a:lnTo>
                        <a:pt x="2685" y="76"/>
                      </a:lnTo>
                      <a:lnTo>
                        <a:pt x="2680" y="71"/>
                      </a:lnTo>
                      <a:lnTo>
                        <a:pt x="2680" y="71"/>
                      </a:lnTo>
                      <a:lnTo>
                        <a:pt x="2662" y="81"/>
                      </a:lnTo>
                      <a:lnTo>
                        <a:pt x="2662" y="81"/>
                      </a:lnTo>
                      <a:lnTo>
                        <a:pt x="2646" y="89"/>
                      </a:lnTo>
                      <a:lnTo>
                        <a:pt x="2646" y="89"/>
                      </a:lnTo>
                      <a:lnTo>
                        <a:pt x="2633" y="96"/>
                      </a:lnTo>
                      <a:lnTo>
                        <a:pt x="2632" y="96"/>
                      </a:lnTo>
                      <a:lnTo>
                        <a:pt x="2632" y="96"/>
                      </a:lnTo>
                      <a:lnTo>
                        <a:pt x="2561" y="134"/>
                      </a:lnTo>
                      <a:lnTo>
                        <a:pt x="2526" y="154"/>
                      </a:lnTo>
                      <a:lnTo>
                        <a:pt x="2494" y="173"/>
                      </a:lnTo>
                      <a:lnTo>
                        <a:pt x="2494" y="173"/>
                      </a:lnTo>
                      <a:lnTo>
                        <a:pt x="2443" y="203"/>
                      </a:lnTo>
                      <a:lnTo>
                        <a:pt x="2393" y="231"/>
                      </a:lnTo>
                      <a:lnTo>
                        <a:pt x="2343" y="257"/>
                      </a:lnTo>
                      <a:lnTo>
                        <a:pt x="2295" y="279"/>
                      </a:lnTo>
                      <a:lnTo>
                        <a:pt x="2248" y="301"/>
                      </a:lnTo>
                      <a:lnTo>
                        <a:pt x="2202" y="320"/>
                      </a:lnTo>
                      <a:lnTo>
                        <a:pt x="2157" y="337"/>
                      </a:lnTo>
                      <a:lnTo>
                        <a:pt x="2112" y="352"/>
                      </a:lnTo>
                      <a:lnTo>
                        <a:pt x="2069" y="365"/>
                      </a:lnTo>
                      <a:lnTo>
                        <a:pt x="2027" y="377"/>
                      </a:lnTo>
                      <a:lnTo>
                        <a:pt x="1985" y="386"/>
                      </a:lnTo>
                      <a:lnTo>
                        <a:pt x="1945" y="393"/>
                      </a:lnTo>
                      <a:lnTo>
                        <a:pt x="1905" y="399"/>
                      </a:lnTo>
                      <a:lnTo>
                        <a:pt x="1866" y="403"/>
                      </a:lnTo>
                      <a:lnTo>
                        <a:pt x="1827" y="405"/>
                      </a:lnTo>
                      <a:lnTo>
                        <a:pt x="1789" y="406"/>
                      </a:lnTo>
                      <a:lnTo>
                        <a:pt x="1789" y="406"/>
                      </a:lnTo>
                      <a:lnTo>
                        <a:pt x="1758" y="405"/>
                      </a:lnTo>
                      <a:lnTo>
                        <a:pt x="1728" y="404"/>
                      </a:lnTo>
                      <a:lnTo>
                        <a:pt x="1699" y="401"/>
                      </a:lnTo>
                      <a:lnTo>
                        <a:pt x="1670" y="398"/>
                      </a:lnTo>
                      <a:lnTo>
                        <a:pt x="1641" y="394"/>
                      </a:lnTo>
                      <a:lnTo>
                        <a:pt x="1612" y="388"/>
                      </a:lnTo>
                      <a:lnTo>
                        <a:pt x="1584" y="384"/>
                      </a:lnTo>
                      <a:lnTo>
                        <a:pt x="1557" y="377"/>
                      </a:lnTo>
                      <a:lnTo>
                        <a:pt x="1528" y="369"/>
                      </a:lnTo>
                      <a:lnTo>
                        <a:pt x="1501" y="361"/>
                      </a:lnTo>
                      <a:lnTo>
                        <a:pt x="1447" y="342"/>
                      </a:lnTo>
                      <a:lnTo>
                        <a:pt x="1392" y="322"/>
                      </a:lnTo>
                      <a:lnTo>
                        <a:pt x="1339" y="298"/>
                      </a:lnTo>
                      <a:lnTo>
                        <a:pt x="1286" y="272"/>
                      </a:lnTo>
                      <a:lnTo>
                        <a:pt x="1232" y="245"/>
                      </a:lnTo>
                      <a:lnTo>
                        <a:pt x="1179" y="217"/>
                      </a:lnTo>
                      <a:lnTo>
                        <a:pt x="1125" y="186"/>
                      </a:lnTo>
                      <a:lnTo>
                        <a:pt x="1017" y="122"/>
                      </a:lnTo>
                      <a:lnTo>
                        <a:pt x="906" y="55"/>
                      </a:lnTo>
                      <a:lnTo>
                        <a:pt x="906" y="55"/>
                      </a:lnTo>
                      <a:lnTo>
                        <a:pt x="880" y="42"/>
                      </a:lnTo>
                      <a:lnTo>
                        <a:pt x="854" y="31"/>
                      </a:lnTo>
                      <a:lnTo>
                        <a:pt x="825" y="21"/>
                      </a:lnTo>
                      <a:lnTo>
                        <a:pt x="794" y="13"/>
                      </a:lnTo>
                      <a:lnTo>
                        <a:pt x="764" y="7"/>
                      </a:lnTo>
                      <a:lnTo>
                        <a:pt x="730" y="4"/>
                      </a:lnTo>
                      <a:lnTo>
                        <a:pt x="696" y="1"/>
                      </a:lnTo>
                      <a:lnTo>
                        <a:pt x="661" y="0"/>
                      </a:lnTo>
                      <a:close/>
                    </a:path>
                  </a:pathLst>
                </a:cu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8"/>
                <p:cNvSpPr/>
                <p:nvPr/>
              </p:nvSpPr>
              <p:spPr>
                <a:xfrm>
                  <a:off x="266760" y="2109240"/>
                  <a:ext cx="3979800" cy="2384640"/>
                </a:xfrm>
                <a:custGeom>
                  <a:avLst/>
                  <a:gdLst>
                    <a:gd name="textAreaLeft" fmla="*/ 0 w 3979800"/>
                    <a:gd name="textAreaRight" fmla="*/ 3980160 w 3979800"/>
                    <a:gd name="textAreaTop" fmla="*/ 0 h 2384640"/>
                    <a:gd name="textAreaBottom" fmla="*/ 2385000 h 2384640"/>
                  </a:gdLst>
                  <a:ahLst/>
                  <a:rect l="textAreaLeft" t="textAreaTop" r="textAreaRight" b="textAreaBottom"/>
                  <a:pathLst>
                    <a:path w="2872" h="1721">
                      <a:moveTo>
                        <a:pt x="661" y="0"/>
                      </a:moveTo>
                      <a:lnTo>
                        <a:pt x="661" y="0"/>
                      </a:lnTo>
                      <a:lnTo>
                        <a:pt x="614" y="1"/>
                      </a:lnTo>
                      <a:lnTo>
                        <a:pt x="566" y="5"/>
                      </a:lnTo>
                      <a:lnTo>
                        <a:pt x="517" y="12"/>
                      </a:lnTo>
                      <a:lnTo>
                        <a:pt x="468" y="19"/>
                      </a:lnTo>
                      <a:lnTo>
                        <a:pt x="417" y="30"/>
                      </a:lnTo>
                      <a:lnTo>
                        <a:pt x="366" y="42"/>
                      </a:lnTo>
                      <a:lnTo>
                        <a:pt x="315" y="56"/>
                      </a:lnTo>
                      <a:lnTo>
                        <a:pt x="265" y="71"/>
                      </a:lnTo>
                      <a:lnTo>
                        <a:pt x="264" y="71"/>
                      </a:lnTo>
                      <a:lnTo>
                        <a:pt x="264" y="71"/>
                      </a:lnTo>
                      <a:lnTo>
                        <a:pt x="233" y="82"/>
                      </a:lnTo>
                      <a:lnTo>
                        <a:pt x="233" y="82"/>
                      </a:lnTo>
                      <a:lnTo>
                        <a:pt x="193" y="96"/>
                      </a:lnTo>
                      <a:lnTo>
                        <a:pt x="193" y="96"/>
                      </a:lnTo>
                      <a:lnTo>
                        <a:pt x="148" y="114"/>
                      </a:lnTo>
                      <a:lnTo>
                        <a:pt x="17" y="245"/>
                      </a:lnTo>
                      <a:lnTo>
                        <a:pt x="17" y="245"/>
                      </a:lnTo>
                      <a:lnTo>
                        <a:pt x="12" y="251"/>
                      </a:lnTo>
                      <a:lnTo>
                        <a:pt x="7" y="258"/>
                      </a:lnTo>
                      <a:lnTo>
                        <a:pt x="4" y="265"/>
                      </a:lnTo>
                      <a:lnTo>
                        <a:pt x="1" y="272"/>
                      </a:lnTo>
                      <a:lnTo>
                        <a:pt x="1" y="272"/>
                      </a:lnTo>
                      <a:lnTo>
                        <a:pt x="0" y="279"/>
                      </a:lnTo>
                      <a:lnTo>
                        <a:pt x="0" y="287"/>
                      </a:lnTo>
                      <a:lnTo>
                        <a:pt x="1" y="294"/>
                      </a:lnTo>
                      <a:lnTo>
                        <a:pt x="2" y="301"/>
                      </a:lnTo>
                      <a:lnTo>
                        <a:pt x="2" y="301"/>
                      </a:lnTo>
                      <a:lnTo>
                        <a:pt x="5" y="307"/>
                      </a:lnTo>
                      <a:lnTo>
                        <a:pt x="7" y="314"/>
                      </a:lnTo>
                      <a:lnTo>
                        <a:pt x="7" y="314"/>
                      </a:lnTo>
                      <a:lnTo>
                        <a:pt x="12" y="320"/>
                      </a:lnTo>
                      <a:lnTo>
                        <a:pt x="17" y="326"/>
                      </a:lnTo>
                      <a:lnTo>
                        <a:pt x="691" y="1000"/>
                      </a:lnTo>
                      <a:lnTo>
                        <a:pt x="771" y="1080"/>
                      </a:lnTo>
                      <a:lnTo>
                        <a:pt x="864" y="1172"/>
                      </a:lnTo>
                      <a:lnTo>
                        <a:pt x="1396" y="1704"/>
                      </a:lnTo>
                      <a:lnTo>
                        <a:pt x="1396" y="1704"/>
                      </a:lnTo>
                      <a:lnTo>
                        <a:pt x="1404" y="1712"/>
                      </a:lnTo>
                      <a:lnTo>
                        <a:pt x="1415" y="1716"/>
                      </a:lnTo>
                      <a:lnTo>
                        <a:pt x="1425" y="1720"/>
                      </a:lnTo>
                      <a:lnTo>
                        <a:pt x="1436" y="1721"/>
                      </a:lnTo>
                      <a:lnTo>
                        <a:pt x="1436" y="1721"/>
                      </a:lnTo>
                      <a:lnTo>
                        <a:pt x="1447" y="1720"/>
                      </a:lnTo>
                      <a:lnTo>
                        <a:pt x="1457" y="1716"/>
                      </a:lnTo>
                      <a:lnTo>
                        <a:pt x="1467" y="1712"/>
                      </a:lnTo>
                      <a:lnTo>
                        <a:pt x="1476" y="1704"/>
                      </a:lnTo>
                      <a:lnTo>
                        <a:pt x="2776" y="404"/>
                      </a:lnTo>
                      <a:lnTo>
                        <a:pt x="2855" y="326"/>
                      </a:lnTo>
                      <a:lnTo>
                        <a:pt x="2855" y="326"/>
                      </a:lnTo>
                      <a:lnTo>
                        <a:pt x="2863" y="316"/>
                      </a:lnTo>
                      <a:lnTo>
                        <a:pt x="2867" y="307"/>
                      </a:lnTo>
                      <a:lnTo>
                        <a:pt x="2871" y="296"/>
                      </a:lnTo>
                      <a:lnTo>
                        <a:pt x="2872" y="285"/>
                      </a:lnTo>
                      <a:lnTo>
                        <a:pt x="2871" y="275"/>
                      </a:lnTo>
                      <a:lnTo>
                        <a:pt x="2867" y="264"/>
                      </a:lnTo>
                      <a:lnTo>
                        <a:pt x="2863" y="253"/>
                      </a:lnTo>
                      <a:lnTo>
                        <a:pt x="2855" y="245"/>
                      </a:lnTo>
                      <a:lnTo>
                        <a:pt x="2852" y="242"/>
                      </a:lnTo>
                      <a:lnTo>
                        <a:pt x="2685" y="76"/>
                      </a:lnTo>
                      <a:lnTo>
                        <a:pt x="2680" y="71"/>
                      </a:lnTo>
                      <a:lnTo>
                        <a:pt x="2680" y="71"/>
                      </a:lnTo>
                      <a:lnTo>
                        <a:pt x="2662" y="81"/>
                      </a:lnTo>
                      <a:lnTo>
                        <a:pt x="2662" y="81"/>
                      </a:lnTo>
                      <a:lnTo>
                        <a:pt x="2646" y="89"/>
                      </a:lnTo>
                      <a:lnTo>
                        <a:pt x="2646" y="89"/>
                      </a:lnTo>
                      <a:lnTo>
                        <a:pt x="2633" y="96"/>
                      </a:lnTo>
                      <a:lnTo>
                        <a:pt x="2632" y="96"/>
                      </a:lnTo>
                      <a:lnTo>
                        <a:pt x="2632" y="96"/>
                      </a:lnTo>
                      <a:lnTo>
                        <a:pt x="2561" y="134"/>
                      </a:lnTo>
                      <a:lnTo>
                        <a:pt x="2526" y="154"/>
                      </a:lnTo>
                      <a:lnTo>
                        <a:pt x="2494" y="173"/>
                      </a:lnTo>
                      <a:lnTo>
                        <a:pt x="2494" y="173"/>
                      </a:lnTo>
                      <a:lnTo>
                        <a:pt x="2443" y="203"/>
                      </a:lnTo>
                      <a:lnTo>
                        <a:pt x="2393" y="231"/>
                      </a:lnTo>
                      <a:lnTo>
                        <a:pt x="2343" y="257"/>
                      </a:lnTo>
                      <a:lnTo>
                        <a:pt x="2295" y="279"/>
                      </a:lnTo>
                      <a:lnTo>
                        <a:pt x="2248" y="301"/>
                      </a:lnTo>
                      <a:lnTo>
                        <a:pt x="2202" y="320"/>
                      </a:lnTo>
                      <a:lnTo>
                        <a:pt x="2157" y="337"/>
                      </a:lnTo>
                      <a:lnTo>
                        <a:pt x="2112" y="352"/>
                      </a:lnTo>
                      <a:lnTo>
                        <a:pt x="2069" y="365"/>
                      </a:lnTo>
                      <a:lnTo>
                        <a:pt x="2027" y="377"/>
                      </a:lnTo>
                      <a:lnTo>
                        <a:pt x="1985" y="386"/>
                      </a:lnTo>
                      <a:lnTo>
                        <a:pt x="1945" y="393"/>
                      </a:lnTo>
                      <a:lnTo>
                        <a:pt x="1905" y="399"/>
                      </a:lnTo>
                      <a:lnTo>
                        <a:pt x="1866" y="403"/>
                      </a:lnTo>
                      <a:lnTo>
                        <a:pt x="1827" y="405"/>
                      </a:lnTo>
                      <a:lnTo>
                        <a:pt x="1789" y="406"/>
                      </a:lnTo>
                      <a:lnTo>
                        <a:pt x="1789" y="406"/>
                      </a:lnTo>
                      <a:lnTo>
                        <a:pt x="1758" y="405"/>
                      </a:lnTo>
                      <a:lnTo>
                        <a:pt x="1728" y="404"/>
                      </a:lnTo>
                      <a:lnTo>
                        <a:pt x="1699" y="401"/>
                      </a:lnTo>
                      <a:lnTo>
                        <a:pt x="1670" y="398"/>
                      </a:lnTo>
                      <a:lnTo>
                        <a:pt x="1641" y="394"/>
                      </a:lnTo>
                      <a:lnTo>
                        <a:pt x="1612" y="388"/>
                      </a:lnTo>
                      <a:lnTo>
                        <a:pt x="1584" y="384"/>
                      </a:lnTo>
                      <a:lnTo>
                        <a:pt x="1557" y="377"/>
                      </a:lnTo>
                      <a:lnTo>
                        <a:pt x="1528" y="369"/>
                      </a:lnTo>
                      <a:lnTo>
                        <a:pt x="1501" y="361"/>
                      </a:lnTo>
                      <a:lnTo>
                        <a:pt x="1447" y="342"/>
                      </a:lnTo>
                      <a:lnTo>
                        <a:pt x="1392" y="322"/>
                      </a:lnTo>
                      <a:lnTo>
                        <a:pt x="1339" y="298"/>
                      </a:lnTo>
                      <a:lnTo>
                        <a:pt x="1286" y="272"/>
                      </a:lnTo>
                      <a:lnTo>
                        <a:pt x="1232" y="245"/>
                      </a:lnTo>
                      <a:lnTo>
                        <a:pt x="1179" y="217"/>
                      </a:lnTo>
                      <a:lnTo>
                        <a:pt x="1125" y="186"/>
                      </a:lnTo>
                      <a:lnTo>
                        <a:pt x="1017" y="122"/>
                      </a:lnTo>
                      <a:lnTo>
                        <a:pt x="906" y="55"/>
                      </a:lnTo>
                      <a:lnTo>
                        <a:pt x="906" y="55"/>
                      </a:lnTo>
                      <a:lnTo>
                        <a:pt x="880" y="42"/>
                      </a:lnTo>
                      <a:lnTo>
                        <a:pt x="854" y="31"/>
                      </a:lnTo>
                      <a:lnTo>
                        <a:pt x="825" y="21"/>
                      </a:lnTo>
                      <a:lnTo>
                        <a:pt x="794" y="13"/>
                      </a:lnTo>
                      <a:lnTo>
                        <a:pt x="764" y="7"/>
                      </a:lnTo>
                      <a:lnTo>
                        <a:pt x="730" y="4"/>
                      </a:lnTo>
                      <a:lnTo>
                        <a:pt x="696" y="1"/>
                      </a:lnTo>
                      <a:lnTo>
                        <a:pt x="661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6" name="TextBox 4"/>
          <p:cNvSpPr/>
          <p:nvPr/>
        </p:nvSpPr>
        <p:spPr>
          <a:xfrm>
            <a:off x="230040" y="1812960"/>
            <a:ext cx="4052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  <a:ea typeface="Calibri"/>
              </a:rPr>
              <a:t>EXAM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30040" y="2457360"/>
            <a:ext cx="4052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500720" y="11318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9643"/>
                </a:solidFill>
                <a:latin typeface="Calibri"/>
                <a:ea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4500720" y="1774800"/>
            <a:ext cx="40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dolor sit amet, consectetur adipisicing elit, sed do eiusmod tempor incididunt ut labore et dolore magna aliq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616120" y="533520"/>
            <a:ext cx="3911760" cy="4011480"/>
            <a:chOff x="2616120" y="533520"/>
            <a:chExt cx="3911760" cy="4011480"/>
          </a:xfrm>
        </p:grpSpPr>
        <p:sp>
          <p:nvSpPr>
            <p:cNvPr id="441" name="Freeform 5"/>
            <p:cNvSpPr/>
            <p:nvPr/>
          </p:nvSpPr>
          <p:spPr>
            <a:xfrm>
              <a:off x="4614840" y="635040"/>
              <a:ext cx="1913040" cy="293544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2935440"/>
                <a:gd name="textAreaBottom" fmla="*/ 2935800 h 2935440"/>
              </a:gdLst>
              <a:ahLst/>
              <a:rect l="textAreaLeft" t="textAreaTop" r="textAreaRight" b="textAreaBottom"/>
              <a:pathLst>
                <a:path w="2411" h="3698">
                  <a:moveTo>
                    <a:pt x="2411" y="2462"/>
                  </a:moveTo>
                  <a:lnTo>
                    <a:pt x="2411" y="2462"/>
                  </a:lnTo>
                  <a:lnTo>
                    <a:pt x="2409" y="2400"/>
                  </a:lnTo>
                  <a:lnTo>
                    <a:pt x="2408" y="2337"/>
                  </a:lnTo>
                  <a:lnTo>
                    <a:pt x="2403" y="2275"/>
                  </a:lnTo>
                  <a:lnTo>
                    <a:pt x="2399" y="2214"/>
                  </a:lnTo>
                  <a:lnTo>
                    <a:pt x="2391" y="2153"/>
                  </a:lnTo>
                  <a:lnTo>
                    <a:pt x="2384" y="2092"/>
                  </a:lnTo>
                  <a:lnTo>
                    <a:pt x="2373" y="2032"/>
                  </a:lnTo>
                  <a:lnTo>
                    <a:pt x="2362" y="1973"/>
                  </a:lnTo>
                  <a:lnTo>
                    <a:pt x="2350" y="1913"/>
                  </a:lnTo>
                  <a:lnTo>
                    <a:pt x="2335" y="1855"/>
                  </a:lnTo>
                  <a:lnTo>
                    <a:pt x="2319" y="1797"/>
                  </a:lnTo>
                  <a:lnTo>
                    <a:pt x="2303" y="1739"/>
                  </a:lnTo>
                  <a:lnTo>
                    <a:pt x="2284" y="1683"/>
                  </a:lnTo>
                  <a:lnTo>
                    <a:pt x="2265" y="1626"/>
                  </a:lnTo>
                  <a:lnTo>
                    <a:pt x="2245" y="1570"/>
                  </a:lnTo>
                  <a:lnTo>
                    <a:pt x="2222" y="1515"/>
                  </a:lnTo>
                  <a:lnTo>
                    <a:pt x="2199" y="1462"/>
                  </a:lnTo>
                  <a:lnTo>
                    <a:pt x="2175" y="1407"/>
                  </a:lnTo>
                  <a:lnTo>
                    <a:pt x="2149" y="1355"/>
                  </a:lnTo>
                  <a:lnTo>
                    <a:pt x="2121" y="1301"/>
                  </a:lnTo>
                  <a:lnTo>
                    <a:pt x="2092" y="1251"/>
                  </a:lnTo>
                  <a:lnTo>
                    <a:pt x="2063" y="1199"/>
                  </a:lnTo>
                  <a:lnTo>
                    <a:pt x="2033" y="1150"/>
                  </a:lnTo>
                  <a:lnTo>
                    <a:pt x="2001" y="1100"/>
                  </a:lnTo>
                  <a:lnTo>
                    <a:pt x="1967" y="1053"/>
                  </a:lnTo>
                  <a:lnTo>
                    <a:pt x="1933" y="1005"/>
                  </a:lnTo>
                  <a:lnTo>
                    <a:pt x="1898" y="958"/>
                  </a:lnTo>
                  <a:lnTo>
                    <a:pt x="1862" y="912"/>
                  </a:lnTo>
                  <a:lnTo>
                    <a:pt x="1825" y="868"/>
                  </a:lnTo>
                  <a:lnTo>
                    <a:pt x="1787" y="824"/>
                  </a:lnTo>
                  <a:lnTo>
                    <a:pt x="1747" y="780"/>
                  </a:lnTo>
                  <a:lnTo>
                    <a:pt x="1706" y="738"/>
                  </a:lnTo>
                  <a:lnTo>
                    <a:pt x="1665" y="697"/>
                  </a:lnTo>
                  <a:lnTo>
                    <a:pt x="1622" y="656"/>
                  </a:lnTo>
                  <a:lnTo>
                    <a:pt x="1579" y="618"/>
                  </a:lnTo>
                  <a:lnTo>
                    <a:pt x="1535" y="580"/>
                  </a:lnTo>
                  <a:lnTo>
                    <a:pt x="1491" y="542"/>
                  </a:lnTo>
                  <a:lnTo>
                    <a:pt x="1445" y="507"/>
                  </a:lnTo>
                  <a:lnTo>
                    <a:pt x="1398" y="472"/>
                  </a:lnTo>
                  <a:lnTo>
                    <a:pt x="1351" y="438"/>
                  </a:lnTo>
                  <a:lnTo>
                    <a:pt x="1302" y="404"/>
                  </a:lnTo>
                  <a:lnTo>
                    <a:pt x="1253" y="372"/>
                  </a:lnTo>
                  <a:lnTo>
                    <a:pt x="1203" y="342"/>
                  </a:lnTo>
                  <a:lnTo>
                    <a:pt x="1151" y="313"/>
                  </a:lnTo>
                  <a:lnTo>
                    <a:pt x="1100" y="285"/>
                  </a:lnTo>
                  <a:lnTo>
                    <a:pt x="1047" y="258"/>
                  </a:lnTo>
                  <a:lnTo>
                    <a:pt x="994" y="232"/>
                  </a:lnTo>
                  <a:lnTo>
                    <a:pt x="940" y="208"/>
                  </a:lnTo>
                  <a:lnTo>
                    <a:pt x="887" y="185"/>
                  </a:lnTo>
                  <a:lnTo>
                    <a:pt x="830" y="162"/>
                  </a:lnTo>
                  <a:lnTo>
                    <a:pt x="775" y="142"/>
                  </a:lnTo>
                  <a:lnTo>
                    <a:pt x="719" y="122"/>
                  </a:lnTo>
                  <a:lnTo>
                    <a:pt x="663" y="104"/>
                  </a:lnTo>
                  <a:lnTo>
                    <a:pt x="605" y="87"/>
                  </a:lnTo>
                  <a:lnTo>
                    <a:pt x="547" y="72"/>
                  </a:lnTo>
                  <a:lnTo>
                    <a:pt x="487" y="58"/>
                  </a:lnTo>
                  <a:lnTo>
                    <a:pt x="428" y="46"/>
                  </a:lnTo>
                  <a:lnTo>
                    <a:pt x="368" y="35"/>
                  </a:lnTo>
                  <a:lnTo>
                    <a:pt x="309" y="26"/>
                  </a:lnTo>
                  <a:lnTo>
                    <a:pt x="248" y="17"/>
                  </a:lnTo>
                  <a:lnTo>
                    <a:pt x="187" y="11"/>
                  </a:lnTo>
                  <a:lnTo>
                    <a:pt x="124" y="5"/>
                  </a:lnTo>
                  <a:lnTo>
                    <a:pt x="63" y="2"/>
                  </a:lnTo>
                  <a:lnTo>
                    <a:pt x="0" y="0"/>
                  </a:lnTo>
                  <a:lnTo>
                    <a:pt x="167" y="295"/>
                  </a:lnTo>
                  <a:lnTo>
                    <a:pt x="13" y="558"/>
                  </a:lnTo>
                  <a:lnTo>
                    <a:pt x="13" y="558"/>
                  </a:lnTo>
                  <a:lnTo>
                    <a:pt x="60" y="560"/>
                  </a:lnTo>
                  <a:lnTo>
                    <a:pt x="107" y="563"/>
                  </a:lnTo>
                  <a:lnTo>
                    <a:pt x="154" y="568"/>
                  </a:lnTo>
                  <a:lnTo>
                    <a:pt x="202" y="574"/>
                  </a:lnTo>
                  <a:lnTo>
                    <a:pt x="248" y="580"/>
                  </a:lnTo>
                  <a:lnTo>
                    <a:pt x="293" y="587"/>
                  </a:lnTo>
                  <a:lnTo>
                    <a:pt x="339" y="597"/>
                  </a:lnTo>
                  <a:lnTo>
                    <a:pt x="385" y="607"/>
                  </a:lnTo>
                  <a:lnTo>
                    <a:pt x="429" y="618"/>
                  </a:lnTo>
                  <a:lnTo>
                    <a:pt x="475" y="630"/>
                  </a:lnTo>
                  <a:lnTo>
                    <a:pt x="518" y="644"/>
                  </a:lnTo>
                  <a:lnTo>
                    <a:pt x="562" y="658"/>
                  </a:lnTo>
                  <a:lnTo>
                    <a:pt x="605" y="673"/>
                  </a:lnTo>
                  <a:lnTo>
                    <a:pt x="647" y="690"/>
                  </a:lnTo>
                  <a:lnTo>
                    <a:pt x="690" y="706"/>
                  </a:lnTo>
                  <a:lnTo>
                    <a:pt x="731" y="725"/>
                  </a:lnTo>
                  <a:lnTo>
                    <a:pt x="772" y="745"/>
                  </a:lnTo>
                  <a:lnTo>
                    <a:pt x="814" y="764"/>
                  </a:lnTo>
                  <a:lnTo>
                    <a:pt x="853" y="786"/>
                  </a:lnTo>
                  <a:lnTo>
                    <a:pt x="893" y="807"/>
                  </a:lnTo>
                  <a:lnTo>
                    <a:pt x="931" y="830"/>
                  </a:lnTo>
                  <a:lnTo>
                    <a:pt x="969" y="854"/>
                  </a:lnTo>
                  <a:lnTo>
                    <a:pt x="1007" y="879"/>
                  </a:lnTo>
                  <a:lnTo>
                    <a:pt x="1044" y="903"/>
                  </a:lnTo>
                  <a:lnTo>
                    <a:pt x="1081" y="931"/>
                  </a:lnTo>
                  <a:lnTo>
                    <a:pt x="1116" y="957"/>
                  </a:lnTo>
                  <a:lnTo>
                    <a:pt x="1151" y="986"/>
                  </a:lnTo>
                  <a:lnTo>
                    <a:pt x="1186" y="1013"/>
                  </a:lnTo>
                  <a:lnTo>
                    <a:pt x="1219" y="1044"/>
                  </a:lnTo>
                  <a:lnTo>
                    <a:pt x="1253" y="1074"/>
                  </a:lnTo>
                  <a:lnTo>
                    <a:pt x="1285" y="1105"/>
                  </a:lnTo>
                  <a:lnTo>
                    <a:pt x="1316" y="1137"/>
                  </a:lnTo>
                  <a:lnTo>
                    <a:pt x="1348" y="1169"/>
                  </a:lnTo>
                  <a:lnTo>
                    <a:pt x="1377" y="1202"/>
                  </a:lnTo>
                  <a:lnTo>
                    <a:pt x="1406" y="1236"/>
                  </a:lnTo>
                  <a:lnTo>
                    <a:pt x="1435" y="1271"/>
                  </a:lnTo>
                  <a:lnTo>
                    <a:pt x="1462" y="1306"/>
                  </a:lnTo>
                  <a:lnTo>
                    <a:pt x="1489" y="1343"/>
                  </a:lnTo>
                  <a:lnTo>
                    <a:pt x="1515" y="1379"/>
                  </a:lnTo>
                  <a:lnTo>
                    <a:pt x="1540" y="1416"/>
                  </a:lnTo>
                  <a:lnTo>
                    <a:pt x="1564" y="1454"/>
                  </a:lnTo>
                  <a:lnTo>
                    <a:pt x="1589" y="1492"/>
                  </a:lnTo>
                  <a:lnTo>
                    <a:pt x="1610" y="1532"/>
                  </a:lnTo>
                  <a:lnTo>
                    <a:pt x="1633" y="1571"/>
                  </a:lnTo>
                  <a:lnTo>
                    <a:pt x="1653" y="1611"/>
                  </a:lnTo>
                  <a:lnTo>
                    <a:pt x="1673" y="1652"/>
                  </a:lnTo>
                  <a:lnTo>
                    <a:pt x="1691" y="1693"/>
                  </a:lnTo>
                  <a:lnTo>
                    <a:pt x="1709" y="1735"/>
                  </a:lnTo>
                  <a:lnTo>
                    <a:pt x="1726" y="1777"/>
                  </a:lnTo>
                  <a:lnTo>
                    <a:pt x="1743" y="1820"/>
                  </a:lnTo>
                  <a:lnTo>
                    <a:pt x="1756" y="1863"/>
                  </a:lnTo>
                  <a:lnTo>
                    <a:pt x="1772" y="1907"/>
                  </a:lnTo>
                  <a:lnTo>
                    <a:pt x="1784" y="1951"/>
                  </a:lnTo>
                  <a:lnTo>
                    <a:pt x="1796" y="1996"/>
                  </a:lnTo>
                  <a:lnTo>
                    <a:pt x="1807" y="2041"/>
                  </a:lnTo>
                  <a:lnTo>
                    <a:pt x="1816" y="2086"/>
                  </a:lnTo>
                  <a:lnTo>
                    <a:pt x="1825" y="2131"/>
                  </a:lnTo>
                  <a:lnTo>
                    <a:pt x="1833" y="2179"/>
                  </a:lnTo>
                  <a:lnTo>
                    <a:pt x="1839" y="2224"/>
                  </a:lnTo>
                  <a:lnTo>
                    <a:pt x="1843" y="2272"/>
                  </a:lnTo>
                  <a:lnTo>
                    <a:pt x="1848" y="2319"/>
                  </a:lnTo>
                  <a:lnTo>
                    <a:pt x="1851" y="2366"/>
                  </a:lnTo>
                  <a:lnTo>
                    <a:pt x="1853" y="2415"/>
                  </a:lnTo>
                  <a:lnTo>
                    <a:pt x="1853" y="2462"/>
                  </a:lnTo>
                  <a:lnTo>
                    <a:pt x="1853" y="2462"/>
                  </a:lnTo>
                  <a:lnTo>
                    <a:pt x="1853" y="2523"/>
                  </a:lnTo>
                  <a:lnTo>
                    <a:pt x="1850" y="2583"/>
                  </a:lnTo>
                  <a:lnTo>
                    <a:pt x="1845" y="2642"/>
                  </a:lnTo>
                  <a:lnTo>
                    <a:pt x="1839" y="2702"/>
                  </a:lnTo>
                  <a:lnTo>
                    <a:pt x="1830" y="2760"/>
                  </a:lnTo>
                  <a:lnTo>
                    <a:pt x="1821" y="2818"/>
                  </a:lnTo>
                  <a:lnTo>
                    <a:pt x="1808" y="2874"/>
                  </a:lnTo>
                  <a:lnTo>
                    <a:pt x="1795" y="2931"/>
                  </a:lnTo>
                  <a:lnTo>
                    <a:pt x="1781" y="2987"/>
                  </a:lnTo>
                  <a:lnTo>
                    <a:pt x="1764" y="3042"/>
                  </a:lnTo>
                  <a:lnTo>
                    <a:pt x="1746" y="3097"/>
                  </a:lnTo>
                  <a:lnTo>
                    <a:pt x="1726" y="3150"/>
                  </a:lnTo>
                  <a:lnTo>
                    <a:pt x="1705" y="3204"/>
                  </a:lnTo>
                  <a:lnTo>
                    <a:pt x="1680" y="3256"/>
                  </a:lnTo>
                  <a:lnTo>
                    <a:pt x="1656" y="3307"/>
                  </a:lnTo>
                  <a:lnTo>
                    <a:pt x="1630" y="3358"/>
                  </a:lnTo>
                  <a:lnTo>
                    <a:pt x="1493" y="3280"/>
                  </a:lnTo>
                  <a:lnTo>
                    <a:pt x="1743" y="3698"/>
                  </a:lnTo>
                  <a:lnTo>
                    <a:pt x="2229" y="3690"/>
                  </a:lnTo>
                  <a:lnTo>
                    <a:pt x="2118" y="3628"/>
                  </a:lnTo>
                  <a:lnTo>
                    <a:pt x="2118" y="3628"/>
                  </a:lnTo>
                  <a:lnTo>
                    <a:pt x="2152" y="3562"/>
                  </a:lnTo>
                  <a:lnTo>
                    <a:pt x="2184" y="3497"/>
                  </a:lnTo>
                  <a:lnTo>
                    <a:pt x="2214" y="3428"/>
                  </a:lnTo>
                  <a:lnTo>
                    <a:pt x="2243" y="3359"/>
                  </a:lnTo>
                  <a:lnTo>
                    <a:pt x="2269" y="3289"/>
                  </a:lnTo>
                  <a:lnTo>
                    <a:pt x="2292" y="3219"/>
                  </a:lnTo>
                  <a:lnTo>
                    <a:pt x="2315" y="3146"/>
                  </a:lnTo>
                  <a:lnTo>
                    <a:pt x="2335" y="3074"/>
                  </a:lnTo>
                  <a:lnTo>
                    <a:pt x="2351" y="2999"/>
                  </a:lnTo>
                  <a:lnTo>
                    <a:pt x="2367" y="2925"/>
                  </a:lnTo>
                  <a:lnTo>
                    <a:pt x="2380" y="2850"/>
                  </a:lnTo>
                  <a:lnTo>
                    <a:pt x="2391" y="2774"/>
                  </a:lnTo>
                  <a:lnTo>
                    <a:pt x="2400" y="2697"/>
                  </a:lnTo>
                  <a:lnTo>
                    <a:pt x="2406" y="2619"/>
                  </a:lnTo>
                  <a:lnTo>
                    <a:pt x="2409" y="2542"/>
                  </a:lnTo>
                  <a:lnTo>
                    <a:pt x="2411" y="2462"/>
                  </a:lnTo>
                  <a:lnTo>
                    <a:pt x="2411" y="24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2616120" y="533520"/>
              <a:ext cx="2084400" cy="29844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2626" h="3760">
                  <a:moveTo>
                    <a:pt x="467" y="3474"/>
                  </a:moveTo>
                  <a:lnTo>
                    <a:pt x="777" y="3478"/>
                  </a:lnTo>
                  <a:lnTo>
                    <a:pt x="777" y="3478"/>
                  </a:lnTo>
                  <a:lnTo>
                    <a:pt x="752" y="3428"/>
                  </a:lnTo>
                  <a:lnTo>
                    <a:pt x="728" y="3377"/>
                  </a:lnTo>
                  <a:lnTo>
                    <a:pt x="705" y="3326"/>
                  </a:lnTo>
                  <a:lnTo>
                    <a:pt x="684" y="3272"/>
                  </a:lnTo>
                  <a:lnTo>
                    <a:pt x="664" y="3219"/>
                  </a:lnTo>
                  <a:lnTo>
                    <a:pt x="647" y="3165"/>
                  </a:lnTo>
                  <a:lnTo>
                    <a:pt x="630" y="3111"/>
                  </a:lnTo>
                  <a:lnTo>
                    <a:pt x="615" y="3056"/>
                  </a:lnTo>
                  <a:lnTo>
                    <a:pt x="603" y="2999"/>
                  </a:lnTo>
                  <a:lnTo>
                    <a:pt x="590" y="2943"/>
                  </a:lnTo>
                  <a:lnTo>
                    <a:pt x="581" y="2885"/>
                  </a:lnTo>
                  <a:lnTo>
                    <a:pt x="572" y="2827"/>
                  </a:lnTo>
                  <a:lnTo>
                    <a:pt x="566" y="2769"/>
                  </a:lnTo>
                  <a:lnTo>
                    <a:pt x="561" y="2709"/>
                  </a:lnTo>
                  <a:lnTo>
                    <a:pt x="558" y="2650"/>
                  </a:lnTo>
                  <a:lnTo>
                    <a:pt x="558" y="2590"/>
                  </a:lnTo>
                  <a:lnTo>
                    <a:pt x="558" y="2590"/>
                  </a:lnTo>
                  <a:lnTo>
                    <a:pt x="558" y="2543"/>
                  </a:lnTo>
                  <a:lnTo>
                    <a:pt x="560" y="2494"/>
                  </a:lnTo>
                  <a:lnTo>
                    <a:pt x="563" y="2447"/>
                  </a:lnTo>
                  <a:lnTo>
                    <a:pt x="568" y="2400"/>
                  </a:lnTo>
                  <a:lnTo>
                    <a:pt x="572" y="2354"/>
                  </a:lnTo>
                  <a:lnTo>
                    <a:pt x="578" y="2307"/>
                  </a:lnTo>
                  <a:lnTo>
                    <a:pt x="586" y="2261"/>
                  </a:lnTo>
                  <a:lnTo>
                    <a:pt x="595" y="2215"/>
                  </a:lnTo>
                  <a:lnTo>
                    <a:pt x="604" y="2171"/>
                  </a:lnTo>
                  <a:lnTo>
                    <a:pt x="615" y="2125"/>
                  </a:lnTo>
                  <a:lnTo>
                    <a:pt x="627" y="2081"/>
                  </a:lnTo>
                  <a:lnTo>
                    <a:pt x="639" y="2037"/>
                  </a:lnTo>
                  <a:lnTo>
                    <a:pt x="653" y="1994"/>
                  </a:lnTo>
                  <a:lnTo>
                    <a:pt x="668" y="1950"/>
                  </a:lnTo>
                  <a:lnTo>
                    <a:pt x="684" y="1908"/>
                  </a:lnTo>
                  <a:lnTo>
                    <a:pt x="700" y="1866"/>
                  </a:lnTo>
                  <a:lnTo>
                    <a:pt x="719" y="1825"/>
                  </a:lnTo>
                  <a:lnTo>
                    <a:pt x="737" y="1783"/>
                  </a:lnTo>
                  <a:lnTo>
                    <a:pt x="757" y="1742"/>
                  </a:lnTo>
                  <a:lnTo>
                    <a:pt x="777" y="1702"/>
                  </a:lnTo>
                  <a:lnTo>
                    <a:pt x="799" y="1663"/>
                  </a:lnTo>
                  <a:lnTo>
                    <a:pt x="821" y="1623"/>
                  </a:lnTo>
                  <a:lnTo>
                    <a:pt x="844" y="1585"/>
                  </a:lnTo>
                  <a:lnTo>
                    <a:pt x="868" y="1547"/>
                  </a:lnTo>
                  <a:lnTo>
                    <a:pt x="894" y="1510"/>
                  </a:lnTo>
                  <a:lnTo>
                    <a:pt x="920" y="1474"/>
                  </a:lnTo>
                  <a:lnTo>
                    <a:pt x="946" y="1439"/>
                  </a:lnTo>
                  <a:lnTo>
                    <a:pt x="973" y="1402"/>
                  </a:lnTo>
                  <a:lnTo>
                    <a:pt x="1002" y="1368"/>
                  </a:lnTo>
                  <a:lnTo>
                    <a:pt x="1031" y="1335"/>
                  </a:lnTo>
                  <a:lnTo>
                    <a:pt x="1060" y="1301"/>
                  </a:lnTo>
                  <a:lnTo>
                    <a:pt x="1091" y="1269"/>
                  </a:lnTo>
                  <a:lnTo>
                    <a:pt x="1123" y="1237"/>
                  </a:lnTo>
                  <a:lnTo>
                    <a:pt x="1155" y="1205"/>
                  </a:lnTo>
                  <a:lnTo>
                    <a:pt x="1187" y="1176"/>
                  </a:lnTo>
                  <a:lnTo>
                    <a:pt x="1221" y="1146"/>
                  </a:lnTo>
                  <a:lnTo>
                    <a:pt x="1256" y="1117"/>
                  </a:lnTo>
                  <a:lnTo>
                    <a:pt x="1289" y="1089"/>
                  </a:lnTo>
                  <a:lnTo>
                    <a:pt x="1326" y="1062"/>
                  </a:lnTo>
                  <a:lnTo>
                    <a:pt x="1361" y="1036"/>
                  </a:lnTo>
                  <a:lnTo>
                    <a:pt x="1398" y="1010"/>
                  </a:lnTo>
                  <a:lnTo>
                    <a:pt x="1436" y="985"/>
                  </a:lnTo>
                  <a:lnTo>
                    <a:pt x="1474" y="963"/>
                  </a:lnTo>
                  <a:lnTo>
                    <a:pt x="1512" y="940"/>
                  </a:lnTo>
                  <a:lnTo>
                    <a:pt x="1552" y="917"/>
                  </a:lnTo>
                  <a:lnTo>
                    <a:pt x="1591" y="895"/>
                  </a:lnTo>
                  <a:lnTo>
                    <a:pt x="1631" y="876"/>
                  </a:lnTo>
                  <a:lnTo>
                    <a:pt x="1672" y="856"/>
                  </a:lnTo>
                  <a:lnTo>
                    <a:pt x="1713" y="838"/>
                  </a:lnTo>
                  <a:lnTo>
                    <a:pt x="1756" y="821"/>
                  </a:lnTo>
                  <a:lnTo>
                    <a:pt x="1797" y="804"/>
                  </a:lnTo>
                  <a:lnTo>
                    <a:pt x="1840" y="789"/>
                  </a:lnTo>
                  <a:lnTo>
                    <a:pt x="1884" y="775"/>
                  </a:lnTo>
                  <a:lnTo>
                    <a:pt x="1927" y="761"/>
                  </a:lnTo>
                  <a:lnTo>
                    <a:pt x="1971" y="749"/>
                  </a:lnTo>
                  <a:lnTo>
                    <a:pt x="2017" y="738"/>
                  </a:lnTo>
                  <a:lnTo>
                    <a:pt x="2061" y="728"/>
                  </a:lnTo>
                  <a:lnTo>
                    <a:pt x="2107" y="719"/>
                  </a:lnTo>
                  <a:lnTo>
                    <a:pt x="2153" y="709"/>
                  </a:lnTo>
                  <a:lnTo>
                    <a:pt x="2199" y="703"/>
                  </a:lnTo>
                  <a:lnTo>
                    <a:pt x="2246" y="697"/>
                  </a:lnTo>
                  <a:lnTo>
                    <a:pt x="2292" y="693"/>
                  </a:lnTo>
                  <a:lnTo>
                    <a:pt x="2339" y="688"/>
                  </a:lnTo>
                  <a:lnTo>
                    <a:pt x="2388" y="686"/>
                  </a:lnTo>
                  <a:lnTo>
                    <a:pt x="2389" y="844"/>
                  </a:lnTo>
                  <a:lnTo>
                    <a:pt x="2626" y="418"/>
                  </a:lnTo>
                  <a:lnTo>
                    <a:pt x="2374" y="0"/>
                  </a:lnTo>
                  <a:lnTo>
                    <a:pt x="2377" y="128"/>
                  </a:lnTo>
                  <a:lnTo>
                    <a:pt x="2377" y="128"/>
                  </a:lnTo>
                  <a:lnTo>
                    <a:pt x="2314" y="131"/>
                  </a:lnTo>
                  <a:lnTo>
                    <a:pt x="2253" y="136"/>
                  </a:lnTo>
                  <a:lnTo>
                    <a:pt x="2192" y="142"/>
                  </a:lnTo>
                  <a:lnTo>
                    <a:pt x="2133" y="149"/>
                  </a:lnTo>
                  <a:lnTo>
                    <a:pt x="2073" y="159"/>
                  </a:lnTo>
                  <a:lnTo>
                    <a:pt x="2014" y="168"/>
                  </a:lnTo>
                  <a:lnTo>
                    <a:pt x="1954" y="180"/>
                  </a:lnTo>
                  <a:lnTo>
                    <a:pt x="1896" y="194"/>
                  </a:lnTo>
                  <a:lnTo>
                    <a:pt x="1838" y="207"/>
                  </a:lnTo>
                  <a:lnTo>
                    <a:pt x="1780" y="223"/>
                  </a:lnTo>
                  <a:lnTo>
                    <a:pt x="1724" y="241"/>
                  </a:lnTo>
                  <a:lnTo>
                    <a:pt x="1668" y="259"/>
                  </a:lnTo>
                  <a:lnTo>
                    <a:pt x="1611" y="279"/>
                  </a:lnTo>
                  <a:lnTo>
                    <a:pt x="1556" y="299"/>
                  </a:lnTo>
                  <a:lnTo>
                    <a:pt x="1503" y="322"/>
                  </a:lnTo>
                  <a:lnTo>
                    <a:pt x="1448" y="345"/>
                  </a:lnTo>
                  <a:lnTo>
                    <a:pt x="1396" y="371"/>
                  </a:lnTo>
                  <a:lnTo>
                    <a:pt x="1343" y="397"/>
                  </a:lnTo>
                  <a:lnTo>
                    <a:pt x="1292" y="424"/>
                  </a:lnTo>
                  <a:lnTo>
                    <a:pt x="1240" y="452"/>
                  </a:lnTo>
                  <a:lnTo>
                    <a:pt x="1190" y="482"/>
                  </a:lnTo>
                  <a:lnTo>
                    <a:pt x="1141" y="513"/>
                  </a:lnTo>
                  <a:lnTo>
                    <a:pt x="1092" y="545"/>
                  </a:lnTo>
                  <a:lnTo>
                    <a:pt x="1045" y="577"/>
                  </a:lnTo>
                  <a:lnTo>
                    <a:pt x="998" y="610"/>
                  </a:lnTo>
                  <a:lnTo>
                    <a:pt x="952" y="645"/>
                  </a:lnTo>
                  <a:lnTo>
                    <a:pt x="906" y="682"/>
                  </a:lnTo>
                  <a:lnTo>
                    <a:pt x="862" y="719"/>
                  </a:lnTo>
                  <a:lnTo>
                    <a:pt x="818" y="757"/>
                  </a:lnTo>
                  <a:lnTo>
                    <a:pt x="777" y="796"/>
                  </a:lnTo>
                  <a:lnTo>
                    <a:pt x="734" y="836"/>
                  </a:lnTo>
                  <a:lnTo>
                    <a:pt x="694" y="877"/>
                  </a:lnTo>
                  <a:lnTo>
                    <a:pt x="655" y="920"/>
                  </a:lnTo>
                  <a:lnTo>
                    <a:pt x="615" y="963"/>
                  </a:lnTo>
                  <a:lnTo>
                    <a:pt x="577" y="1007"/>
                  </a:lnTo>
                  <a:lnTo>
                    <a:pt x="540" y="1051"/>
                  </a:lnTo>
                  <a:lnTo>
                    <a:pt x="505" y="1097"/>
                  </a:lnTo>
                  <a:lnTo>
                    <a:pt x="470" y="1143"/>
                  </a:lnTo>
                  <a:lnTo>
                    <a:pt x="436" y="1190"/>
                  </a:lnTo>
                  <a:lnTo>
                    <a:pt x="404" y="1239"/>
                  </a:lnTo>
                  <a:lnTo>
                    <a:pt x="372" y="1288"/>
                  </a:lnTo>
                  <a:lnTo>
                    <a:pt x="343" y="1338"/>
                  </a:lnTo>
                  <a:lnTo>
                    <a:pt x="314" y="1388"/>
                  </a:lnTo>
                  <a:lnTo>
                    <a:pt x="285" y="1439"/>
                  </a:lnTo>
                  <a:lnTo>
                    <a:pt x="259" y="1490"/>
                  </a:lnTo>
                  <a:lnTo>
                    <a:pt x="233" y="1544"/>
                  </a:lnTo>
                  <a:lnTo>
                    <a:pt x="209" y="1597"/>
                  </a:lnTo>
                  <a:lnTo>
                    <a:pt x="186" y="1651"/>
                  </a:lnTo>
                  <a:lnTo>
                    <a:pt x="165" y="1706"/>
                  </a:lnTo>
                  <a:lnTo>
                    <a:pt x="143" y="1760"/>
                  </a:lnTo>
                  <a:lnTo>
                    <a:pt x="125" y="1817"/>
                  </a:lnTo>
                  <a:lnTo>
                    <a:pt x="107" y="1873"/>
                  </a:lnTo>
                  <a:lnTo>
                    <a:pt x="90" y="1930"/>
                  </a:lnTo>
                  <a:lnTo>
                    <a:pt x="75" y="1988"/>
                  </a:lnTo>
                  <a:lnTo>
                    <a:pt x="61" y="2046"/>
                  </a:lnTo>
                  <a:lnTo>
                    <a:pt x="49" y="2104"/>
                  </a:lnTo>
                  <a:lnTo>
                    <a:pt x="37" y="2163"/>
                  </a:lnTo>
                  <a:lnTo>
                    <a:pt x="27" y="2223"/>
                  </a:lnTo>
                  <a:lnTo>
                    <a:pt x="20" y="2284"/>
                  </a:lnTo>
                  <a:lnTo>
                    <a:pt x="12" y="2345"/>
                  </a:lnTo>
                  <a:lnTo>
                    <a:pt x="8" y="2406"/>
                  </a:lnTo>
                  <a:lnTo>
                    <a:pt x="3" y="2467"/>
                  </a:lnTo>
                  <a:lnTo>
                    <a:pt x="2" y="2528"/>
                  </a:lnTo>
                  <a:lnTo>
                    <a:pt x="0" y="2590"/>
                  </a:lnTo>
                  <a:lnTo>
                    <a:pt x="0" y="2590"/>
                  </a:lnTo>
                  <a:lnTo>
                    <a:pt x="2" y="2670"/>
                  </a:lnTo>
                  <a:lnTo>
                    <a:pt x="6" y="2747"/>
                  </a:lnTo>
                  <a:lnTo>
                    <a:pt x="12" y="2825"/>
                  </a:lnTo>
                  <a:lnTo>
                    <a:pt x="20" y="2903"/>
                  </a:lnTo>
                  <a:lnTo>
                    <a:pt x="31" y="2979"/>
                  </a:lnTo>
                  <a:lnTo>
                    <a:pt x="44" y="3056"/>
                  </a:lnTo>
                  <a:lnTo>
                    <a:pt x="60" y="3130"/>
                  </a:lnTo>
                  <a:lnTo>
                    <a:pt x="78" y="3204"/>
                  </a:lnTo>
                  <a:lnTo>
                    <a:pt x="98" y="3277"/>
                  </a:lnTo>
                  <a:lnTo>
                    <a:pt x="119" y="3348"/>
                  </a:lnTo>
                  <a:lnTo>
                    <a:pt x="143" y="3420"/>
                  </a:lnTo>
                  <a:lnTo>
                    <a:pt x="169" y="3490"/>
                  </a:lnTo>
                  <a:lnTo>
                    <a:pt x="198" y="3559"/>
                  </a:lnTo>
                  <a:lnTo>
                    <a:pt x="229" y="3628"/>
                  </a:lnTo>
                  <a:lnTo>
                    <a:pt x="261" y="3695"/>
                  </a:lnTo>
                  <a:lnTo>
                    <a:pt x="296" y="3760"/>
                  </a:lnTo>
                  <a:lnTo>
                    <a:pt x="467" y="34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2816280" y="3327480"/>
              <a:ext cx="3422520" cy="121752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4313" h="1533">
                  <a:moveTo>
                    <a:pt x="3825" y="87"/>
                  </a:moveTo>
                  <a:lnTo>
                    <a:pt x="3825" y="87"/>
                  </a:lnTo>
                  <a:lnTo>
                    <a:pt x="3793" y="136"/>
                  </a:lnTo>
                  <a:lnTo>
                    <a:pt x="3758" y="184"/>
                  </a:lnTo>
                  <a:lnTo>
                    <a:pt x="3722" y="232"/>
                  </a:lnTo>
                  <a:lnTo>
                    <a:pt x="3686" y="278"/>
                  </a:lnTo>
                  <a:lnTo>
                    <a:pt x="3648" y="323"/>
                  </a:lnTo>
                  <a:lnTo>
                    <a:pt x="3608" y="368"/>
                  </a:lnTo>
                  <a:lnTo>
                    <a:pt x="3567" y="410"/>
                  </a:lnTo>
                  <a:lnTo>
                    <a:pt x="3526" y="451"/>
                  </a:lnTo>
                  <a:lnTo>
                    <a:pt x="3481" y="491"/>
                  </a:lnTo>
                  <a:lnTo>
                    <a:pt x="3437" y="529"/>
                  </a:lnTo>
                  <a:lnTo>
                    <a:pt x="3391" y="567"/>
                  </a:lnTo>
                  <a:lnTo>
                    <a:pt x="3344" y="602"/>
                  </a:lnTo>
                  <a:lnTo>
                    <a:pt x="3297" y="638"/>
                  </a:lnTo>
                  <a:lnTo>
                    <a:pt x="3248" y="670"/>
                  </a:lnTo>
                  <a:lnTo>
                    <a:pt x="3198" y="702"/>
                  </a:lnTo>
                  <a:lnTo>
                    <a:pt x="3146" y="732"/>
                  </a:lnTo>
                  <a:lnTo>
                    <a:pt x="3094" y="760"/>
                  </a:lnTo>
                  <a:lnTo>
                    <a:pt x="3040" y="787"/>
                  </a:lnTo>
                  <a:lnTo>
                    <a:pt x="2987" y="811"/>
                  </a:lnTo>
                  <a:lnTo>
                    <a:pt x="2932" y="836"/>
                  </a:lnTo>
                  <a:lnTo>
                    <a:pt x="2876" y="857"/>
                  </a:lnTo>
                  <a:lnTo>
                    <a:pt x="2819" y="877"/>
                  </a:lnTo>
                  <a:lnTo>
                    <a:pt x="2761" y="895"/>
                  </a:lnTo>
                  <a:lnTo>
                    <a:pt x="2703" y="912"/>
                  </a:lnTo>
                  <a:lnTo>
                    <a:pt x="2644" y="926"/>
                  </a:lnTo>
                  <a:lnTo>
                    <a:pt x="2584" y="940"/>
                  </a:lnTo>
                  <a:lnTo>
                    <a:pt x="2523" y="950"/>
                  </a:lnTo>
                  <a:lnTo>
                    <a:pt x="2462" y="959"/>
                  </a:lnTo>
                  <a:lnTo>
                    <a:pt x="2401" y="966"/>
                  </a:lnTo>
                  <a:lnTo>
                    <a:pt x="2339" y="972"/>
                  </a:lnTo>
                  <a:lnTo>
                    <a:pt x="2276" y="975"/>
                  </a:lnTo>
                  <a:lnTo>
                    <a:pt x="2212" y="976"/>
                  </a:lnTo>
                  <a:lnTo>
                    <a:pt x="2212" y="976"/>
                  </a:lnTo>
                  <a:lnTo>
                    <a:pt x="2148" y="975"/>
                  </a:lnTo>
                  <a:lnTo>
                    <a:pt x="2085" y="972"/>
                  </a:lnTo>
                  <a:lnTo>
                    <a:pt x="2023" y="966"/>
                  </a:lnTo>
                  <a:lnTo>
                    <a:pt x="1960" y="959"/>
                  </a:lnTo>
                  <a:lnTo>
                    <a:pt x="1899" y="950"/>
                  </a:lnTo>
                  <a:lnTo>
                    <a:pt x="1838" y="940"/>
                  </a:lnTo>
                  <a:lnTo>
                    <a:pt x="1779" y="926"/>
                  </a:lnTo>
                  <a:lnTo>
                    <a:pt x="1719" y="911"/>
                  </a:lnTo>
                  <a:lnTo>
                    <a:pt x="1660" y="894"/>
                  </a:lnTo>
                  <a:lnTo>
                    <a:pt x="1602" y="876"/>
                  </a:lnTo>
                  <a:lnTo>
                    <a:pt x="1545" y="856"/>
                  </a:lnTo>
                  <a:lnTo>
                    <a:pt x="1489" y="834"/>
                  </a:lnTo>
                  <a:lnTo>
                    <a:pt x="1434" y="810"/>
                  </a:lnTo>
                  <a:lnTo>
                    <a:pt x="1379" y="784"/>
                  </a:lnTo>
                  <a:lnTo>
                    <a:pt x="1326" y="758"/>
                  </a:lnTo>
                  <a:lnTo>
                    <a:pt x="1274" y="729"/>
                  </a:lnTo>
                  <a:lnTo>
                    <a:pt x="1222" y="699"/>
                  </a:lnTo>
                  <a:lnTo>
                    <a:pt x="1171" y="667"/>
                  </a:lnTo>
                  <a:lnTo>
                    <a:pt x="1123" y="633"/>
                  </a:lnTo>
                  <a:lnTo>
                    <a:pt x="1074" y="599"/>
                  </a:lnTo>
                  <a:lnTo>
                    <a:pt x="1028" y="563"/>
                  </a:lnTo>
                  <a:lnTo>
                    <a:pt x="981" y="525"/>
                  </a:lnTo>
                  <a:lnTo>
                    <a:pt x="937" y="487"/>
                  </a:lnTo>
                  <a:lnTo>
                    <a:pt x="894" y="445"/>
                  </a:lnTo>
                  <a:lnTo>
                    <a:pt x="851" y="404"/>
                  </a:lnTo>
                  <a:lnTo>
                    <a:pt x="810" y="361"/>
                  </a:lnTo>
                  <a:lnTo>
                    <a:pt x="770" y="317"/>
                  </a:lnTo>
                  <a:lnTo>
                    <a:pt x="732" y="271"/>
                  </a:lnTo>
                  <a:lnTo>
                    <a:pt x="695" y="224"/>
                  </a:lnTo>
                  <a:lnTo>
                    <a:pt x="660" y="177"/>
                  </a:lnTo>
                  <a:lnTo>
                    <a:pt x="627" y="128"/>
                  </a:lnTo>
                  <a:lnTo>
                    <a:pt x="595" y="78"/>
                  </a:lnTo>
                  <a:lnTo>
                    <a:pt x="726" y="0"/>
                  </a:lnTo>
                  <a:lnTo>
                    <a:pt x="239" y="6"/>
                  </a:lnTo>
                  <a:lnTo>
                    <a:pt x="0" y="432"/>
                  </a:lnTo>
                  <a:lnTo>
                    <a:pt x="116" y="363"/>
                  </a:lnTo>
                  <a:lnTo>
                    <a:pt x="116" y="363"/>
                  </a:lnTo>
                  <a:lnTo>
                    <a:pt x="157" y="429"/>
                  </a:lnTo>
                  <a:lnTo>
                    <a:pt x="201" y="491"/>
                  </a:lnTo>
                  <a:lnTo>
                    <a:pt x="245" y="554"/>
                  </a:lnTo>
                  <a:lnTo>
                    <a:pt x="294" y="615"/>
                  </a:lnTo>
                  <a:lnTo>
                    <a:pt x="343" y="674"/>
                  </a:lnTo>
                  <a:lnTo>
                    <a:pt x="393" y="732"/>
                  </a:lnTo>
                  <a:lnTo>
                    <a:pt x="447" y="787"/>
                  </a:lnTo>
                  <a:lnTo>
                    <a:pt x="502" y="842"/>
                  </a:lnTo>
                  <a:lnTo>
                    <a:pt x="558" y="894"/>
                  </a:lnTo>
                  <a:lnTo>
                    <a:pt x="615" y="946"/>
                  </a:lnTo>
                  <a:lnTo>
                    <a:pt x="674" y="994"/>
                  </a:lnTo>
                  <a:lnTo>
                    <a:pt x="735" y="1042"/>
                  </a:lnTo>
                  <a:lnTo>
                    <a:pt x="798" y="1088"/>
                  </a:lnTo>
                  <a:lnTo>
                    <a:pt x="862" y="1130"/>
                  </a:lnTo>
                  <a:lnTo>
                    <a:pt x="927" y="1171"/>
                  </a:lnTo>
                  <a:lnTo>
                    <a:pt x="994" y="1211"/>
                  </a:lnTo>
                  <a:lnTo>
                    <a:pt x="1062" y="1249"/>
                  </a:lnTo>
                  <a:lnTo>
                    <a:pt x="1132" y="1284"/>
                  </a:lnTo>
                  <a:lnTo>
                    <a:pt x="1202" y="1316"/>
                  </a:lnTo>
                  <a:lnTo>
                    <a:pt x="1274" y="1348"/>
                  </a:lnTo>
                  <a:lnTo>
                    <a:pt x="1347" y="1376"/>
                  </a:lnTo>
                  <a:lnTo>
                    <a:pt x="1420" y="1403"/>
                  </a:lnTo>
                  <a:lnTo>
                    <a:pt x="1495" y="1428"/>
                  </a:lnTo>
                  <a:lnTo>
                    <a:pt x="1571" y="1449"/>
                  </a:lnTo>
                  <a:lnTo>
                    <a:pt x="1649" y="1469"/>
                  </a:lnTo>
                  <a:lnTo>
                    <a:pt x="1727" y="1486"/>
                  </a:lnTo>
                  <a:lnTo>
                    <a:pt x="1806" y="1499"/>
                  </a:lnTo>
                  <a:lnTo>
                    <a:pt x="1886" y="1512"/>
                  </a:lnTo>
                  <a:lnTo>
                    <a:pt x="1966" y="1521"/>
                  </a:lnTo>
                  <a:lnTo>
                    <a:pt x="2047" y="1527"/>
                  </a:lnTo>
                  <a:lnTo>
                    <a:pt x="2130" y="1531"/>
                  </a:lnTo>
                  <a:lnTo>
                    <a:pt x="2212" y="1533"/>
                  </a:lnTo>
                  <a:lnTo>
                    <a:pt x="2212" y="1533"/>
                  </a:lnTo>
                  <a:lnTo>
                    <a:pt x="2294" y="1531"/>
                  </a:lnTo>
                  <a:lnTo>
                    <a:pt x="2377" y="1527"/>
                  </a:lnTo>
                  <a:lnTo>
                    <a:pt x="2459" y="1521"/>
                  </a:lnTo>
                  <a:lnTo>
                    <a:pt x="2540" y="1512"/>
                  </a:lnTo>
                  <a:lnTo>
                    <a:pt x="2619" y="1499"/>
                  </a:lnTo>
                  <a:lnTo>
                    <a:pt x="2699" y="1484"/>
                  </a:lnTo>
                  <a:lnTo>
                    <a:pt x="2777" y="1467"/>
                  </a:lnTo>
                  <a:lnTo>
                    <a:pt x="2854" y="1449"/>
                  </a:lnTo>
                  <a:lnTo>
                    <a:pt x="2931" y="1426"/>
                  </a:lnTo>
                  <a:lnTo>
                    <a:pt x="3005" y="1402"/>
                  </a:lnTo>
                  <a:lnTo>
                    <a:pt x="3080" y="1376"/>
                  </a:lnTo>
                  <a:lnTo>
                    <a:pt x="3153" y="1347"/>
                  </a:lnTo>
                  <a:lnTo>
                    <a:pt x="3225" y="1316"/>
                  </a:lnTo>
                  <a:lnTo>
                    <a:pt x="3295" y="1283"/>
                  </a:lnTo>
                  <a:lnTo>
                    <a:pt x="3365" y="1248"/>
                  </a:lnTo>
                  <a:lnTo>
                    <a:pt x="3433" y="1210"/>
                  </a:lnTo>
                  <a:lnTo>
                    <a:pt x="3500" y="1170"/>
                  </a:lnTo>
                  <a:lnTo>
                    <a:pt x="3565" y="1129"/>
                  </a:lnTo>
                  <a:lnTo>
                    <a:pt x="3629" y="1085"/>
                  </a:lnTo>
                  <a:lnTo>
                    <a:pt x="3692" y="1039"/>
                  </a:lnTo>
                  <a:lnTo>
                    <a:pt x="3753" y="991"/>
                  </a:lnTo>
                  <a:lnTo>
                    <a:pt x="3812" y="943"/>
                  </a:lnTo>
                  <a:lnTo>
                    <a:pt x="3870" y="891"/>
                  </a:lnTo>
                  <a:lnTo>
                    <a:pt x="3927" y="839"/>
                  </a:lnTo>
                  <a:lnTo>
                    <a:pt x="3982" y="784"/>
                  </a:lnTo>
                  <a:lnTo>
                    <a:pt x="4034" y="728"/>
                  </a:lnTo>
                  <a:lnTo>
                    <a:pt x="4086" y="670"/>
                  </a:lnTo>
                  <a:lnTo>
                    <a:pt x="4134" y="610"/>
                  </a:lnTo>
                  <a:lnTo>
                    <a:pt x="4182" y="549"/>
                  </a:lnTo>
                  <a:lnTo>
                    <a:pt x="4227" y="487"/>
                  </a:lnTo>
                  <a:lnTo>
                    <a:pt x="4272" y="422"/>
                  </a:lnTo>
                  <a:lnTo>
                    <a:pt x="4313" y="357"/>
                  </a:lnTo>
                  <a:lnTo>
                    <a:pt x="3974" y="354"/>
                  </a:lnTo>
                  <a:lnTo>
                    <a:pt x="3825" y="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18"/>
          <p:cNvSpPr/>
          <p:nvPr/>
        </p:nvSpPr>
        <p:spPr>
          <a:xfrm rot="18758400">
            <a:off x="2253960" y="13741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Calibri"/>
                <a:ea typeface="Calibri"/>
              </a:rPr>
              <a:t>Placeholde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567240" y="1509840"/>
            <a:ext cx="2009520" cy="2124000"/>
            <a:chOff x="3567240" y="1509840"/>
            <a:chExt cx="2009520" cy="2124000"/>
          </a:xfrm>
        </p:grpSpPr>
        <p:sp>
          <p:nvSpPr>
            <p:cNvPr id="446" name="Freeform 6"/>
            <p:cNvSpPr/>
            <p:nvPr/>
          </p:nvSpPr>
          <p:spPr>
            <a:xfrm rot="5400000">
              <a:off x="3078360" y="1998720"/>
              <a:ext cx="2059200" cy="108144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1081440"/>
                <a:gd name="textAreaBottom" fmla="*/ 1081800 h 1081440"/>
              </a:gdLst>
              <a:ahLst/>
              <a:rect l="textAreaLeft" t="textAreaTop" r="textAreaRight" b="textAreaBottom"/>
              <a:pathLst>
                <a:path w="5100" h="2679">
                  <a:moveTo>
                    <a:pt x="5100" y="194"/>
                  </a:moveTo>
                  <a:lnTo>
                    <a:pt x="5100" y="194"/>
                  </a:lnTo>
                  <a:lnTo>
                    <a:pt x="5100" y="257"/>
                  </a:lnTo>
                  <a:lnTo>
                    <a:pt x="5097" y="322"/>
                  </a:lnTo>
                  <a:lnTo>
                    <a:pt x="5092" y="385"/>
                  </a:lnTo>
                  <a:lnTo>
                    <a:pt x="5088" y="448"/>
                  </a:lnTo>
                  <a:lnTo>
                    <a:pt x="5080" y="509"/>
                  </a:lnTo>
                  <a:lnTo>
                    <a:pt x="5071" y="573"/>
                  </a:lnTo>
                  <a:lnTo>
                    <a:pt x="5061" y="633"/>
                  </a:lnTo>
                  <a:lnTo>
                    <a:pt x="5049" y="694"/>
                  </a:lnTo>
                  <a:lnTo>
                    <a:pt x="5037" y="754"/>
                  </a:lnTo>
                  <a:lnTo>
                    <a:pt x="5021" y="814"/>
                  </a:lnTo>
                  <a:lnTo>
                    <a:pt x="5006" y="874"/>
                  </a:lnTo>
                  <a:lnTo>
                    <a:pt x="4988" y="933"/>
                  </a:lnTo>
                  <a:lnTo>
                    <a:pt x="4969" y="990"/>
                  </a:lnTo>
                  <a:lnTo>
                    <a:pt x="4949" y="1048"/>
                  </a:lnTo>
                  <a:lnTo>
                    <a:pt x="4927" y="1105"/>
                  </a:lnTo>
                  <a:lnTo>
                    <a:pt x="4904" y="1161"/>
                  </a:lnTo>
                  <a:lnTo>
                    <a:pt x="4880" y="1216"/>
                  </a:lnTo>
                  <a:lnTo>
                    <a:pt x="4855" y="1272"/>
                  </a:lnTo>
                  <a:lnTo>
                    <a:pt x="4827" y="1326"/>
                  </a:lnTo>
                  <a:lnTo>
                    <a:pt x="4800" y="1378"/>
                  </a:lnTo>
                  <a:lnTo>
                    <a:pt x="4770" y="1430"/>
                  </a:lnTo>
                  <a:lnTo>
                    <a:pt x="4740" y="1483"/>
                  </a:lnTo>
                  <a:lnTo>
                    <a:pt x="4709" y="1533"/>
                  </a:lnTo>
                  <a:lnTo>
                    <a:pt x="4675" y="1583"/>
                  </a:lnTo>
                  <a:lnTo>
                    <a:pt x="4641" y="1632"/>
                  </a:lnTo>
                  <a:lnTo>
                    <a:pt x="4606" y="1681"/>
                  </a:lnTo>
                  <a:lnTo>
                    <a:pt x="4570" y="1729"/>
                  </a:lnTo>
                  <a:lnTo>
                    <a:pt x="4532" y="1775"/>
                  </a:lnTo>
                  <a:lnTo>
                    <a:pt x="4493" y="1820"/>
                  </a:lnTo>
                  <a:lnTo>
                    <a:pt x="4455" y="1864"/>
                  </a:lnTo>
                  <a:lnTo>
                    <a:pt x="4413" y="1909"/>
                  </a:lnTo>
                  <a:lnTo>
                    <a:pt x="4372" y="1951"/>
                  </a:lnTo>
                  <a:lnTo>
                    <a:pt x="4329" y="1992"/>
                  </a:lnTo>
                  <a:lnTo>
                    <a:pt x="4286" y="2034"/>
                  </a:lnTo>
                  <a:lnTo>
                    <a:pt x="4241" y="2074"/>
                  </a:lnTo>
                  <a:lnTo>
                    <a:pt x="4195" y="2112"/>
                  </a:lnTo>
                  <a:lnTo>
                    <a:pt x="4149" y="2149"/>
                  </a:lnTo>
                  <a:lnTo>
                    <a:pt x="4101" y="2186"/>
                  </a:lnTo>
                  <a:lnTo>
                    <a:pt x="4053" y="2220"/>
                  </a:lnTo>
                  <a:lnTo>
                    <a:pt x="4004" y="2256"/>
                  </a:lnTo>
                  <a:lnTo>
                    <a:pt x="3955" y="2288"/>
                  </a:lnTo>
                  <a:lnTo>
                    <a:pt x="3904" y="2320"/>
                  </a:lnTo>
                  <a:lnTo>
                    <a:pt x="3851" y="2349"/>
                  </a:lnTo>
                  <a:lnTo>
                    <a:pt x="3799" y="2379"/>
                  </a:lnTo>
                  <a:lnTo>
                    <a:pt x="3745" y="2408"/>
                  </a:lnTo>
                  <a:lnTo>
                    <a:pt x="3691" y="2434"/>
                  </a:lnTo>
                  <a:lnTo>
                    <a:pt x="3638" y="2460"/>
                  </a:lnTo>
                  <a:lnTo>
                    <a:pt x="3582" y="2483"/>
                  </a:lnTo>
                  <a:lnTo>
                    <a:pt x="3525" y="2507"/>
                  </a:lnTo>
                  <a:lnTo>
                    <a:pt x="3468" y="2528"/>
                  </a:lnTo>
                  <a:lnTo>
                    <a:pt x="3411" y="2550"/>
                  </a:lnTo>
                  <a:lnTo>
                    <a:pt x="3353" y="2568"/>
                  </a:lnTo>
                  <a:lnTo>
                    <a:pt x="3294" y="2585"/>
                  </a:lnTo>
                  <a:lnTo>
                    <a:pt x="3236" y="2602"/>
                  </a:lnTo>
                  <a:lnTo>
                    <a:pt x="3176" y="2616"/>
                  </a:lnTo>
                  <a:lnTo>
                    <a:pt x="3116" y="2630"/>
                  </a:lnTo>
                  <a:lnTo>
                    <a:pt x="3054" y="2641"/>
                  </a:lnTo>
                  <a:lnTo>
                    <a:pt x="2993" y="2651"/>
                  </a:lnTo>
                  <a:lnTo>
                    <a:pt x="2931" y="2659"/>
                  </a:lnTo>
                  <a:lnTo>
                    <a:pt x="2868" y="2667"/>
                  </a:lnTo>
                  <a:lnTo>
                    <a:pt x="2805" y="2673"/>
                  </a:lnTo>
                  <a:lnTo>
                    <a:pt x="2742" y="2676"/>
                  </a:lnTo>
                  <a:lnTo>
                    <a:pt x="2678" y="2679"/>
                  </a:lnTo>
                  <a:lnTo>
                    <a:pt x="2614" y="2679"/>
                  </a:lnTo>
                  <a:lnTo>
                    <a:pt x="2614" y="2679"/>
                  </a:lnTo>
                  <a:lnTo>
                    <a:pt x="2551" y="2679"/>
                  </a:lnTo>
                  <a:lnTo>
                    <a:pt x="2488" y="2676"/>
                  </a:lnTo>
                  <a:lnTo>
                    <a:pt x="2426" y="2673"/>
                  </a:lnTo>
                  <a:lnTo>
                    <a:pt x="2363" y="2667"/>
                  </a:lnTo>
                  <a:lnTo>
                    <a:pt x="2301" y="2661"/>
                  </a:lnTo>
                  <a:lnTo>
                    <a:pt x="2240" y="2651"/>
                  </a:lnTo>
                  <a:lnTo>
                    <a:pt x="2180" y="2642"/>
                  </a:lnTo>
                  <a:lnTo>
                    <a:pt x="2120" y="2630"/>
                  </a:lnTo>
                  <a:lnTo>
                    <a:pt x="2060" y="2617"/>
                  </a:lnTo>
                  <a:lnTo>
                    <a:pt x="2001" y="2604"/>
                  </a:lnTo>
                  <a:lnTo>
                    <a:pt x="1943" y="2588"/>
                  </a:lnTo>
                  <a:lnTo>
                    <a:pt x="1884" y="2571"/>
                  </a:lnTo>
                  <a:lnTo>
                    <a:pt x="1827" y="2553"/>
                  </a:lnTo>
                  <a:lnTo>
                    <a:pt x="1770" y="2533"/>
                  </a:lnTo>
                  <a:lnTo>
                    <a:pt x="1713" y="2511"/>
                  </a:lnTo>
                  <a:lnTo>
                    <a:pt x="1658" y="2490"/>
                  </a:lnTo>
                  <a:lnTo>
                    <a:pt x="1604" y="2465"/>
                  </a:lnTo>
                  <a:lnTo>
                    <a:pt x="1549" y="2440"/>
                  </a:lnTo>
                  <a:lnTo>
                    <a:pt x="1496" y="2414"/>
                  </a:lnTo>
                  <a:lnTo>
                    <a:pt x="1442" y="2386"/>
                  </a:lnTo>
                  <a:lnTo>
                    <a:pt x="1392" y="2359"/>
                  </a:lnTo>
                  <a:lnTo>
                    <a:pt x="1339" y="2328"/>
                  </a:lnTo>
                  <a:lnTo>
                    <a:pt x="1290" y="2297"/>
                  </a:lnTo>
                  <a:lnTo>
                    <a:pt x="1239" y="2265"/>
                  </a:lnTo>
                  <a:lnTo>
                    <a:pt x="1191" y="2232"/>
                  </a:lnTo>
                  <a:lnTo>
                    <a:pt x="1142" y="2197"/>
                  </a:lnTo>
                  <a:lnTo>
                    <a:pt x="1096" y="2162"/>
                  </a:lnTo>
                  <a:lnTo>
                    <a:pt x="1050" y="2125"/>
                  </a:lnTo>
                  <a:lnTo>
                    <a:pt x="1004" y="2088"/>
                  </a:lnTo>
                  <a:lnTo>
                    <a:pt x="961" y="2049"/>
                  </a:lnTo>
                  <a:lnTo>
                    <a:pt x="916" y="2009"/>
                  </a:lnTo>
                  <a:lnTo>
                    <a:pt x="874" y="1969"/>
                  </a:lnTo>
                  <a:lnTo>
                    <a:pt x="833" y="1926"/>
                  </a:lnTo>
                  <a:lnTo>
                    <a:pt x="791" y="1884"/>
                  </a:lnTo>
                  <a:lnTo>
                    <a:pt x="753" y="1840"/>
                  </a:lnTo>
                  <a:lnTo>
                    <a:pt x="714" y="1795"/>
                  </a:lnTo>
                  <a:lnTo>
                    <a:pt x="676" y="1751"/>
                  </a:lnTo>
                  <a:lnTo>
                    <a:pt x="640" y="1704"/>
                  </a:lnTo>
                  <a:lnTo>
                    <a:pt x="605" y="1657"/>
                  </a:lnTo>
                  <a:lnTo>
                    <a:pt x="570" y="1609"/>
                  </a:lnTo>
                  <a:lnTo>
                    <a:pt x="537" y="1560"/>
                  </a:lnTo>
                  <a:lnTo>
                    <a:pt x="505" y="1510"/>
                  </a:lnTo>
                  <a:lnTo>
                    <a:pt x="474" y="1459"/>
                  </a:lnTo>
                  <a:lnTo>
                    <a:pt x="445" y="1409"/>
                  </a:lnTo>
                  <a:lnTo>
                    <a:pt x="417" y="1356"/>
                  </a:lnTo>
                  <a:lnTo>
                    <a:pt x="389" y="1302"/>
                  </a:lnTo>
                  <a:lnTo>
                    <a:pt x="363" y="1250"/>
                  </a:lnTo>
                  <a:lnTo>
                    <a:pt x="339" y="1195"/>
                  </a:lnTo>
                  <a:lnTo>
                    <a:pt x="316" y="1141"/>
                  </a:lnTo>
                  <a:lnTo>
                    <a:pt x="292" y="1084"/>
                  </a:lnTo>
                  <a:lnTo>
                    <a:pt x="272" y="1028"/>
                  </a:lnTo>
                  <a:lnTo>
                    <a:pt x="252" y="971"/>
                  </a:lnTo>
                  <a:lnTo>
                    <a:pt x="234" y="914"/>
                  </a:lnTo>
                  <a:lnTo>
                    <a:pt x="217" y="856"/>
                  </a:lnTo>
                  <a:lnTo>
                    <a:pt x="202" y="797"/>
                  </a:lnTo>
                  <a:lnTo>
                    <a:pt x="188" y="737"/>
                  </a:lnTo>
                  <a:lnTo>
                    <a:pt x="175" y="677"/>
                  </a:lnTo>
                  <a:lnTo>
                    <a:pt x="165" y="617"/>
                  </a:lnTo>
                  <a:lnTo>
                    <a:pt x="155" y="557"/>
                  </a:lnTo>
                  <a:lnTo>
                    <a:pt x="146" y="496"/>
                  </a:lnTo>
                  <a:lnTo>
                    <a:pt x="140" y="434"/>
                  </a:lnTo>
                  <a:lnTo>
                    <a:pt x="135" y="371"/>
                  </a:lnTo>
                  <a:lnTo>
                    <a:pt x="131" y="309"/>
                  </a:lnTo>
                  <a:lnTo>
                    <a:pt x="129" y="246"/>
                  </a:lnTo>
                  <a:lnTo>
                    <a:pt x="0" y="246"/>
                  </a:lnTo>
                  <a:lnTo>
                    <a:pt x="123" y="174"/>
                  </a:lnTo>
                  <a:lnTo>
                    <a:pt x="425" y="0"/>
                  </a:lnTo>
                  <a:lnTo>
                    <a:pt x="703" y="161"/>
                  </a:lnTo>
                  <a:lnTo>
                    <a:pt x="851" y="246"/>
                  </a:lnTo>
                  <a:lnTo>
                    <a:pt x="691" y="246"/>
                  </a:lnTo>
                  <a:lnTo>
                    <a:pt x="691" y="246"/>
                  </a:lnTo>
                  <a:lnTo>
                    <a:pt x="694" y="294"/>
                  </a:lnTo>
                  <a:lnTo>
                    <a:pt x="697" y="343"/>
                  </a:lnTo>
                  <a:lnTo>
                    <a:pt x="700" y="391"/>
                  </a:lnTo>
                  <a:lnTo>
                    <a:pt x="707" y="439"/>
                  </a:lnTo>
                  <a:lnTo>
                    <a:pt x="713" y="485"/>
                  </a:lnTo>
                  <a:lnTo>
                    <a:pt x="720" y="533"/>
                  </a:lnTo>
                  <a:lnTo>
                    <a:pt x="730" y="579"/>
                  </a:lnTo>
                  <a:lnTo>
                    <a:pt x="739" y="625"/>
                  </a:lnTo>
                  <a:lnTo>
                    <a:pt x="751" y="670"/>
                  </a:lnTo>
                  <a:lnTo>
                    <a:pt x="762" y="716"/>
                  </a:lnTo>
                  <a:lnTo>
                    <a:pt x="776" y="760"/>
                  </a:lnTo>
                  <a:lnTo>
                    <a:pt x="790" y="804"/>
                  </a:lnTo>
                  <a:lnTo>
                    <a:pt x="805" y="848"/>
                  </a:lnTo>
                  <a:lnTo>
                    <a:pt x="822" y="891"/>
                  </a:lnTo>
                  <a:lnTo>
                    <a:pt x="839" y="934"/>
                  </a:lnTo>
                  <a:lnTo>
                    <a:pt x="857" y="976"/>
                  </a:lnTo>
                  <a:lnTo>
                    <a:pt x="876" y="1018"/>
                  </a:lnTo>
                  <a:lnTo>
                    <a:pt x="896" y="1059"/>
                  </a:lnTo>
                  <a:lnTo>
                    <a:pt x="917" y="1099"/>
                  </a:lnTo>
                  <a:lnTo>
                    <a:pt x="939" y="1139"/>
                  </a:lnTo>
                  <a:lnTo>
                    <a:pt x="962" y="1179"/>
                  </a:lnTo>
                  <a:lnTo>
                    <a:pt x="987" y="1218"/>
                  </a:lnTo>
                  <a:lnTo>
                    <a:pt x="1011" y="1256"/>
                  </a:lnTo>
                  <a:lnTo>
                    <a:pt x="1038" y="1295"/>
                  </a:lnTo>
                  <a:lnTo>
                    <a:pt x="1064" y="1332"/>
                  </a:lnTo>
                  <a:lnTo>
                    <a:pt x="1091" y="1367"/>
                  </a:lnTo>
                  <a:lnTo>
                    <a:pt x="1119" y="1403"/>
                  </a:lnTo>
                  <a:lnTo>
                    <a:pt x="1148" y="1438"/>
                  </a:lnTo>
                  <a:lnTo>
                    <a:pt x="1178" y="1472"/>
                  </a:lnTo>
                  <a:lnTo>
                    <a:pt x="1208" y="1506"/>
                  </a:lnTo>
                  <a:lnTo>
                    <a:pt x="1239" y="1538"/>
                  </a:lnTo>
                  <a:lnTo>
                    <a:pt x="1272" y="1570"/>
                  </a:lnTo>
                  <a:lnTo>
                    <a:pt x="1304" y="1603"/>
                  </a:lnTo>
                  <a:lnTo>
                    <a:pt x="1338" y="1632"/>
                  </a:lnTo>
                  <a:lnTo>
                    <a:pt x="1373" y="1663"/>
                  </a:lnTo>
                  <a:lnTo>
                    <a:pt x="1407" y="1690"/>
                  </a:lnTo>
                  <a:lnTo>
                    <a:pt x="1444" y="1720"/>
                  </a:lnTo>
                  <a:lnTo>
                    <a:pt x="1479" y="1746"/>
                  </a:lnTo>
                  <a:lnTo>
                    <a:pt x="1516" y="1774"/>
                  </a:lnTo>
                  <a:lnTo>
                    <a:pt x="1555" y="1798"/>
                  </a:lnTo>
                  <a:lnTo>
                    <a:pt x="1593" y="1823"/>
                  </a:lnTo>
                  <a:lnTo>
                    <a:pt x="1632" y="1848"/>
                  </a:lnTo>
                  <a:lnTo>
                    <a:pt x="1672" y="1871"/>
                  </a:lnTo>
                  <a:lnTo>
                    <a:pt x="1712" y="1892"/>
                  </a:lnTo>
                  <a:lnTo>
                    <a:pt x="1752" y="1914"/>
                  </a:lnTo>
                  <a:lnTo>
                    <a:pt x="1793" y="1934"/>
                  </a:lnTo>
                  <a:lnTo>
                    <a:pt x="1835" y="1952"/>
                  </a:lnTo>
                  <a:lnTo>
                    <a:pt x="1876" y="1971"/>
                  </a:lnTo>
                  <a:lnTo>
                    <a:pt x="1920" y="1988"/>
                  </a:lnTo>
                  <a:lnTo>
                    <a:pt x="1963" y="2005"/>
                  </a:lnTo>
                  <a:lnTo>
                    <a:pt x="2007" y="2018"/>
                  </a:lnTo>
                  <a:lnTo>
                    <a:pt x="2052" y="2034"/>
                  </a:lnTo>
                  <a:lnTo>
                    <a:pt x="2097" y="2046"/>
                  </a:lnTo>
                  <a:lnTo>
                    <a:pt x="2141" y="2058"/>
                  </a:lnTo>
                  <a:lnTo>
                    <a:pt x="2187" y="2069"/>
                  </a:lnTo>
                  <a:lnTo>
                    <a:pt x="2234" y="2078"/>
                  </a:lnTo>
                  <a:lnTo>
                    <a:pt x="2280" y="2088"/>
                  </a:lnTo>
                  <a:lnTo>
                    <a:pt x="2326" y="2095"/>
                  </a:lnTo>
                  <a:lnTo>
                    <a:pt x="2374" y="2102"/>
                  </a:lnTo>
                  <a:lnTo>
                    <a:pt x="2421" y="2108"/>
                  </a:lnTo>
                  <a:lnTo>
                    <a:pt x="2469" y="2111"/>
                  </a:lnTo>
                  <a:lnTo>
                    <a:pt x="2517" y="2114"/>
                  </a:lnTo>
                  <a:lnTo>
                    <a:pt x="2566" y="2117"/>
                  </a:lnTo>
                  <a:lnTo>
                    <a:pt x="2614" y="2117"/>
                  </a:lnTo>
                  <a:lnTo>
                    <a:pt x="2614" y="2117"/>
                  </a:lnTo>
                  <a:lnTo>
                    <a:pt x="2665" y="2117"/>
                  </a:lnTo>
                  <a:lnTo>
                    <a:pt x="2714" y="2114"/>
                  </a:lnTo>
                  <a:lnTo>
                    <a:pt x="2762" y="2111"/>
                  </a:lnTo>
                  <a:lnTo>
                    <a:pt x="2811" y="2108"/>
                  </a:lnTo>
                  <a:lnTo>
                    <a:pt x="2859" y="2102"/>
                  </a:lnTo>
                  <a:lnTo>
                    <a:pt x="2908" y="2095"/>
                  </a:lnTo>
                  <a:lnTo>
                    <a:pt x="2954" y="2086"/>
                  </a:lnTo>
                  <a:lnTo>
                    <a:pt x="3002" y="2078"/>
                  </a:lnTo>
                  <a:lnTo>
                    <a:pt x="3048" y="2068"/>
                  </a:lnTo>
                  <a:lnTo>
                    <a:pt x="3096" y="2057"/>
                  </a:lnTo>
                  <a:lnTo>
                    <a:pt x="3140" y="2045"/>
                  </a:lnTo>
                  <a:lnTo>
                    <a:pt x="3186" y="2031"/>
                  </a:lnTo>
                  <a:lnTo>
                    <a:pt x="3231" y="2015"/>
                  </a:lnTo>
                  <a:lnTo>
                    <a:pt x="3276" y="2000"/>
                  </a:lnTo>
                  <a:lnTo>
                    <a:pt x="3319" y="1983"/>
                  </a:lnTo>
                  <a:lnTo>
                    <a:pt x="3364" y="1966"/>
                  </a:lnTo>
                  <a:lnTo>
                    <a:pt x="3405" y="1948"/>
                  </a:lnTo>
                  <a:lnTo>
                    <a:pt x="3448" y="1928"/>
                  </a:lnTo>
                  <a:lnTo>
                    <a:pt x="3490" y="1906"/>
                  </a:lnTo>
                  <a:lnTo>
                    <a:pt x="3531" y="1884"/>
                  </a:lnTo>
                  <a:lnTo>
                    <a:pt x="3571" y="1861"/>
                  </a:lnTo>
                  <a:lnTo>
                    <a:pt x="3611" y="1838"/>
                  </a:lnTo>
                  <a:lnTo>
                    <a:pt x="3651" y="1814"/>
                  </a:lnTo>
                  <a:lnTo>
                    <a:pt x="3690" y="1789"/>
                  </a:lnTo>
                  <a:lnTo>
                    <a:pt x="3728" y="1761"/>
                  </a:lnTo>
                  <a:lnTo>
                    <a:pt x="3765" y="1735"/>
                  </a:lnTo>
                  <a:lnTo>
                    <a:pt x="3802" y="1707"/>
                  </a:lnTo>
                  <a:lnTo>
                    <a:pt x="3838" y="1678"/>
                  </a:lnTo>
                  <a:lnTo>
                    <a:pt x="3873" y="1647"/>
                  </a:lnTo>
                  <a:lnTo>
                    <a:pt x="3907" y="1617"/>
                  </a:lnTo>
                  <a:lnTo>
                    <a:pt x="3941" y="1586"/>
                  </a:lnTo>
                  <a:lnTo>
                    <a:pt x="3975" y="1553"/>
                  </a:lnTo>
                  <a:lnTo>
                    <a:pt x="4007" y="1521"/>
                  </a:lnTo>
                  <a:lnTo>
                    <a:pt x="4038" y="1487"/>
                  </a:lnTo>
                  <a:lnTo>
                    <a:pt x="4069" y="1452"/>
                  </a:lnTo>
                  <a:lnTo>
                    <a:pt x="4098" y="1416"/>
                  </a:lnTo>
                  <a:lnTo>
                    <a:pt x="4127" y="1381"/>
                  </a:lnTo>
                  <a:lnTo>
                    <a:pt x="4155" y="1344"/>
                  </a:lnTo>
                  <a:lnTo>
                    <a:pt x="4182" y="1307"/>
                  </a:lnTo>
                  <a:lnTo>
                    <a:pt x="4209" y="1269"/>
                  </a:lnTo>
                  <a:lnTo>
                    <a:pt x="4235" y="1230"/>
                  </a:lnTo>
                  <a:lnTo>
                    <a:pt x="4259" y="1190"/>
                  </a:lnTo>
                  <a:lnTo>
                    <a:pt x="4283" y="1150"/>
                  </a:lnTo>
                  <a:lnTo>
                    <a:pt x="4306" y="1110"/>
                  </a:lnTo>
                  <a:lnTo>
                    <a:pt x="4327" y="1068"/>
                  </a:lnTo>
                  <a:lnTo>
                    <a:pt x="4347" y="1027"/>
                  </a:lnTo>
                  <a:lnTo>
                    <a:pt x="4367" y="985"/>
                  </a:lnTo>
                  <a:lnTo>
                    <a:pt x="4386" y="942"/>
                  </a:lnTo>
                  <a:lnTo>
                    <a:pt x="4404" y="899"/>
                  </a:lnTo>
                  <a:lnTo>
                    <a:pt x="4421" y="854"/>
                  </a:lnTo>
                  <a:lnTo>
                    <a:pt x="4436" y="810"/>
                  </a:lnTo>
                  <a:lnTo>
                    <a:pt x="4450" y="765"/>
                  </a:lnTo>
                  <a:lnTo>
                    <a:pt x="4464" y="720"/>
                  </a:lnTo>
                  <a:lnTo>
                    <a:pt x="4476" y="674"/>
                  </a:lnTo>
                  <a:lnTo>
                    <a:pt x="4489" y="628"/>
                  </a:lnTo>
                  <a:lnTo>
                    <a:pt x="4498" y="580"/>
                  </a:lnTo>
                  <a:lnTo>
                    <a:pt x="4507" y="534"/>
                  </a:lnTo>
                  <a:lnTo>
                    <a:pt x="4515" y="486"/>
                  </a:lnTo>
                  <a:lnTo>
                    <a:pt x="4523" y="439"/>
                  </a:lnTo>
                  <a:lnTo>
                    <a:pt x="4527" y="389"/>
                  </a:lnTo>
                  <a:lnTo>
                    <a:pt x="4532" y="342"/>
                  </a:lnTo>
                  <a:lnTo>
                    <a:pt x="4535" y="292"/>
                  </a:lnTo>
                  <a:lnTo>
                    <a:pt x="4536" y="243"/>
                  </a:lnTo>
                  <a:lnTo>
                    <a:pt x="4538" y="194"/>
                  </a:lnTo>
                  <a:lnTo>
                    <a:pt x="4538" y="194"/>
                  </a:lnTo>
                  <a:lnTo>
                    <a:pt x="4536" y="146"/>
                  </a:lnTo>
                  <a:lnTo>
                    <a:pt x="4535" y="100"/>
                  </a:lnTo>
                  <a:lnTo>
                    <a:pt x="4532" y="54"/>
                  </a:lnTo>
                  <a:lnTo>
                    <a:pt x="4529" y="7"/>
                  </a:lnTo>
                  <a:lnTo>
                    <a:pt x="4834" y="185"/>
                  </a:lnTo>
                  <a:lnTo>
                    <a:pt x="5095" y="34"/>
                  </a:lnTo>
                  <a:lnTo>
                    <a:pt x="5095" y="34"/>
                  </a:lnTo>
                  <a:lnTo>
                    <a:pt x="5098" y="112"/>
                  </a:lnTo>
                  <a:lnTo>
                    <a:pt x="5100" y="194"/>
                  </a:lnTo>
                  <a:lnTo>
                    <a:pt x="5100" y="1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 rot="5400000">
              <a:off x="4053240" y="2110320"/>
              <a:ext cx="2071440" cy="975600"/>
            </a:xfrm>
            <a:custGeom>
              <a:avLst/>
              <a:gdLst>
                <a:gd name="textAreaLeft" fmla="*/ 0 w 2071440"/>
                <a:gd name="textAreaRight" fmla="*/ 2071800 w 207144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5131" h="2417">
                  <a:moveTo>
                    <a:pt x="5131" y="2171"/>
                  </a:moveTo>
                  <a:lnTo>
                    <a:pt x="4976" y="2262"/>
                  </a:lnTo>
                  <a:lnTo>
                    <a:pt x="4705" y="2417"/>
                  </a:lnTo>
                  <a:lnTo>
                    <a:pt x="4280" y="2171"/>
                  </a:lnTo>
                  <a:lnTo>
                    <a:pt x="4383" y="2171"/>
                  </a:lnTo>
                  <a:lnTo>
                    <a:pt x="4383" y="2171"/>
                  </a:lnTo>
                  <a:lnTo>
                    <a:pt x="4375" y="2130"/>
                  </a:lnTo>
                  <a:lnTo>
                    <a:pt x="4367" y="2086"/>
                  </a:lnTo>
                  <a:lnTo>
                    <a:pt x="4358" y="2045"/>
                  </a:lnTo>
                  <a:lnTo>
                    <a:pt x="4347" y="2003"/>
                  </a:lnTo>
                  <a:lnTo>
                    <a:pt x="4337" y="1962"/>
                  </a:lnTo>
                  <a:lnTo>
                    <a:pt x="4324" y="1922"/>
                  </a:lnTo>
                  <a:lnTo>
                    <a:pt x="4311" y="1880"/>
                  </a:lnTo>
                  <a:lnTo>
                    <a:pt x="4298" y="1840"/>
                  </a:lnTo>
                  <a:lnTo>
                    <a:pt x="4283" y="1802"/>
                  </a:lnTo>
                  <a:lnTo>
                    <a:pt x="4267" y="1762"/>
                  </a:lnTo>
                  <a:lnTo>
                    <a:pt x="4250" y="1723"/>
                  </a:lnTo>
                  <a:lnTo>
                    <a:pt x="4234" y="1685"/>
                  </a:lnTo>
                  <a:lnTo>
                    <a:pt x="4197" y="1609"/>
                  </a:lnTo>
                  <a:lnTo>
                    <a:pt x="4158" y="1535"/>
                  </a:lnTo>
                  <a:lnTo>
                    <a:pt x="4115" y="1463"/>
                  </a:lnTo>
                  <a:lnTo>
                    <a:pt x="4069" y="1394"/>
                  </a:lnTo>
                  <a:lnTo>
                    <a:pt x="4020" y="1327"/>
                  </a:lnTo>
                  <a:lnTo>
                    <a:pt x="3969" y="1261"/>
                  </a:lnTo>
                  <a:lnTo>
                    <a:pt x="3915" y="1198"/>
                  </a:lnTo>
                  <a:lnTo>
                    <a:pt x="3858" y="1138"/>
                  </a:lnTo>
                  <a:lnTo>
                    <a:pt x="3798" y="1079"/>
                  </a:lnTo>
                  <a:lnTo>
                    <a:pt x="3736" y="1024"/>
                  </a:lnTo>
                  <a:lnTo>
                    <a:pt x="3672" y="972"/>
                  </a:lnTo>
                  <a:lnTo>
                    <a:pt x="3605" y="922"/>
                  </a:lnTo>
                  <a:lnTo>
                    <a:pt x="3536" y="875"/>
                  </a:lnTo>
                  <a:lnTo>
                    <a:pt x="3465" y="831"/>
                  </a:lnTo>
                  <a:lnTo>
                    <a:pt x="3393" y="790"/>
                  </a:lnTo>
                  <a:lnTo>
                    <a:pt x="3319" y="751"/>
                  </a:lnTo>
                  <a:lnTo>
                    <a:pt x="3281" y="734"/>
                  </a:lnTo>
                  <a:lnTo>
                    <a:pt x="3242" y="718"/>
                  </a:lnTo>
                  <a:lnTo>
                    <a:pt x="3204" y="701"/>
                  </a:lnTo>
                  <a:lnTo>
                    <a:pt x="3164" y="685"/>
                  </a:lnTo>
                  <a:lnTo>
                    <a:pt x="3124" y="671"/>
                  </a:lnTo>
                  <a:lnTo>
                    <a:pt x="3084" y="657"/>
                  </a:lnTo>
                  <a:lnTo>
                    <a:pt x="3044" y="645"/>
                  </a:lnTo>
                  <a:lnTo>
                    <a:pt x="3002" y="633"/>
                  </a:lnTo>
                  <a:lnTo>
                    <a:pt x="2960" y="622"/>
                  </a:lnTo>
                  <a:lnTo>
                    <a:pt x="2919" y="611"/>
                  </a:lnTo>
                  <a:lnTo>
                    <a:pt x="2877" y="602"/>
                  </a:lnTo>
                  <a:lnTo>
                    <a:pt x="2834" y="594"/>
                  </a:lnTo>
                  <a:lnTo>
                    <a:pt x="2793" y="587"/>
                  </a:lnTo>
                  <a:lnTo>
                    <a:pt x="2750" y="581"/>
                  </a:lnTo>
                  <a:lnTo>
                    <a:pt x="2707" y="574"/>
                  </a:lnTo>
                  <a:lnTo>
                    <a:pt x="2662" y="570"/>
                  </a:lnTo>
                  <a:lnTo>
                    <a:pt x="2619" y="567"/>
                  </a:lnTo>
                  <a:lnTo>
                    <a:pt x="2574" y="564"/>
                  </a:lnTo>
                  <a:lnTo>
                    <a:pt x="2529" y="564"/>
                  </a:lnTo>
                  <a:lnTo>
                    <a:pt x="2485" y="562"/>
                  </a:lnTo>
                  <a:lnTo>
                    <a:pt x="2485" y="562"/>
                  </a:lnTo>
                  <a:lnTo>
                    <a:pt x="2437" y="564"/>
                  </a:lnTo>
                  <a:lnTo>
                    <a:pt x="2389" y="565"/>
                  </a:lnTo>
                  <a:lnTo>
                    <a:pt x="2342" y="568"/>
                  </a:lnTo>
                  <a:lnTo>
                    <a:pt x="2294" y="571"/>
                  </a:lnTo>
                  <a:lnTo>
                    <a:pt x="2248" y="577"/>
                  </a:lnTo>
                  <a:lnTo>
                    <a:pt x="2202" y="584"/>
                  </a:lnTo>
                  <a:lnTo>
                    <a:pt x="2155" y="590"/>
                  </a:lnTo>
                  <a:lnTo>
                    <a:pt x="2109" y="599"/>
                  </a:lnTo>
                  <a:lnTo>
                    <a:pt x="2065" y="608"/>
                  </a:lnTo>
                  <a:lnTo>
                    <a:pt x="2018" y="619"/>
                  </a:lnTo>
                  <a:lnTo>
                    <a:pt x="1975" y="631"/>
                  </a:lnTo>
                  <a:lnTo>
                    <a:pt x="1931" y="644"/>
                  </a:lnTo>
                  <a:lnTo>
                    <a:pt x="1886" y="657"/>
                  </a:lnTo>
                  <a:lnTo>
                    <a:pt x="1843" y="671"/>
                  </a:lnTo>
                  <a:lnTo>
                    <a:pt x="1801" y="688"/>
                  </a:lnTo>
                  <a:lnTo>
                    <a:pt x="1758" y="704"/>
                  </a:lnTo>
                  <a:lnTo>
                    <a:pt x="1717" y="722"/>
                  </a:lnTo>
                  <a:lnTo>
                    <a:pt x="1675" y="741"/>
                  </a:lnTo>
                  <a:lnTo>
                    <a:pt x="1635" y="761"/>
                  </a:lnTo>
                  <a:lnTo>
                    <a:pt x="1595" y="781"/>
                  </a:lnTo>
                  <a:lnTo>
                    <a:pt x="1555" y="802"/>
                  </a:lnTo>
                  <a:lnTo>
                    <a:pt x="1515" y="824"/>
                  </a:lnTo>
                  <a:lnTo>
                    <a:pt x="1477" y="847"/>
                  </a:lnTo>
                  <a:lnTo>
                    <a:pt x="1440" y="872"/>
                  </a:lnTo>
                  <a:lnTo>
                    <a:pt x="1401" y="896"/>
                  </a:lnTo>
                  <a:lnTo>
                    <a:pt x="1366" y="922"/>
                  </a:lnTo>
                  <a:lnTo>
                    <a:pt x="1329" y="949"/>
                  </a:lnTo>
                  <a:lnTo>
                    <a:pt x="1293" y="976"/>
                  </a:lnTo>
                  <a:lnTo>
                    <a:pt x="1260" y="1004"/>
                  </a:lnTo>
                  <a:lnTo>
                    <a:pt x="1224" y="1033"/>
                  </a:lnTo>
                  <a:lnTo>
                    <a:pt x="1192" y="1062"/>
                  </a:lnTo>
                  <a:lnTo>
                    <a:pt x="1159" y="1093"/>
                  </a:lnTo>
                  <a:lnTo>
                    <a:pt x="1127" y="1124"/>
                  </a:lnTo>
                  <a:lnTo>
                    <a:pt x="1095" y="1156"/>
                  </a:lnTo>
                  <a:lnTo>
                    <a:pt x="1066" y="1189"/>
                  </a:lnTo>
                  <a:lnTo>
                    <a:pt x="1035" y="1223"/>
                  </a:lnTo>
                  <a:lnTo>
                    <a:pt x="1006" y="1256"/>
                  </a:lnTo>
                  <a:lnTo>
                    <a:pt x="978" y="1292"/>
                  </a:lnTo>
                  <a:lnTo>
                    <a:pt x="950" y="1327"/>
                  </a:lnTo>
                  <a:lnTo>
                    <a:pt x="924" y="1363"/>
                  </a:lnTo>
                  <a:lnTo>
                    <a:pt x="898" y="1400"/>
                  </a:lnTo>
                  <a:lnTo>
                    <a:pt x="873" y="1437"/>
                  </a:lnTo>
                  <a:lnTo>
                    <a:pt x="848" y="1475"/>
                  </a:lnTo>
                  <a:lnTo>
                    <a:pt x="825" y="1514"/>
                  </a:lnTo>
                  <a:lnTo>
                    <a:pt x="804" y="1552"/>
                  </a:lnTo>
                  <a:lnTo>
                    <a:pt x="782" y="1592"/>
                  </a:lnTo>
                  <a:lnTo>
                    <a:pt x="762" y="1632"/>
                  </a:lnTo>
                  <a:lnTo>
                    <a:pt x="742" y="1672"/>
                  </a:lnTo>
                  <a:lnTo>
                    <a:pt x="724" y="1714"/>
                  </a:lnTo>
                  <a:lnTo>
                    <a:pt x="705" y="1755"/>
                  </a:lnTo>
                  <a:lnTo>
                    <a:pt x="688" y="1798"/>
                  </a:lnTo>
                  <a:lnTo>
                    <a:pt x="673" y="1840"/>
                  </a:lnTo>
                  <a:lnTo>
                    <a:pt x="658" y="1883"/>
                  </a:lnTo>
                  <a:lnTo>
                    <a:pt x="644" y="1928"/>
                  </a:lnTo>
                  <a:lnTo>
                    <a:pt x="631" y="1971"/>
                  </a:lnTo>
                  <a:lnTo>
                    <a:pt x="619" y="2016"/>
                  </a:lnTo>
                  <a:lnTo>
                    <a:pt x="610" y="2060"/>
                  </a:lnTo>
                  <a:lnTo>
                    <a:pt x="599" y="2106"/>
                  </a:lnTo>
                  <a:lnTo>
                    <a:pt x="591" y="2153"/>
                  </a:lnTo>
                  <a:lnTo>
                    <a:pt x="584" y="2199"/>
                  </a:lnTo>
                  <a:lnTo>
                    <a:pt x="578" y="2245"/>
                  </a:lnTo>
                  <a:lnTo>
                    <a:pt x="571" y="2291"/>
                  </a:lnTo>
                  <a:lnTo>
                    <a:pt x="568" y="2339"/>
                  </a:lnTo>
                  <a:lnTo>
                    <a:pt x="565" y="2387"/>
                  </a:lnTo>
                  <a:lnTo>
                    <a:pt x="296" y="2231"/>
                  </a:lnTo>
                  <a:lnTo>
                    <a:pt x="0" y="2402"/>
                  </a:lnTo>
                  <a:lnTo>
                    <a:pt x="0" y="2402"/>
                  </a:lnTo>
                  <a:lnTo>
                    <a:pt x="3" y="2339"/>
                  </a:lnTo>
                  <a:lnTo>
                    <a:pt x="8" y="2277"/>
                  </a:lnTo>
                  <a:lnTo>
                    <a:pt x="14" y="2216"/>
                  </a:lnTo>
                  <a:lnTo>
                    <a:pt x="22" y="2154"/>
                  </a:lnTo>
                  <a:lnTo>
                    <a:pt x="30" y="2094"/>
                  </a:lnTo>
                  <a:lnTo>
                    <a:pt x="40" y="2034"/>
                  </a:lnTo>
                  <a:lnTo>
                    <a:pt x="53" y="1974"/>
                  </a:lnTo>
                  <a:lnTo>
                    <a:pt x="65" y="1916"/>
                  </a:lnTo>
                  <a:lnTo>
                    <a:pt x="80" y="1857"/>
                  </a:lnTo>
                  <a:lnTo>
                    <a:pt x="96" y="1798"/>
                  </a:lnTo>
                  <a:lnTo>
                    <a:pt x="113" y="1742"/>
                  </a:lnTo>
                  <a:lnTo>
                    <a:pt x="131" y="1685"/>
                  </a:lnTo>
                  <a:lnTo>
                    <a:pt x="151" y="1628"/>
                  </a:lnTo>
                  <a:lnTo>
                    <a:pt x="173" y="1572"/>
                  </a:lnTo>
                  <a:lnTo>
                    <a:pt x="196" y="1518"/>
                  </a:lnTo>
                  <a:lnTo>
                    <a:pt x="219" y="1463"/>
                  </a:lnTo>
                  <a:lnTo>
                    <a:pt x="244" y="1410"/>
                  </a:lnTo>
                  <a:lnTo>
                    <a:pt x="270" y="1357"/>
                  </a:lnTo>
                  <a:lnTo>
                    <a:pt x="297" y="1304"/>
                  </a:lnTo>
                  <a:lnTo>
                    <a:pt x="327" y="1253"/>
                  </a:lnTo>
                  <a:lnTo>
                    <a:pt x="356" y="1203"/>
                  </a:lnTo>
                  <a:lnTo>
                    <a:pt x="387" y="1153"/>
                  </a:lnTo>
                  <a:lnTo>
                    <a:pt x="419" y="1104"/>
                  </a:lnTo>
                  <a:lnTo>
                    <a:pt x="451" y="1055"/>
                  </a:lnTo>
                  <a:lnTo>
                    <a:pt x="487" y="1007"/>
                  </a:lnTo>
                  <a:lnTo>
                    <a:pt x="522" y="961"/>
                  </a:lnTo>
                  <a:lnTo>
                    <a:pt x="558" y="915"/>
                  </a:lnTo>
                  <a:lnTo>
                    <a:pt x="596" y="870"/>
                  </a:lnTo>
                  <a:lnTo>
                    <a:pt x="635" y="827"/>
                  </a:lnTo>
                  <a:lnTo>
                    <a:pt x="673" y="784"/>
                  </a:lnTo>
                  <a:lnTo>
                    <a:pt x="715" y="741"/>
                  </a:lnTo>
                  <a:lnTo>
                    <a:pt x="756" y="701"/>
                  </a:lnTo>
                  <a:lnTo>
                    <a:pt x="798" y="661"/>
                  </a:lnTo>
                  <a:lnTo>
                    <a:pt x="841" y="621"/>
                  </a:lnTo>
                  <a:lnTo>
                    <a:pt x="885" y="582"/>
                  </a:lnTo>
                  <a:lnTo>
                    <a:pt x="932" y="545"/>
                  </a:lnTo>
                  <a:lnTo>
                    <a:pt x="976" y="510"/>
                  </a:lnTo>
                  <a:lnTo>
                    <a:pt x="1024" y="474"/>
                  </a:lnTo>
                  <a:lnTo>
                    <a:pt x="1072" y="440"/>
                  </a:lnTo>
                  <a:lnTo>
                    <a:pt x="1119" y="408"/>
                  </a:lnTo>
                  <a:lnTo>
                    <a:pt x="1170" y="376"/>
                  </a:lnTo>
                  <a:lnTo>
                    <a:pt x="1219" y="345"/>
                  </a:lnTo>
                  <a:lnTo>
                    <a:pt x="1270" y="316"/>
                  </a:lnTo>
                  <a:lnTo>
                    <a:pt x="1323" y="288"/>
                  </a:lnTo>
                  <a:lnTo>
                    <a:pt x="1375" y="260"/>
                  </a:lnTo>
                  <a:lnTo>
                    <a:pt x="1427" y="236"/>
                  </a:lnTo>
                  <a:lnTo>
                    <a:pt x="1481" y="211"/>
                  </a:lnTo>
                  <a:lnTo>
                    <a:pt x="1537" y="188"/>
                  </a:lnTo>
                  <a:lnTo>
                    <a:pt x="1592" y="165"/>
                  </a:lnTo>
                  <a:lnTo>
                    <a:pt x="1647" y="145"/>
                  </a:lnTo>
                  <a:lnTo>
                    <a:pt x="1703" y="125"/>
                  </a:lnTo>
                  <a:lnTo>
                    <a:pt x="1760" y="106"/>
                  </a:lnTo>
                  <a:lnTo>
                    <a:pt x="1818" y="91"/>
                  </a:lnTo>
                  <a:lnTo>
                    <a:pt x="1877" y="75"/>
                  </a:lnTo>
                  <a:lnTo>
                    <a:pt x="1935" y="60"/>
                  </a:lnTo>
                  <a:lnTo>
                    <a:pt x="1994" y="48"/>
                  </a:lnTo>
                  <a:lnTo>
                    <a:pt x="2054" y="37"/>
                  </a:lnTo>
                  <a:lnTo>
                    <a:pt x="2114" y="28"/>
                  </a:lnTo>
                  <a:lnTo>
                    <a:pt x="2175" y="18"/>
                  </a:lnTo>
                  <a:lnTo>
                    <a:pt x="2237" y="12"/>
                  </a:lnTo>
                  <a:lnTo>
                    <a:pt x="2299" y="6"/>
                  </a:lnTo>
                  <a:lnTo>
                    <a:pt x="2360" y="3"/>
                  </a:lnTo>
                  <a:lnTo>
                    <a:pt x="2422" y="0"/>
                  </a:lnTo>
                  <a:lnTo>
                    <a:pt x="2485" y="0"/>
                  </a:lnTo>
                  <a:lnTo>
                    <a:pt x="2485" y="0"/>
                  </a:lnTo>
                  <a:lnTo>
                    <a:pt x="2545" y="0"/>
                  </a:lnTo>
                  <a:lnTo>
                    <a:pt x="2603" y="3"/>
                  </a:lnTo>
                  <a:lnTo>
                    <a:pt x="2662" y="6"/>
                  </a:lnTo>
                  <a:lnTo>
                    <a:pt x="2720" y="11"/>
                  </a:lnTo>
                  <a:lnTo>
                    <a:pt x="2777" y="17"/>
                  </a:lnTo>
                  <a:lnTo>
                    <a:pt x="2834" y="25"/>
                  </a:lnTo>
                  <a:lnTo>
                    <a:pt x="2891" y="32"/>
                  </a:lnTo>
                  <a:lnTo>
                    <a:pt x="2948" y="43"/>
                  </a:lnTo>
                  <a:lnTo>
                    <a:pt x="3005" y="54"/>
                  </a:lnTo>
                  <a:lnTo>
                    <a:pt x="3061" y="66"/>
                  </a:lnTo>
                  <a:lnTo>
                    <a:pt x="3116" y="80"/>
                  </a:lnTo>
                  <a:lnTo>
                    <a:pt x="3170" y="95"/>
                  </a:lnTo>
                  <a:lnTo>
                    <a:pt x="3224" y="111"/>
                  </a:lnTo>
                  <a:lnTo>
                    <a:pt x="3278" y="129"/>
                  </a:lnTo>
                  <a:lnTo>
                    <a:pt x="3330" y="148"/>
                  </a:lnTo>
                  <a:lnTo>
                    <a:pt x="3384" y="166"/>
                  </a:lnTo>
                  <a:lnTo>
                    <a:pt x="3435" y="188"/>
                  </a:lnTo>
                  <a:lnTo>
                    <a:pt x="3487" y="209"/>
                  </a:lnTo>
                  <a:lnTo>
                    <a:pt x="3538" y="233"/>
                  </a:lnTo>
                  <a:lnTo>
                    <a:pt x="3587" y="257"/>
                  </a:lnTo>
                  <a:lnTo>
                    <a:pt x="3636" y="282"/>
                  </a:lnTo>
                  <a:lnTo>
                    <a:pt x="3686" y="308"/>
                  </a:lnTo>
                  <a:lnTo>
                    <a:pt x="3733" y="336"/>
                  </a:lnTo>
                  <a:lnTo>
                    <a:pt x="3781" y="363"/>
                  </a:lnTo>
                  <a:lnTo>
                    <a:pt x="3829" y="393"/>
                  </a:lnTo>
                  <a:lnTo>
                    <a:pt x="3875" y="423"/>
                  </a:lnTo>
                  <a:lnTo>
                    <a:pt x="3920" y="456"/>
                  </a:lnTo>
                  <a:lnTo>
                    <a:pt x="3964" y="488"/>
                  </a:lnTo>
                  <a:lnTo>
                    <a:pt x="4009" y="520"/>
                  </a:lnTo>
                  <a:lnTo>
                    <a:pt x="4052" y="556"/>
                  </a:lnTo>
                  <a:lnTo>
                    <a:pt x="4093" y="590"/>
                  </a:lnTo>
                  <a:lnTo>
                    <a:pt x="4135" y="627"/>
                  </a:lnTo>
                  <a:lnTo>
                    <a:pt x="4177" y="664"/>
                  </a:lnTo>
                  <a:lnTo>
                    <a:pt x="4217" y="701"/>
                  </a:lnTo>
                  <a:lnTo>
                    <a:pt x="4255" y="741"/>
                  </a:lnTo>
                  <a:lnTo>
                    <a:pt x="4294" y="779"/>
                  </a:lnTo>
                  <a:lnTo>
                    <a:pt x="4331" y="821"/>
                  </a:lnTo>
                  <a:lnTo>
                    <a:pt x="4367" y="861"/>
                  </a:lnTo>
                  <a:lnTo>
                    <a:pt x="4403" y="904"/>
                  </a:lnTo>
                  <a:lnTo>
                    <a:pt x="4437" y="947"/>
                  </a:lnTo>
                  <a:lnTo>
                    <a:pt x="4471" y="990"/>
                  </a:lnTo>
                  <a:lnTo>
                    <a:pt x="4503" y="1035"/>
                  </a:lnTo>
                  <a:lnTo>
                    <a:pt x="4535" y="1079"/>
                  </a:lnTo>
                  <a:lnTo>
                    <a:pt x="4566" y="1126"/>
                  </a:lnTo>
                  <a:lnTo>
                    <a:pt x="4595" y="1172"/>
                  </a:lnTo>
                  <a:lnTo>
                    <a:pt x="4625" y="1220"/>
                  </a:lnTo>
                  <a:lnTo>
                    <a:pt x="4652" y="1267"/>
                  </a:lnTo>
                  <a:lnTo>
                    <a:pt x="4678" y="1315"/>
                  </a:lnTo>
                  <a:lnTo>
                    <a:pt x="4705" y="1364"/>
                  </a:lnTo>
                  <a:lnTo>
                    <a:pt x="4729" y="1415"/>
                  </a:lnTo>
                  <a:lnTo>
                    <a:pt x="4752" y="1466"/>
                  </a:lnTo>
                  <a:lnTo>
                    <a:pt x="4775" y="1517"/>
                  </a:lnTo>
                  <a:lnTo>
                    <a:pt x="4797" y="1568"/>
                  </a:lnTo>
                  <a:lnTo>
                    <a:pt x="4817" y="1620"/>
                  </a:lnTo>
                  <a:lnTo>
                    <a:pt x="4835" y="1674"/>
                  </a:lnTo>
                  <a:lnTo>
                    <a:pt x="4852" y="1726"/>
                  </a:lnTo>
                  <a:lnTo>
                    <a:pt x="4869" y="1780"/>
                  </a:lnTo>
                  <a:lnTo>
                    <a:pt x="4885" y="1835"/>
                  </a:lnTo>
                  <a:lnTo>
                    <a:pt x="4899" y="1891"/>
                  </a:lnTo>
                  <a:lnTo>
                    <a:pt x="4912" y="1946"/>
                  </a:lnTo>
                  <a:lnTo>
                    <a:pt x="4923" y="2002"/>
                  </a:lnTo>
                  <a:lnTo>
                    <a:pt x="4934" y="2057"/>
                  </a:lnTo>
                  <a:lnTo>
                    <a:pt x="4943" y="2114"/>
                  </a:lnTo>
                  <a:lnTo>
                    <a:pt x="4951" y="2171"/>
                  </a:lnTo>
                  <a:lnTo>
                    <a:pt x="5131" y="21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25"/>
          <p:cNvSpPr/>
          <p:nvPr/>
        </p:nvSpPr>
        <p:spPr>
          <a:xfrm>
            <a:off x="250920" y="21366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6"/>
          <p:cNvSpPr/>
          <p:nvPr/>
        </p:nvSpPr>
        <p:spPr>
          <a:xfrm>
            <a:off x="6732720" y="657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7"/>
          <p:cNvSpPr/>
          <p:nvPr/>
        </p:nvSpPr>
        <p:spPr>
          <a:xfrm>
            <a:off x="6732720" y="34354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3856680" y="23875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36160" y="46483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33:00Z</dcterms:created>
  <dc:creator>PresentationBundle.com</dc:creator>
  <dc:description/>
  <dc:language>en-US</dc:language>
  <cp:lastModifiedBy>PresentationBundle.com</cp:lastModifiedBy>
  <dcterms:modified xsi:type="dcterms:W3CDTF">2015-01-08T03:51:37Z</dcterms:modified>
  <cp:revision>21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