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64D9492-8627-4B1E-BA88-E5AB3C490B5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9600" y="3428640"/>
            <a:ext cx="705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ffffff"/>
                </a:solidFill>
                <a:latin typeface="Arial"/>
              </a:rPr>
              <a:t>Insert the title of your </a:t>
            </a:r>
            <a:br>
              <a:rPr sz="3000"/>
            </a:br>
            <a:r>
              <a:rPr b="1" sz="3000" spc="-1" strike="noStrike">
                <a:solidFill>
                  <a:srgbClr val="ffffff"/>
                </a:solidFill>
                <a:latin typeface="Arial"/>
              </a:rPr>
              <a:t>presentation he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09600" y="4592520"/>
            <a:ext cx="708336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Enter your subtitle or main author‘s nam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" name="Rectangle 2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"/>
            <p:cNvSpPr/>
            <p:nvPr/>
          </p:nvSpPr>
          <p:spPr>
            <a:xfrm>
              <a:off x="461880" y="726840"/>
              <a:ext cx="8539200" cy="50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Feel free to use this PowerPoint template and background for your personal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educational and business presentation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a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py for backups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on your harddrive or local net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Use the free templates for your presentations and project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int hand outs or other promotional item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Link back to our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if you like our free design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Display screenshots of our templates on your website or blog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should provide a link to our website – no dow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load purpos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</a:rPr>
                <a:t>Please feel free to contact us, if you do have any questions about usag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a50021"/>
                  </a:solidFill>
                  <a:latin typeface="Arial"/>
                </a:rPr>
                <a:t>Don‘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Resell or distribute the templates or background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it available on a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, portal or social network website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for download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Incl. groups, file sharing networks, Slideshare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Edit or modify the downloaded templates and claim / pass off as your own 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ll copyright and intellectual property rights, without limitation, are retained b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esentationLoad.com. By downloading and using this template, you agree to this statemen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4"/>
            <p:cNvSpPr/>
            <p:nvPr/>
          </p:nvSpPr>
          <p:spPr>
            <a:xfrm>
              <a:off x="459720" y="288720"/>
              <a:ext cx="22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Copyright not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897560" y="63244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40505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Jennifer</cp:lastModifiedBy>
  <dcterms:modified xsi:type="dcterms:W3CDTF">2015-01-09T02:56:45Z</dcterms:modified>
  <cp:revision>68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