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7CC-F987-4CAA-B92C-40D34FBC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4BD-8D4D-4ECA-A80E-799531A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8C6-7CB0-43BC-B94D-6E2C2A1E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230-F4A5-48C3-B55B-3D4089B0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B6E6-DA4C-48FE-B79D-92774908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569-D755-4890-BB95-CFE2BB2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957-81E9-422D-BF89-BB86231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4B20-C7CC-4C2E-BEC6-CA148A8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BC4-23B0-4BEF-80CF-16E77E1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725-4BDA-44EC-AC91-D47F96E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F24-F638-449C-9D85-0E2DEF4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49F-E7A3-4BD4-9B1B-EB30393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BA9-2E10-408A-BEB3-20862CC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326-6D76-4601-9F96-F056DC7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E9DF-21EB-460F-A1EB-2D50B29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ECFD-3A90-4DC6-92CF-C5BF13FE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C369-4293-482D-B298-0A89929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F25-D230-4632-B6EE-ABF12D30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24F-1420-4F8B-B35E-A707FF41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95E-72B0-483A-9C5F-C403B9D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EA8-2300-4CCC-A548-4AE7917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4E5-AF79-4C4C-BC59-5D7B82A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446-36A5-4EFE-964E-F0982A0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1DA-D347-4410-B299-BCBBF1B9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4211640" cy="256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43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17CD-D9D7-4EA1-B132-915386A0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D948-B029-4AFF-AC62-7949C3A3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幻灯片通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06:39Z</dcterms:created>
  <dc:creator/>
  <dc:description/>
  <dc:language>en-US</dc:language>
  <cp:lastModifiedBy>zht</cp:lastModifiedBy>
  <dcterms:modified xsi:type="dcterms:W3CDTF">2015-01-08T13:04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