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gif" ContentType="image/gif"/>
  <Override PartName="/ppt/media/image2.jpeg" ContentType="image/jpeg"/>
  <Override PartName="/ppt/media/image3.jpeg" ContentType="image/jpeg"/>
  <Override PartName="/ppt/media/image4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EC13A-7FA5-4B33-BDBA-AAC28F4F0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60D21-486F-4A54-A635-913E668D2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B7DB7-C6AA-4F58-8224-00F7EFFFD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23736-1A49-48A0-8E32-5B4366DBE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0D3E6-6984-4FF5-8FD4-9474D7484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B9EEB-5E5C-48BB-968D-D4A18D591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425AD-E1EA-4326-A60C-12492E7B2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122D2-E897-4639-AE51-C7DA854B3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943CB-5024-401B-96F4-252060FE2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4C0F8-3E36-455C-B620-DB70A759E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37F88-53C3-4AC7-BB8F-71BA99838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BA31A-1EBB-49CE-8D4F-9F3013DBB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8B697-4DC9-43FC-A570-DACA5E221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A9A5B-3508-4028-8705-CAB7C7CB3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1580C-E71F-4CDE-9756-437379452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24390-E215-4DAD-BF87-114FDD5D4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51638-A793-44ED-B4FE-0D4229135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42C654-6C2D-4761-B496-00B26CAE9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177B38-BD01-426B-A94B-F0DCBB5EB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3893EA-03ED-42C3-9B31-A616787BD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E88CFD-065A-4E69-AFD6-9B19013DC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4F007B-299B-4B6E-97A5-D0AD935EE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D46EC-0BEB-47BA-A564-8304F09EC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8B4D8C-1FF4-408A-A832-A2696DE4D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874E84-85FD-4058-BB0E-C5F36B5CD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6B85A6-C6A4-48DD-9E3C-0585CB98C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8BFD77-9A2A-4755-85D1-073CDBD18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00474A-B101-4A6D-8F34-9AE133AEF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0EC310-66D0-4356-BF05-14CE2D90F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E60923-924F-4083-98E6-161449E65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55B3B-58BD-4257-9B7F-4AAEB3682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AE7CE-B0D7-4B77-8566-D49C373AD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FA07F-8436-4768-9008-4A8B47CD7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439F1-8D01-4C23-9499-E8AF5ECD6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07AF0-2EEE-4E7F-89C1-9408CE753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B1449-35FA-4C54-AF05-63E1B74AE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F8FB1-3D9D-4B62-A16F-820955F1F2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2124000" y="0"/>
            <a:ext cx="534348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40787-2C6B-47BF-9DBA-BB2B0D2CA8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4360" y="1483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68BB5-23FD-47E5-95BA-E0E7D6A740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未知"/>
          <p:cNvSpPr/>
          <p:nvPr/>
        </p:nvSpPr>
        <p:spPr>
          <a:xfrm>
            <a:off x="108000" y="6845400"/>
            <a:ext cx="25200" cy="360"/>
          </a:xfrm>
          <a:custGeom>
            <a:avLst/>
            <a:gdLst/>
            <a:ahLst/>
            <a:rect l="l" t="t" r="r" b="b"/>
            <a:pathLst>
              <a:path w="4" h="0">
                <a:moveTo>
                  <a:pt x="0" y="0"/>
                </a:moveTo>
                <a:lnTo>
                  <a:pt x="4" y="0"/>
                </a:lnTo>
              </a:path>
            </a:pathLst>
          </a:custGeom>
          <a:solidFill>
            <a:srgbClr val="ffffff"/>
          </a:solidFill>
          <a:ln cap="sq" w="228600">
            <a:solidFill>
              <a:srgbClr val="ff9900">
                <a:alpha val="29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008120" y="638172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使用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两种使用方法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、可以直接打印出来给儿童当学画画的涂色卡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、稍大点的孩子可以用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WPS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演示的荧光笔工具学习鼠绘。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[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使用方法：进入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F5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点击左下角的荧光笔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66240" y="6165720"/>
            <a:ext cx="56332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华文新魏"/>
                <a:ea typeface="华文新魏"/>
                <a:hlinkClick r:id="rId2"/>
              </a:rPr>
              <a:t>PPT之家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整理发布，更多免费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PPT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29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0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2T19:49:33Z</dcterms:created>
  <dc:creator/>
  <dc:description/>
  <dc:language>en-US</dc:language>
  <cp:lastModifiedBy/>
  <dcterms:modified xsi:type="dcterms:W3CDTF">2015-01-08T07:18:19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