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DF5E5-EDD8-4EB8-84BD-7C057389F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6EA5-2757-421E-B2F6-0B2A71A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59F2-8D72-4FCD-B9C9-EFD1974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596F-663B-4B0E-B959-D543FDEC7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6376-86A4-4A04-9957-DAB1415C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F769A-8229-4402-BF2A-0A41896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B249-B179-417A-A237-DEBDC3C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18AA-ED41-4525-BDFD-5FF5DA75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4CE1-C57E-40DB-8E72-FAE619A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D2706-C03B-49CA-B859-A387A680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0774-155D-4269-8840-A17337E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1324-BDF7-4FC8-92C4-2F60DE7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0A4E2-C3D3-4027-8406-3D69BFC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8588-4527-49FD-BBCC-78BBEF7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27EEF-9F61-4117-9536-F3CE7D54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E4F66-8365-495F-A473-15578764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3CC16-6923-4455-BFA8-A81A2121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79F5-073B-46D9-B402-B6B49DC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6D98-7DCF-4AF9-99A7-389BBA99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03AD-9FA8-475A-8E84-04847C55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B480-8BA3-4E27-8247-843B738F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C405-B35A-48D4-B52A-F8B0012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2CCA-EA30-44D6-8EF6-15BFBF91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4C09-57A9-4316-8118-5F8C7937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5D58-2D28-4D76-8806-45F597C70C87}" type="datetime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E49-814B-46EA-A4B6-12C5ABFE7ECD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3213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3538-038C-49DE-A296-9120BAD124B2}" type="datetime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993-297F-4002-902D-B188FB16CCB8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71640" y="3718080"/>
            <a:ext cx="697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F9D9-E841-4D5C-B652-551F4789D3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C2D60-8D7D-4E44-AC96-B3E14E0FBA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8998-9570-49F4-8D75-EEB90235CC2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C9252-CD9D-419B-8B8A-9FA452E1E8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95640" y="3114720"/>
            <a:ext cx="471312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2296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A400-3E3D-4D5B-A658-7BBC35DB734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6C0E9-DDD2-43E5-A74D-045C6E7DA7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1:49Z</dcterms:created>
  <dc:creator>微软中国</dc:creator>
  <dc:description/>
  <dc:language>en-US</dc:language>
  <cp:lastModifiedBy>微软中国</cp:lastModifiedBy>
  <cp:lastPrinted>1899-12-30T00:00:00Z</cp:lastPrinted>
  <dcterms:modified xsi:type="dcterms:W3CDTF">2014-05-15T06:51:2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