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34F-FD81-45CE-BB68-5A17D20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C7F-EF86-407B-8C07-F770B31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7C9-091F-4313-8500-43B4FC0B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8FF-DB3D-4C48-8FF8-B59522FC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2C9-90B0-4B1D-A128-77E47CD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B1D-0298-47E9-A4EE-1A7A5326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32A-84DA-4D57-945B-24D33D3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8FE-FDC5-4EBA-AA8C-A4DC57E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02680"/>
            <a:ext cx="835344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CA6-E137-4B26-9D55-9D6DC78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090-6295-4FFA-8E10-F693927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31F-F89B-4D80-AB1A-3924824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EAF-E81F-463B-85AD-ACCD53B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5A91-11F0-4674-9300-154FC10C5CBA}" type="datetime">
              <a: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FC5-E990-4A04-80BE-22735568BCD9}" type="slidenum">
              <a: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同侧圆角矩形 3"/>
          <p:cNvSpPr/>
          <p:nvPr/>
        </p:nvSpPr>
        <p:spPr>
          <a:xfrm>
            <a:off x="139680" y="1773360"/>
            <a:ext cx="8856720" cy="2087280"/>
          </a:xfrm>
          <a:custGeom>
            <a:avLst/>
            <a:gdLst>
              <a:gd name="textAreaLeft" fmla="*/ 0 w 8856720"/>
              <a:gd name="textAreaRight" fmla="*/ 8857080 w 885672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13948" h="3287">
                <a:moveTo>
                  <a:pt x="0" y="0"/>
                </a:moveTo>
                <a:lnTo>
                  <a:pt x="13948" y="0"/>
                </a:lnTo>
                <a:lnTo>
                  <a:pt x="13948" y="0"/>
                </a:lnTo>
                <a:arcTo wR="0" hR="0" stAng="0" swAng="0"/>
                <a:lnTo>
                  <a:pt x="13948" y="3287"/>
                </a:lnTo>
                <a:lnTo>
                  <a:pt x="13948" y="3287"/>
                </a:lnTo>
                <a:arcTo wR="0" hR="0" stAng="0" swAng="0"/>
                <a:lnTo>
                  <a:pt x="0" y="3287"/>
                </a:lnTo>
                <a:lnTo>
                  <a:pt x="0" y="3287"/>
                </a:lnTo>
                <a:arcTo wR="0" hR="0" stAng="0" swAng="0"/>
                <a:lnTo>
                  <a:pt x="0" y="0"/>
                </a:lnTo>
                <a:lnTo>
                  <a:pt x="0" y="0"/>
                </a:lnTo>
                <a:arcTo wR="0" hR="0" stAng="0" swAng="0"/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264960" y="1773360"/>
            <a:ext cx="203400" cy="2087280"/>
          </a:xfrm>
          <a:prstGeom prst="rect">
            <a:avLst/>
          </a:prstGeom>
          <a:gradFill rotWithShape="0">
            <a:gsLst>
              <a:gs pos="0">
                <a:srgbClr val="747445"/>
              </a:gs>
              <a:gs pos="50000">
                <a:srgbClr val="ffff99"/>
              </a:gs>
              <a:gs pos="100000">
                <a:srgbClr val="7474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39680" y="3855960"/>
            <a:ext cx="8856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2185920" y="6381720"/>
            <a:ext cx="63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公司版权所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884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看的蓝色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815920"/>
            <a:ext cx="77752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主题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"/>
          <p:cNvSpPr/>
          <p:nvPr/>
        </p:nvSpPr>
        <p:spPr>
          <a:xfrm>
            <a:off x="-820800" y="60944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2:14:00Z</dcterms:created>
  <dc:creator>我爱PPT官方网 - 中文演示设计平台 www.lioveppt.org; User</dc:creator>
  <dc:description>我爱PPT官方网 - 中文演示设计平台 www.lioveppt.org</dc:description>
  <cp:keywords>我爱PPT官方网 - 中文演示设计平台 www.lioveppt.org</cp:keywords>
  <dc:language>en-US</dc:language>
  <cp:lastModifiedBy>User</cp:lastModifiedBy>
  <dcterms:modified xsi:type="dcterms:W3CDTF">2015-01-07T09:28:15Z</dcterms:modified>
  <cp:revision>633</cp:revision>
  <dc:subject>通用纹理</dc:subject>
  <dc:title>我爱PPT官方网 - 中文演示设计平台 www.li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