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AB7-98E4-4BFD-A1CA-D57D5F08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041-6F27-4BAB-A15D-DEFA9F2A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488-5AF9-4FFB-9291-84021557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868-9FEC-4641-B01F-74D59368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9CC-6E64-4A46-93A7-7FEB0841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230-60C9-45D9-830F-F1EC5CFB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2E1-2B7D-4CA8-9091-32171855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0CA-14BD-42CD-85AA-8880835F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1FB-643A-4357-AC71-9E31E4E0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6C2-CABA-455A-979C-0BF6CB90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2E2-4ECC-4842-93AF-AA990AD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E26-0605-4352-BF87-8A07A5FD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3632-616B-4FF6-8216-8B47D46576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inky_he\桌面\图片1.png"/>
          <p:cNvPicPr/>
          <p:nvPr/>
        </p:nvPicPr>
        <p:blipFill>
          <a:blip r:embed="rId2"/>
          <a:srcRect l="0" t="0" r="5336" b="87399"/>
          <a:stretch/>
        </p:blipFill>
        <p:spPr>
          <a:xfrm>
            <a:off x="-789120" y="6215040"/>
            <a:ext cx="1015380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inky_he\桌面\图片1.png"/>
          <p:cNvPicPr/>
          <p:nvPr/>
        </p:nvPicPr>
        <p:blipFill>
          <a:blip r:embed="rId3"/>
          <a:srcRect l="-5616" t="1347" r="-1068" b="-10440"/>
          <a:stretch/>
        </p:blipFill>
        <p:spPr>
          <a:xfrm>
            <a:off x="-789120" y="-473040"/>
            <a:ext cx="1040148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平行四边形 4"/>
          <p:cNvSpPr/>
          <p:nvPr/>
        </p:nvSpPr>
        <p:spPr>
          <a:xfrm rot="8071800">
            <a:off x="743040" y="1830960"/>
            <a:ext cx="608040" cy="3593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平行四边形 5"/>
          <p:cNvSpPr/>
          <p:nvPr/>
        </p:nvSpPr>
        <p:spPr>
          <a:xfrm rot="8100600">
            <a:off x="1021680" y="1011240"/>
            <a:ext cx="608040" cy="4572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平行四边形 7"/>
          <p:cNvSpPr/>
          <p:nvPr/>
        </p:nvSpPr>
        <p:spPr>
          <a:xfrm rot="8113200">
            <a:off x="1382400" y="248760"/>
            <a:ext cx="608040" cy="54784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平行四边形 8"/>
          <p:cNvSpPr/>
          <p:nvPr/>
        </p:nvSpPr>
        <p:spPr>
          <a:xfrm rot="8032800">
            <a:off x="398160" y="2533320"/>
            <a:ext cx="608040" cy="2801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平行四边形 9"/>
          <p:cNvSpPr/>
          <p:nvPr/>
        </p:nvSpPr>
        <p:spPr>
          <a:xfrm rot="7980000">
            <a:off x="29520" y="3219840"/>
            <a:ext cx="607680" cy="19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平行四边形 10"/>
          <p:cNvSpPr/>
          <p:nvPr/>
        </p:nvSpPr>
        <p:spPr>
          <a:xfrm rot="7749000">
            <a:off x="-280080" y="4004280"/>
            <a:ext cx="606240" cy="10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平行四边形 11"/>
          <p:cNvSpPr/>
          <p:nvPr/>
        </p:nvSpPr>
        <p:spPr>
          <a:xfrm rot="8136000">
            <a:off x="1689840" y="-480960"/>
            <a:ext cx="608040" cy="62942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平行四边形 12"/>
          <p:cNvSpPr/>
          <p:nvPr/>
        </p:nvSpPr>
        <p:spPr>
          <a:xfrm rot="8140200">
            <a:off x="2093040" y="-1030320"/>
            <a:ext cx="608040" cy="69008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平行四边形 13"/>
          <p:cNvSpPr/>
          <p:nvPr/>
        </p:nvSpPr>
        <p:spPr>
          <a:xfrm rot="8136000">
            <a:off x="2666520" y="-115416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平行四边形 14"/>
          <p:cNvSpPr/>
          <p:nvPr/>
        </p:nvSpPr>
        <p:spPr>
          <a:xfrm rot="8140200">
            <a:off x="3322440" y="-1090440"/>
            <a:ext cx="607680" cy="69721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平行四边形 15"/>
          <p:cNvSpPr/>
          <p:nvPr/>
        </p:nvSpPr>
        <p:spPr>
          <a:xfrm rot="8136000">
            <a:off x="3965040" y="-110484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平行四边形 16"/>
          <p:cNvSpPr/>
          <p:nvPr/>
        </p:nvSpPr>
        <p:spPr>
          <a:xfrm rot="8140200">
            <a:off x="4545720" y="-1090440"/>
            <a:ext cx="608040" cy="69721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平行四边形 17"/>
          <p:cNvSpPr/>
          <p:nvPr/>
        </p:nvSpPr>
        <p:spPr>
          <a:xfrm rot="8136000">
            <a:off x="5189040" y="-110484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平行四边形 18"/>
          <p:cNvSpPr/>
          <p:nvPr/>
        </p:nvSpPr>
        <p:spPr>
          <a:xfrm rot="8140200">
            <a:off x="5769720" y="-1090440"/>
            <a:ext cx="608040" cy="69721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平行四边形 19"/>
          <p:cNvSpPr/>
          <p:nvPr/>
        </p:nvSpPr>
        <p:spPr>
          <a:xfrm rot="8136000">
            <a:off x="6370200" y="-115560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平行四边形 20"/>
          <p:cNvSpPr/>
          <p:nvPr/>
        </p:nvSpPr>
        <p:spPr>
          <a:xfrm rot="2699400">
            <a:off x="7716600" y="-534600"/>
            <a:ext cx="608040" cy="32353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平行四边形 21"/>
          <p:cNvSpPr/>
          <p:nvPr/>
        </p:nvSpPr>
        <p:spPr>
          <a:xfrm rot="2694000">
            <a:off x="7988040" y="-164880"/>
            <a:ext cx="608040" cy="32353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平行四边形 22"/>
          <p:cNvSpPr/>
          <p:nvPr/>
        </p:nvSpPr>
        <p:spPr>
          <a:xfrm rot="2699400">
            <a:off x="8259480" y="293760"/>
            <a:ext cx="608040" cy="30607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平行四边形 23"/>
          <p:cNvSpPr/>
          <p:nvPr/>
        </p:nvSpPr>
        <p:spPr>
          <a:xfrm rot="2694000">
            <a:off x="8513280" y="774720"/>
            <a:ext cx="608040" cy="2879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平行四边形 24"/>
          <p:cNvSpPr/>
          <p:nvPr/>
        </p:nvSpPr>
        <p:spPr>
          <a:xfrm rot="2609400">
            <a:off x="8558280" y="1709640"/>
            <a:ext cx="609480" cy="21607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平行四边形 25"/>
          <p:cNvSpPr/>
          <p:nvPr/>
        </p:nvSpPr>
        <p:spPr>
          <a:xfrm rot="2596800">
            <a:off x="8718120" y="2363400"/>
            <a:ext cx="608040" cy="18003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平行四边形 26"/>
          <p:cNvSpPr/>
          <p:nvPr/>
        </p:nvSpPr>
        <p:spPr>
          <a:xfrm rot="2536800">
            <a:off x="8937360" y="2984040"/>
            <a:ext cx="608040" cy="1440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平行四边形 27"/>
          <p:cNvSpPr/>
          <p:nvPr/>
        </p:nvSpPr>
        <p:spPr>
          <a:xfrm rot="2526600">
            <a:off x="9010440" y="3935160"/>
            <a:ext cx="576000" cy="718920"/>
          </a:xfrm>
          <a:prstGeom prst="parallelogram">
            <a:avLst>
              <a:gd name="adj" fmla="val 15324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平行四边形 30"/>
          <p:cNvSpPr/>
          <p:nvPr/>
        </p:nvSpPr>
        <p:spPr>
          <a:xfrm rot="2694000">
            <a:off x="7308360" y="-732960"/>
            <a:ext cx="608040" cy="3105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平行四边形 31"/>
          <p:cNvSpPr/>
          <p:nvPr/>
        </p:nvSpPr>
        <p:spPr>
          <a:xfrm rot="2634000">
            <a:off x="6808320" y="-631800"/>
            <a:ext cx="608040" cy="25527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平行四边形 32"/>
          <p:cNvSpPr/>
          <p:nvPr/>
        </p:nvSpPr>
        <p:spPr>
          <a:xfrm rot="2596800">
            <a:off x="6289200" y="-563400"/>
            <a:ext cx="609840" cy="2098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平行四边形 33"/>
          <p:cNvSpPr/>
          <p:nvPr/>
        </p:nvSpPr>
        <p:spPr>
          <a:xfrm rot="2443800">
            <a:off x="5757480" y="-374400"/>
            <a:ext cx="608040" cy="14353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平行四边形 35"/>
          <p:cNvSpPr/>
          <p:nvPr/>
        </p:nvSpPr>
        <p:spPr>
          <a:xfrm rot="2418000">
            <a:off x="5329080" y="-501120"/>
            <a:ext cx="608040" cy="1225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平行四边形 37"/>
          <p:cNvSpPr/>
          <p:nvPr/>
        </p:nvSpPr>
        <p:spPr>
          <a:xfrm rot="2296800">
            <a:off x="4906800" y="-491760"/>
            <a:ext cx="608040" cy="7938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0" y="4440240"/>
            <a:ext cx="9144000" cy="2422440"/>
          </a:xfrm>
          <a:prstGeom prst="rect">
            <a:avLst/>
          </a:prstGeom>
          <a:solidFill>
            <a:srgbClr val="424b5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8"/>
          <p:cNvSpPr/>
          <p:nvPr/>
        </p:nvSpPr>
        <p:spPr>
          <a:xfrm>
            <a:off x="2397240" y="4941720"/>
            <a:ext cx="56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准圆简体"/>
                <a:ea typeface="方正准圆简体"/>
              </a:rPr>
              <a:t>黄绿</a:t>
            </a:r>
            <a:r>
              <a:rPr b="1" lang="zh-CN" sz="4000" spc="-1" strike="noStrike">
                <a:solidFill>
                  <a:srgbClr val="ffffff"/>
                </a:solidFill>
                <a:latin typeface="方正准圆简体"/>
                <a:ea typeface="方正准圆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方正准圆简体"/>
                <a:ea typeface="方正准圆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5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5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5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25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75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25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75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平行四边形 4"/>
          <p:cNvSpPr/>
          <p:nvPr/>
        </p:nvSpPr>
        <p:spPr>
          <a:xfrm rot="8071800">
            <a:off x="743040" y="6163200"/>
            <a:ext cx="608040" cy="3593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平行四边形 5"/>
          <p:cNvSpPr/>
          <p:nvPr/>
        </p:nvSpPr>
        <p:spPr>
          <a:xfrm rot="8100600">
            <a:off x="1021680" y="5343480"/>
            <a:ext cx="608040" cy="4572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平行四边形 7"/>
          <p:cNvSpPr/>
          <p:nvPr/>
        </p:nvSpPr>
        <p:spPr>
          <a:xfrm rot="8113200">
            <a:off x="1382400" y="4579560"/>
            <a:ext cx="608040" cy="54784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平行四边形 8"/>
          <p:cNvSpPr/>
          <p:nvPr/>
        </p:nvSpPr>
        <p:spPr>
          <a:xfrm rot="8032800">
            <a:off x="398160" y="6864120"/>
            <a:ext cx="608040" cy="2801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平行四边形 9"/>
          <p:cNvSpPr/>
          <p:nvPr/>
        </p:nvSpPr>
        <p:spPr>
          <a:xfrm rot="7980000">
            <a:off x="29160" y="7552080"/>
            <a:ext cx="608040" cy="19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平行四边形 10"/>
          <p:cNvSpPr/>
          <p:nvPr/>
        </p:nvSpPr>
        <p:spPr>
          <a:xfrm rot="7749000">
            <a:off x="-280800" y="8337240"/>
            <a:ext cx="608040" cy="10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平行四边形 11"/>
          <p:cNvSpPr/>
          <p:nvPr/>
        </p:nvSpPr>
        <p:spPr>
          <a:xfrm rot="8136000">
            <a:off x="1690200" y="3844440"/>
            <a:ext cx="608040" cy="6301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平行四边形 12"/>
          <p:cNvSpPr/>
          <p:nvPr/>
        </p:nvSpPr>
        <p:spPr>
          <a:xfrm rot="8140200">
            <a:off x="2093040" y="3296880"/>
            <a:ext cx="608040" cy="6904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平行四边形 13"/>
          <p:cNvSpPr/>
          <p:nvPr/>
        </p:nvSpPr>
        <p:spPr>
          <a:xfrm rot="8136000">
            <a:off x="2666520" y="3171960"/>
            <a:ext cx="608040" cy="70372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平行四边形 14"/>
          <p:cNvSpPr/>
          <p:nvPr/>
        </p:nvSpPr>
        <p:spPr>
          <a:xfrm rot="8140200">
            <a:off x="3322440" y="3234960"/>
            <a:ext cx="607680" cy="69771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平行四边形 15"/>
          <p:cNvSpPr/>
          <p:nvPr/>
        </p:nvSpPr>
        <p:spPr>
          <a:xfrm rot="8136000">
            <a:off x="3965040" y="3220560"/>
            <a:ext cx="608040" cy="7037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平行四边形 16"/>
          <p:cNvSpPr/>
          <p:nvPr/>
        </p:nvSpPr>
        <p:spPr>
          <a:xfrm rot="8140200">
            <a:off x="4545720" y="3234960"/>
            <a:ext cx="608040" cy="69771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平行四边形 17"/>
          <p:cNvSpPr/>
          <p:nvPr/>
        </p:nvSpPr>
        <p:spPr>
          <a:xfrm rot="8136000">
            <a:off x="5189040" y="3220560"/>
            <a:ext cx="608040" cy="7037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平行四边形 18"/>
          <p:cNvSpPr/>
          <p:nvPr/>
        </p:nvSpPr>
        <p:spPr>
          <a:xfrm rot="8140200">
            <a:off x="5769720" y="3234960"/>
            <a:ext cx="608040" cy="69771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平行四边形 19"/>
          <p:cNvSpPr/>
          <p:nvPr/>
        </p:nvSpPr>
        <p:spPr>
          <a:xfrm rot="8136000">
            <a:off x="6370200" y="3169800"/>
            <a:ext cx="608040" cy="7037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平行四边形 20"/>
          <p:cNvSpPr/>
          <p:nvPr/>
        </p:nvSpPr>
        <p:spPr>
          <a:xfrm rot="2699400">
            <a:off x="7716960" y="3792600"/>
            <a:ext cx="608040" cy="3240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平行四边形 21"/>
          <p:cNvSpPr/>
          <p:nvPr/>
        </p:nvSpPr>
        <p:spPr>
          <a:xfrm rot="2694000">
            <a:off x="7988040" y="4162320"/>
            <a:ext cx="608040" cy="32385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平行四边形 22"/>
          <p:cNvSpPr/>
          <p:nvPr/>
        </p:nvSpPr>
        <p:spPr>
          <a:xfrm rot="2699400">
            <a:off x="8259480" y="4624560"/>
            <a:ext cx="608040" cy="30603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平行四边形 23"/>
          <p:cNvSpPr/>
          <p:nvPr/>
        </p:nvSpPr>
        <p:spPr>
          <a:xfrm rot="2694000">
            <a:off x="8513280" y="5105520"/>
            <a:ext cx="608040" cy="2881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平行四边形 24"/>
          <p:cNvSpPr/>
          <p:nvPr/>
        </p:nvSpPr>
        <p:spPr>
          <a:xfrm rot="2609400">
            <a:off x="8557920" y="6041880"/>
            <a:ext cx="609480" cy="21592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平行四边形 25"/>
          <p:cNvSpPr/>
          <p:nvPr/>
        </p:nvSpPr>
        <p:spPr>
          <a:xfrm rot="2596800">
            <a:off x="8718120" y="6696000"/>
            <a:ext cx="608040" cy="17985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平行四边形 26"/>
          <p:cNvSpPr/>
          <p:nvPr/>
        </p:nvSpPr>
        <p:spPr>
          <a:xfrm rot="2536800">
            <a:off x="8937360" y="7314840"/>
            <a:ext cx="608040" cy="1440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平行四边形 27"/>
          <p:cNvSpPr/>
          <p:nvPr/>
        </p:nvSpPr>
        <p:spPr>
          <a:xfrm rot="2526600">
            <a:off x="9010800" y="8265960"/>
            <a:ext cx="576000" cy="720720"/>
          </a:xfrm>
          <a:prstGeom prst="parallelogram">
            <a:avLst>
              <a:gd name="adj" fmla="val 15324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平行四边形 30"/>
          <p:cNvSpPr/>
          <p:nvPr/>
        </p:nvSpPr>
        <p:spPr>
          <a:xfrm rot="2694000">
            <a:off x="7308360" y="3594240"/>
            <a:ext cx="608040" cy="31082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平行四边形 31"/>
          <p:cNvSpPr/>
          <p:nvPr/>
        </p:nvSpPr>
        <p:spPr>
          <a:xfrm rot="2634000">
            <a:off x="6808680" y="3693600"/>
            <a:ext cx="608040" cy="2557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平行四边形 32"/>
          <p:cNvSpPr/>
          <p:nvPr/>
        </p:nvSpPr>
        <p:spPr>
          <a:xfrm rot="2596800">
            <a:off x="6289200" y="3762360"/>
            <a:ext cx="609840" cy="21034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平行四边形 33"/>
          <p:cNvSpPr/>
          <p:nvPr/>
        </p:nvSpPr>
        <p:spPr>
          <a:xfrm rot="2443800">
            <a:off x="5757480" y="3981240"/>
            <a:ext cx="608040" cy="1439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平行四边形 35"/>
          <p:cNvSpPr/>
          <p:nvPr/>
        </p:nvSpPr>
        <p:spPr>
          <a:xfrm rot="2418000">
            <a:off x="5328720" y="3855960"/>
            <a:ext cx="608040" cy="12286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平行四边形 37"/>
          <p:cNvSpPr/>
          <p:nvPr/>
        </p:nvSpPr>
        <p:spPr>
          <a:xfrm rot="2296800">
            <a:off x="4925520" y="3897360"/>
            <a:ext cx="608040" cy="7398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-3240" y="2205000"/>
            <a:ext cx="9153720" cy="2160720"/>
          </a:xfrm>
          <a:prstGeom prst="rect">
            <a:avLst/>
          </a:prstGeom>
          <a:solidFill>
            <a:srgbClr val="424b5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8"/>
          <p:cNvSpPr/>
          <p:nvPr/>
        </p:nvSpPr>
        <p:spPr>
          <a:xfrm>
            <a:off x="3403440" y="2754360"/>
            <a:ext cx="31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谢 谢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1627560" y="60325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5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5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75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25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5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2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25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2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75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25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500"/>
                            </p:stCondLst>
                            <p:childTnLst>
                              <p:par>
                                <p:cTn id="5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750"/>
                            </p:stCondLst>
                            <p:childTnLst>
                              <p:par>
                                <p:cTn id="5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25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11"/>
          <p:cNvSpPr/>
          <p:nvPr/>
        </p:nvSpPr>
        <p:spPr>
          <a:xfrm>
            <a:off x="-103320" y="-42840"/>
            <a:ext cx="5538960" cy="6908760"/>
          </a:xfrm>
          <a:custGeom>
            <a:avLst/>
            <a:gdLst>
              <a:gd name="textAreaLeft" fmla="*/ 0 w 5538960"/>
              <a:gd name="textAreaRight" fmla="*/ 5539320 w 5538960"/>
              <a:gd name="textAreaTop" fmla="*/ 0 h 6908760"/>
              <a:gd name="textAreaBottom" fmla="*/ 6909120 h 6908760"/>
            </a:gdLst>
            <a:ahLst/>
            <a:rect l="textAreaLeft" t="textAreaTop" r="textAreaRight" b="textAreaBottom"/>
            <a:pathLst>
              <a:path w="5879" h="4354">
                <a:moveTo>
                  <a:pt x="0" y="0"/>
                </a:moveTo>
                <a:cubicBezTo>
                  <a:pt x="0" y="0"/>
                  <a:pt x="1701" y="0"/>
                  <a:pt x="3402" y="0"/>
                </a:cubicBezTo>
                <a:cubicBezTo>
                  <a:pt x="5879" y="1733"/>
                  <a:pt x="5307" y="4354"/>
                  <a:pt x="5307" y="4354"/>
                </a:cubicBezTo>
                <a:lnTo>
                  <a:pt x="0" y="4354"/>
                </a:lnTo>
                <a:lnTo>
                  <a:pt x="0" y="0"/>
                </a:lnTo>
                <a:close/>
              </a:path>
            </a:pathLst>
          </a:custGeom>
          <a:solidFill>
            <a:srgbClr val="424b5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10"/>
          <p:cNvSpPr/>
          <p:nvPr/>
        </p:nvSpPr>
        <p:spPr>
          <a:xfrm>
            <a:off x="-103320" y="-73080"/>
            <a:ext cx="4746600" cy="6958080"/>
          </a:xfrm>
          <a:custGeom>
            <a:avLst/>
            <a:gdLst>
              <a:gd name="textAreaLeft" fmla="*/ 0 w 4746600"/>
              <a:gd name="textAreaRight" fmla="*/ 4746600 w 4746600"/>
              <a:gd name="textAreaTop" fmla="*/ 0 h 6958080"/>
              <a:gd name="textAreaBottom" fmla="*/ 6958440 h 6958080"/>
            </a:gdLst>
            <a:ahLst/>
            <a:rect l="textAreaLeft" t="textAreaTop" r="textAreaRight" b="textAreaBottom"/>
            <a:pathLst>
              <a:path w="6071" h="4354">
                <a:moveTo>
                  <a:pt x="0" y="0"/>
                </a:moveTo>
                <a:cubicBezTo>
                  <a:pt x="0" y="0"/>
                  <a:pt x="1996" y="0"/>
                  <a:pt x="3992" y="0"/>
                </a:cubicBezTo>
                <a:cubicBezTo>
                  <a:pt x="6071" y="1949"/>
                  <a:pt x="5534" y="4354"/>
                  <a:pt x="5534" y="4354"/>
                </a:cubicBezTo>
                <a:lnTo>
                  <a:pt x="0" y="43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1e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:\Documents and Settings\inky_he\桌面\图片1.png"/>
          <p:cNvPicPr/>
          <p:nvPr/>
        </p:nvPicPr>
        <p:blipFill>
          <a:blip r:embed="rId1"/>
          <a:stretch/>
        </p:blipFill>
        <p:spPr>
          <a:xfrm>
            <a:off x="-34920" y="-361800"/>
            <a:ext cx="4030560" cy="7462800"/>
          </a:xfrm>
          <a:prstGeom prst="rect">
            <a:avLst/>
          </a:prstGeom>
          <a:ln w="0">
            <a:noFill/>
          </a:ln>
        </p:spPr>
      </p:pic>
      <p:sp>
        <p:nvSpPr>
          <p:cNvPr id="116" name="直接连接符 36"/>
          <p:cNvSpPr/>
          <p:nvPr/>
        </p:nvSpPr>
        <p:spPr>
          <a:xfrm>
            <a:off x="4430880" y="1628640"/>
            <a:ext cx="3946320" cy="0"/>
          </a:xfrm>
          <a:prstGeom prst="line">
            <a:avLst/>
          </a:prstGeom>
          <a:ln w="6480">
            <a:solidFill>
              <a:srgbClr val="4f4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39"/>
          <p:cNvSpPr/>
          <p:nvPr/>
        </p:nvSpPr>
        <p:spPr>
          <a:xfrm>
            <a:off x="4430880" y="1700280"/>
            <a:ext cx="3946320" cy="0"/>
          </a:xfrm>
          <a:prstGeom prst="line">
            <a:avLst/>
          </a:prstGeom>
          <a:ln w="57240">
            <a:solidFill>
              <a:srgbClr val="4f4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4629240" y="1044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219640" y="2313000"/>
            <a:ext cx="3517920" cy="554040"/>
            <a:chOff x="5219640" y="2313000"/>
            <a:chExt cx="3517920" cy="554040"/>
          </a:xfrm>
        </p:grpSpPr>
        <p:sp>
          <p:nvSpPr>
            <p:cNvPr id="120" name="TextBox 41"/>
            <p:cNvSpPr/>
            <p:nvPr/>
          </p:nvSpPr>
          <p:spPr>
            <a:xfrm>
              <a:off x="5833800" y="2407320"/>
              <a:ext cx="290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219640" y="2313000"/>
              <a:ext cx="737280" cy="461880"/>
              <a:chOff x="5219640" y="2313000"/>
              <a:chExt cx="737280" cy="461880"/>
            </a:xfrm>
          </p:grpSpPr>
          <p:pic>
            <p:nvPicPr>
              <p:cNvPr id="12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2313000"/>
                <a:ext cx="737280" cy="4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5482440" y="2476800"/>
                <a:ext cx="212040" cy="13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5219640" y="3191040"/>
            <a:ext cx="3517920" cy="554040"/>
            <a:chOff x="5219640" y="3191040"/>
            <a:chExt cx="3517920" cy="554040"/>
          </a:xfrm>
        </p:grpSpPr>
        <p:sp>
          <p:nvSpPr>
            <p:cNvPr id="125" name="TextBox 44"/>
            <p:cNvSpPr/>
            <p:nvPr/>
          </p:nvSpPr>
          <p:spPr>
            <a:xfrm>
              <a:off x="5833800" y="3285360"/>
              <a:ext cx="290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219640" y="3191040"/>
              <a:ext cx="737280" cy="460080"/>
              <a:chOff x="5219640" y="3191040"/>
              <a:chExt cx="737280" cy="460080"/>
            </a:xfrm>
          </p:grpSpPr>
          <p:pic>
            <p:nvPicPr>
              <p:cNvPr id="127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9640" y="3191040"/>
                <a:ext cx="73728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5482440" y="3354840"/>
                <a:ext cx="21204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5219640" y="4067280"/>
            <a:ext cx="3517920" cy="554400"/>
            <a:chOff x="5219640" y="4067280"/>
            <a:chExt cx="3517920" cy="554400"/>
          </a:xfrm>
        </p:grpSpPr>
        <p:sp>
          <p:nvSpPr>
            <p:cNvPr id="130" name="TextBox 46"/>
            <p:cNvSpPr/>
            <p:nvPr/>
          </p:nvSpPr>
          <p:spPr>
            <a:xfrm>
              <a:off x="5833800" y="4161960"/>
              <a:ext cx="290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219640" y="4067280"/>
              <a:ext cx="737280" cy="461880"/>
              <a:chOff x="5219640" y="4067280"/>
              <a:chExt cx="737280" cy="461880"/>
            </a:xfrm>
          </p:grpSpPr>
          <p:pic>
            <p:nvPicPr>
              <p:cNvPr id="132" name="椭圆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9640" y="4067280"/>
                <a:ext cx="737280" cy="4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482440" y="4231440"/>
                <a:ext cx="212040" cy="13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5219640" y="4944960"/>
            <a:ext cx="3517920" cy="554040"/>
            <a:chOff x="5219640" y="4944960"/>
            <a:chExt cx="3517920" cy="554040"/>
          </a:xfrm>
        </p:grpSpPr>
        <p:sp>
          <p:nvSpPr>
            <p:cNvPr id="135" name="TextBox 48"/>
            <p:cNvSpPr/>
            <p:nvPr/>
          </p:nvSpPr>
          <p:spPr>
            <a:xfrm>
              <a:off x="5833800" y="5039280"/>
              <a:ext cx="290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219640" y="4944960"/>
              <a:ext cx="737280" cy="462240"/>
              <a:chOff x="5219640" y="4944960"/>
              <a:chExt cx="737280" cy="462240"/>
            </a:xfrm>
          </p:grpSpPr>
          <p:pic>
            <p:nvPicPr>
              <p:cNvPr id="137" name="椭圆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9640" y="4944960"/>
                <a:ext cx="737280" cy="4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5482440" y="5109120"/>
                <a:ext cx="212040" cy="13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inky_he\桌面\图片1.png"/>
          <p:cNvPicPr/>
          <p:nvPr/>
        </p:nvPicPr>
        <p:blipFill>
          <a:blip r:embed="rId1"/>
          <a:srcRect l="0" t="0" r="5336" b="87399"/>
          <a:stretch/>
        </p:blipFill>
        <p:spPr>
          <a:xfrm>
            <a:off x="-789120" y="6237360"/>
            <a:ext cx="10153800" cy="887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4500720" y="1413000"/>
            <a:ext cx="4176720" cy="4255920"/>
            <a:chOff x="4500720" y="1413000"/>
            <a:chExt cx="4176720" cy="4255920"/>
          </a:xfrm>
        </p:grpSpPr>
        <p:sp>
          <p:nvSpPr>
            <p:cNvPr id="141" name="Rectangle 2"/>
            <p:cNvSpPr/>
            <p:nvPr/>
          </p:nvSpPr>
          <p:spPr>
            <a:xfrm>
              <a:off x="4500720" y="1419480"/>
              <a:ext cx="4176720" cy="42494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e6e6e6"/>
              </a:solidFill>
              <a:miter/>
            </a:ln>
            <a:effectLst>
              <a:outerShdw dist="17819" dir="2700000" blurRad="0" rotWithShape="0">
                <a:srgbClr val="a9a9a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4933440" y="4375440"/>
              <a:ext cx="374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Picture 2" descr="E:\PPT资料\素材\风景\large_530k95.jpg"/>
            <p:cNvPicPr/>
            <p:nvPr/>
          </p:nvPicPr>
          <p:blipFill>
            <a:blip r:embed="rId2"/>
            <a:stretch/>
          </p:blipFill>
          <p:spPr>
            <a:xfrm>
              <a:off x="5023440" y="1413000"/>
              <a:ext cx="3578400" cy="26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08000" y="1420920"/>
            <a:ext cx="4608360" cy="4248000"/>
            <a:chOff x="108000" y="1420920"/>
            <a:chExt cx="4608360" cy="4248000"/>
          </a:xfrm>
        </p:grpSpPr>
        <p:sp>
          <p:nvSpPr>
            <p:cNvPr id="145" name="Freeform 3"/>
            <p:cNvSpPr/>
            <p:nvPr/>
          </p:nvSpPr>
          <p:spPr>
            <a:xfrm>
              <a:off x="108000" y="1421280"/>
              <a:ext cx="4608360" cy="4247640"/>
            </a:xfrm>
            <a:custGeom>
              <a:avLst/>
              <a:gdLst/>
              <a:ahLst/>
              <a:rect l="l" t="t" r="r" b="b"/>
              <a:pathLst>
                <a:path w="2903" h="2495">
                  <a:moveTo>
                    <a:pt x="0" y="0"/>
                  </a:moveTo>
                  <a:lnTo>
                    <a:pt x="2676" y="0"/>
                  </a:lnTo>
                  <a:lnTo>
                    <a:pt x="2676" y="1134"/>
                  </a:lnTo>
                  <a:lnTo>
                    <a:pt x="2721" y="1134"/>
                  </a:lnTo>
                  <a:lnTo>
                    <a:pt x="2721" y="1044"/>
                  </a:lnTo>
                  <a:lnTo>
                    <a:pt x="2903" y="1225"/>
                  </a:lnTo>
                  <a:lnTo>
                    <a:pt x="2721" y="1407"/>
                  </a:lnTo>
                  <a:lnTo>
                    <a:pt x="2721" y="1361"/>
                  </a:lnTo>
                  <a:lnTo>
                    <a:pt x="2676" y="1361"/>
                  </a:lnTo>
                  <a:lnTo>
                    <a:pt x="2676" y="2495"/>
                  </a:lnTo>
                  <a:lnTo>
                    <a:pt x="0" y="249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e6e6e6"/>
              </a:solidFill>
              <a:round/>
            </a:ln>
            <a:effectLst>
              <a:outerShdw dist="17819" dir="2700000" blurRad="0" rotWithShape="0">
                <a:srgbClr val="a9a9a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68280" y="4376160"/>
              <a:ext cx="398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4" descr="E:\PPT资料\素材\风景\向日葵(1).jpg"/>
            <p:cNvPicPr/>
            <p:nvPr/>
          </p:nvPicPr>
          <p:blipFill>
            <a:blip r:embed="rId3"/>
            <a:stretch/>
          </p:blipFill>
          <p:spPr>
            <a:xfrm>
              <a:off x="396720" y="1420920"/>
              <a:ext cx="3742920" cy="267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-27000" y="3828960"/>
            <a:ext cx="3021120" cy="1571760"/>
            <a:chOff x="-27000" y="3828960"/>
            <a:chExt cx="3021120" cy="1571760"/>
          </a:xfrm>
        </p:grpSpPr>
        <p:pic>
          <p:nvPicPr>
            <p:cNvPr id="151" name="Picture 4" descr="http://pic9.nipic.com/20100901/5681441_140444004552_2.jpg"/>
            <p:cNvPicPr/>
            <p:nvPr/>
          </p:nvPicPr>
          <p:blipFill>
            <a:blip r:embed="rId1"/>
            <a:srcRect l="27990" t="12729" r="27284" b="7490"/>
            <a:stretch/>
          </p:blipFill>
          <p:spPr>
            <a:xfrm>
              <a:off x="-27000" y="4103640"/>
              <a:ext cx="1161720" cy="129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568800" y="3828960"/>
              <a:ext cx="2425320" cy="1571760"/>
              <a:chOff x="568800" y="3828960"/>
              <a:chExt cx="2425320" cy="1571760"/>
            </a:xfrm>
          </p:grpSpPr>
          <p:pic>
            <p:nvPicPr>
              <p:cNvPr id="153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983160" y="3902760"/>
                <a:ext cx="1596600" cy="149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" name=""/>
              <p:cNvGrpSpPr/>
              <p:nvPr/>
            </p:nvGrpSpPr>
            <p:grpSpPr>
              <a:xfrm>
                <a:off x="568800" y="4167720"/>
                <a:ext cx="2425320" cy="301680"/>
                <a:chOff x="568800" y="4167720"/>
                <a:chExt cx="2425320" cy="301680"/>
              </a:xfrm>
            </p:grpSpPr>
            <p:pic>
              <p:nvPicPr>
                <p:cNvPr id="155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70240" y="4167720"/>
                  <a:ext cx="2422800" cy="30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>
                  <a:off x="568800" y="4168800"/>
                  <a:ext cx="2425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方正准圆简体"/>
                      <a:ea typeface="方正准圆简体"/>
                    </a:rPr>
                    <a:t>输入文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57" name="椭圆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51360" y="3828960"/>
                <a:ext cx="1090800" cy="46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8" name=""/>
          <p:cNvGrpSpPr/>
          <p:nvPr/>
        </p:nvGrpSpPr>
        <p:grpSpPr>
          <a:xfrm>
            <a:off x="2627280" y="2620800"/>
            <a:ext cx="3027240" cy="1571760"/>
            <a:chOff x="2627280" y="2620800"/>
            <a:chExt cx="3027240" cy="1571760"/>
          </a:xfrm>
        </p:grpSpPr>
        <p:pic>
          <p:nvPicPr>
            <p:cNvPr id="159" name="Picture 4" descr="http://pic9.nipic.com/20100901/5681441_140444004552_2.jpg"/>
            <p:cNvPicPr/>
            <p:nvPr/>
          </p:nvPicPr>
          <p:blipFill>
            <a:blip r:embed="rId5"/>
            <a:srcRect l="27990" t="12729" r="27284" b="7490"/>
            <a:stretch/>
          </p:blipFill>
          <p:spPr>
            <a:xfrm>
              <a:off x="2627280" y="2887920"/>
              <a:ext cx="1163160" cy="129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3225960" y="2620800"/>
              <a:ext cx="2428560" cy="1571760"/>
              <a:chOff x="3225960" y="2620800"/>
              <a:chExt cx="2428560" cy="1571760"/>
            </a:xfrm>
          </p:grpSpPr>
          <p:pic>
            <p:nvPicPr>
              <p:cNvPr id="161" name="椭圆 6" descr=""/>
              <p:cNvPicPr/>
              <p:nvPr/>
            </p:nvPicPr>
            <p:blipFill>
              <a:blip r:embed="rId6"/>
              <a:stretch/>
            </p:blipFill>
            <p:spPr>
              <a:xfrm>
                <a:off x="3645720" y="2694600"/>
                <a:ext cx="1588680" cy="149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2" name=""/>
              <p:cNvGrpSpPr/>
              <p:nvPr/>
            </p:nvGrpSpPr>
            <p:grpSpPr>
              <a:xfrm>
                <a:off x="3225960" y="2959560"/>
                <a:ext cx="2428560" cy="301680"/>
                <a:chOff x="3225960" y="2959560"/>
                <a:chExt cx="2428560" cy="301680"/>
              </a:xfrm>
            </p:grpSpPr>
            <p:pic>
              <p:nvPicPr>
                <p:cNvPr id="163" name="TextBox 1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25960" y="2959560"/>
                  <a:ext cx="2428560" cy="301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>
                  <a:off x="3227400" y="2959920"/>
                  <a:ext cx="24253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方正准圆简体"/>
                      <a:ea typeface="方正准圆简体"/>
                    </a:rPr>
                    <a:t>输入文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65" name="椭圆 6" descr=""/>
              <p:cNvPicPr/>
              <p:nvPr/>
            </p:nvPicPr>
            <p:blipFill>
              <a:blip r:embed="rId8"/>
              <a:stretch/>
            </p:blipFill>
            <p:spPr>
              <a:xfrm>
                <a:off x="3907440" y="2620800"/>
                <a:ext cx="1089360" cy="46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6" name=""/>
          <p:cNvGrpSpPr/>
          <p:nvPr/>
        </p:nvGrpSpPr>
        <p:grpSpPr>
          <a:xfrm>
            <a:off x="5305320" y="1413000"/>
            <a:ext cx="3011760" cy="1571400"/>
            <a:chOff x="5305320" y="1413000"/>
            <a:chExt cx="3011760" cy="1571400"/>
          </a:xfrm>
        </p:grpSpPr>
        <p:pic>
          <p:nvPicPr>
            <p:cNvPr id="167" name="Picture 4" descr="http://pic9.nipic.com/20100901/5681441_140444004552_2.jpg"/>
            <p:cNvPicPr/>
            <p:nvPr/>
          </p:nvPicPr>
          <p:blipFill>
            <a:blip r:embed="rId9"/>
            <a:srcRect l="27990" t="12729" r="27284" b="7490"/>
            <a:stretch/>
          </p:blipFill>
          <p:spPr>
            <a:xfrm>
              <a:off x="5305320" y="1675800"/>
              <a:ext cx="1163880" cy="129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5887080" y="1413000"/>
              <a:ext cx="2430000" cy="1571400"/>
              <a:chOff x="5887080" y="1413000"/>
              <a:chExt cx="2430000" cy="1571400"/>
            </a:xfrm>
          </p:grpSpPr>
          <p:pic>
            <p:nvPicPr>
              <p:cNvPr id="169" name="椭圆 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2160" y="1486800"/>
                <a:ext cx="1599840" cy="149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0" name=""/>
              <p:cNvGrpSpPr/>
              <p:nvPr/>
            </p:nvGrpSpPr>
            <p:grpSpPr>
              <a:xfrm>
                <a:off x="5887080" y="1751760"/>
                <a:ext cx="2430000" cy="301680"/>
                <a:chOff x="5887080" y="1751760"/>
                <a:chExt cx="2430000" cy="301680"/>
              </a:xfrm>
            </p:grpSpPr>
            <p:pic>
              <p:nvPicPr>
                <p:cNvPr id="171" name="TextBox 1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88160" y="1751760"/>
                  <a:ext cx="2427480" cy="30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>
                  <a:off x="5887080" y="1751760"/>
                  <a:ext cx="24300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方正准圆简体"/>
                      <a:ea typeface="方正准圆简体"/>
                    </a:rPr>
                    <a:t>输入文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73" name="椭圆 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70720" y="1413000"/>
                <a:ext cx="1092960" cy="46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26920" y="2954160"/>
            <a:ext cx="16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948360" y="295416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451480" y="46832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368440" y="120348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660760" y="3095640"/>
            <a:ext cx="2144520" cy="1262160"/>
            <a:chOff x="2660760" y="3095640"/>
            <a:chExt cx="2144520" cy="1262160"/>
          </a:xfrm>
        </p:grpSpPr>
        <p:pic>
          <p:nvPicPr>
            <p:cNvPr id="180" name="平行四边形 4" descr=""/>
            <p:cNvPicPr/>
            <p:nvPr/>
          </p:nvPicPr>
          <p:blipFill>
            <a:blip r:embed="rId1"/>
            <a:stretch/>
          </p:blipFill>
          <p:spPr>
            <a:xfrm>
              <a:off x="2727360" y="3095640"/>
              <a:ext cx="193716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平行四边形 13" descr=""/>
            <p:cNvPicPr/>
            <p:nvPr/>
          </p:nvPicPr>
          <p:blipFill>
            <a:blip r:embed="rId2"/>
            <a:stretch/>
          </p:blipFill>
          <p:spPr>
            <a:xfrm>
              <a:off x="2660760" y="3277440"/>
              <a:ext cx="1007640" cy="53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14"/>
            <p:cNvSpPr/>
            <p:nvPr/>
          </p:nvSpPr>
          <p:spPr>
            <a:xfrm>
              <a:off x="2918520" y="3279960"/>
              <a:ext cx="49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6"/>
            <p:cNvSpPr/>
            <p:nvPr/>
          </p:nvSpPr>
          <p:spPr>
            <a:xfrm>
              <a:off x="3292920" y="3289320"/>
              <a:ext cx="1512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016520" y="1693800"/>
            <a:ext cx="1699920" cy="1784520"/>
            <a:chOff x="4016520" y="1693800"/>
            <a:chExt cx="1699920" cy="1784520"/>
          </a:xfrm>
        </p:grpSpPr>
        <p:grpSp>
          <p:nvGrpSpPr>
            <p:cNvPr id="185" name=""/>
            <p:cNvGrpSpPr/>
            <p:nvPr/>
          </p:nvGrpSpPr>
          <p:grpSpPr>
            <a:xfrm>
              <a:off x="4016520" y="1693800"/>
              <a:ext cx="1476720" cy="1784520"/>
              <a:chOff x="4016520" y="1693800"/>
              <a:chExt cx="1476720" cy="1784520"/>
            </a:xfrm>
          </p:grpSpPr>
          <p:pic>
            <p:nvPicPr>
              <p:cNvPr id="186" name="平行四边形 2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6520" y="1693800"/>
                <a:ext cx="1476720" cy="17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7627800">
                <a:off x="4276080" y="2202480"/>
                <a:ext cx="960840" cy="76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8" name="平行四边形 7" descr=""/>
            <p:cNvPicPr/>
            <p:nvPr/>
          </p:nvPicPr>
          <p:blipFill>
            <a:blip r:embed="rId4"/>
            <a:stretch/>
          </p:blipFill>
          <p:spPr>
            <a:xfrm>
              <a:off x="4355280" y="1708920"/>
              <a:ext cx="831240" cy="15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8"/>
            <p:cNvSpPr/>
            <p:nvPr/>
          </p:nvSpPr>
          <p:spPr>
            <a:xfrm>
              <a:off x="4548600" y="1823400"/>
              <a:ext cx="48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4230720" y="2332800"/>
              <a:ext cx="1485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010040" y="3949560"/>
            <a:ext cx="1714320" cy="1811520"/>
            <a:chOff x="4010040" y="3949560"/>
            <a:chExt cx="1714320" cy="1811520"/>
          </a:xfrm>
        </p:grpSpPr>
        <p:grpSp>
          <p:nvGrpSpPr>
            <p:cNvPr id="192" name=""/>
            <p:cNvGrpSpPr/>
            <p:nvPr/>
          </p:nvGrpSpPr>
          <p:grpSpPr>
            <a:xfrm>
              <a:off x="4010040" y="3949560"/>
              <a:ext cx="1478880" cy="1278000"/>
              <a:chOff x="4010040" y="3949560"/>
              <a:chExt cx="1478880" cy="1278000"/>
            </a:xfrm>
          </p:grpSpPr>
          <p:pic>
            <p:nvPicPr>
              <p:cNvPr id="193" name="平行四边形 3" descr=""/>
              <p:cNvPicPr/>
              <p:nvPr/>
            </p:nvPicPr>
            <p:blipFill>
              <a:blip r:embed="rId5"/>
              <a:stretch/>
            </p:blipFill>
            <p:spPr>
              <a:xfrm>
                <a:off x="4010040" y="3949560"/>
                <a:ext cx="1478880" cy="12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7627800">
                <a:off x="4405680" y="4205160"/>
                <a:ext cx="690120" cy="7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5" name="平行四边形 11" descr=""/>
            <p:cNvPicPr/>
            <p:nvPr/>
          </p:nvPicPr>
          <p:blipFill>
            <a:blip r:embed="rId6"/>
            <a:stretch/>
          </p:blipFill>
          <p:spPr>
            <a:xfrm>
              <a:off x="4349520" y="4668120"/>
              <a:ext cx="832680" cy="109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12"/>
            <p:cNvSpPr/>
            <p:nvPr/>
          </p:nvSpPr>
          <p:spPr>
            <a:xfrm>
              <a:off x="4568400" y="4813560"/>
              <a:ext cx="48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4236120" y="4354200"/>
              <a:ext cx="1488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894200" y="3095640"/>
            <a:ext cx="1817640" cy="1262160"/>
            <a:chOff x="4894200" y="3095640"/>
            <a:chExt cx="1817640" cy="1262160"/>
          </a:xfrm>
        </p:grpSpPr>
        <p:pic>
          <p:nvPicPr>
            <p:cNvPr id="199" name="平行四边形 5" descr=""/>
            <p:cNvPicPr/>
            <p:nvPr/>
          </p:nvPicPr>
          <p:blipFill>
            <a:blip r:embed="rId7"/>
            <a:stretch/>
          </p:blipFill>
          <p:spPr>
            <a:xfrm>
              <a:off x="4894200" y="3095640"/>
              <a:ext cx="173304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平行四边形 9" descr=""/>
            <p:cNvPicPr/>
            <p:nvPr/>
          </p:nvPicPr>
          <p:blipFill>
            <a:blip r:embed="rId8"/>
            <a:stretch/>
          </p:blipFill>
          <p:spPr>
            <a:xfrm>
              <a:off x="5812920" y="3277440"/>
              <a:ext cx="898920" cy="53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10"/>
            <p:cNvSpPr/>
            <p:nvPr/>
          </p:nvSpPr>
          <p:spPr>
            <a:xfrm>
              <a:off x="6120720" y="327996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5139360" y="3273840"/>
              <a:ext cx="1356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010040" y="5908680"/>
            <a:ext cx="820800" cy="276480"/>
            <a:chOff x="4010040" y="5908680"/>
            <a:chExt cx="820800" cy="276480"/>
          </a:xfrm>
        </p:grpSpPr>
        <p:grpSp>
          <p:nvGrpSpPr>
            <p:cNvPr id="206" name=""/>
            <p:cNvGrpSpPr/>
            <p:nvPr/>
          </p:nvGrpSpPr>
          <p:grpSpPr>
            <a:xfrm>
              <a:off x="4010040" y="5955840"/>
              <a:ext cx="176760" cy="182520"/>
              <a:chOff x="4010040" y="5955840"/>
              <a:chExt cx="176760" cy="182520"/>
            </a:xfrm>
          </p:grpSpPr>
          <p:pic>
            <p:nvPicPr>
              <p:cNvPr id="207" name="矩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0400" y="5955840"/>
                <a:ext cx="17424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010040" y="5955840"/>
                <a:ext cx="17676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矩形 30"/>
            <p:cNvSpPr/>
            <p:nvPr/>
          </p:nvSpPr>
          <p:spPr>
            <a:xfrm>
              <a:off x="4284360" y="5908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496200" y="5908680"/>
            <a:ext cx="840240" cy="276480"/>
            <a:chOff x="6496200" y="5908680"/>
            <a:chExt cx="840240" cy="276480"/>
          </a:xfrm>
        </p:grpSpPr>
        <p:grpSp>
          <p:nvGrpSpPr>
            <p:cNvPr id="211" name=""/>
            <p:cNvGrpSpPr/>
            <p:nvPr/>
          </p:nvGrpSpPr>
          <p:grpSpPr>
            <a:xfrm>
              <a:off x="6496200" y="5955840"/>
              <a:ext cx="177120" cy="182520"/>
              <a:chOff x="6496200" y="5955840"/>
              <a:chExt cx="177120" cy="182520"/>
            </a:xfrm>
          </p:grpSpPr>
          <p:pic>
            <p:nvPicPr>
              <p:cNvPr id="212" name="矩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5955840"/>
                <a:ext cx="17424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6496200" y="5956920"/>
                <a:ext cx="17712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矩形 31"/>
            <p:cNvSpPr/>
            <p:nvPr/>
          </p:nvSpPr>
          <p:spPr>
            <a:xfrm>
              <a:off x="6789960" y="5908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85960" y="1401840"/>
            <a:ext cx="2046240" cy="3956040"/>
            <a:chOff x="885960" y="1401840"/>
            <a:chExt cx="2046240" cy="3956040"/>
          </a:xfrm>
        </p:grpSpPr>
        <p:sp>
          <p:nvSpPr>
            <p:cNvPr id="216" name="矩形 30"/>
            <p:cNvSpPr/>
            <p:nvPr/>
          </p:nvSpPr>
          <p:spPr>
            <a:xfrm>
              <a:off x="885960" y="1401840"/>
              <a:ext cx="2046240" cy="3189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  <a:effectLst>
              <a:outerShdw dist="330197" dir="4861837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7" name="矩形 31" descr=""/>
            <p:cNvPicPr/>
            <p:nvPr/>
          </p:nvPicPr>
          <p:blipFill>
            <a:blip r:embed="rId3"/>
            <a:stretch/>
          </p:blipFill>
          <p:spPr>
            <a:xfrm>
              <a:off x="1054440" y="1770480"/>
              <a:ext cx="560880" cy="35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矩形 32" descr=""/>
            <p:cNvPicPr/>
            <p:nvPr/>
          </p:nvPicPr>
          <p:blipFill>
            <a:blip r:embed="rId4"/>
            <a:stretch/>
          </p:blipFill>
          <p:spPr>
            <a:xfrm>
              <a:off x="1639800" y="2050560"/>
              <a:ext cx="560880" cy="29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矩形 33" descr=""/>
            <p:cNvPicPr/>
            <p:nvPr/>
          </p:nvPicPr>
          <p:blipFill>
            <a:blip r:embed="rId5"/>
            <a:stretch/>
          </p:blipFill>
          <p:spPr>
            <a:xfrm>
              <a:off x="2225160" y="3210480"/>
              <a:ext cx="567000" cy="65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矩形 42"/>
            <p:cNvSpPr/>
            <p:nvPr/>
          </p:nvSpPr>
          <p:spPr>
            <a:xfrm>
              <a:off x="1127880" y="1469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42"/>
            <p:cNvSpPr/>
            <p:nvPr/>
          </p:nvSpPr>
          <p:spPr>
            <a:xfrm>
              <a:off x="1726920" y="1778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42"/>
            <p:cNvSpPr/>
            <p:nvPr/>
          </p:nvSpPr>
          <p:spPr>
            <a:xfrm>
              <a:off x="2302920" y="2920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矩形 37"/>
            <p:cNvSpPr/>
            <p:nvPr/>
          </p:nvSpPr>
          <p:spPr>
            <a:xfrm>
              <a:off x="1596240" y="4126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525680" y="5908680"/>
            <a:ext cx="825120" cy="276480"/>
            <a:chOff x="1525680" y="5908680"/>
            <a:chExt cx="825120" cy="276480"/>
          </a:xfrm>
        </p:grpSpPr>
        <p:pic>
          <p:nvPicPr>
            <p:cNvPr id="225" name="矩形 44" descr=""/>
            <p:cNvPicPr/>
            <p:nvPr/>
          </p:nvPicPr>
          <p:blipFill>
            <a:blip r:embed="rId6"/>
            <a:stretch/>
          </p:blipFill>
          <p:spPr>
            <a:xfrm>
              <a:off x="1525680" y="5936040"/>
              <a:ext cx="204120" cy="24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矩形 30"/>
            <p:cNvSpPr/>
            <p:nvPr/>
          </p:nvSpPr>
          <p:spPr>
            <a:xfrm>
              <a:off x="1804320" y="5908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864400" y="1401840"/>
            <a:ext cx="2047680" cy="3956040"/>
            <a:chOff x="5864400" y="1401840"/>
            <a:chExt cx="2047680" cy="3956040"/>
          </a:xfrm>
        </p:grpSpPr>
        <p:sp>
          <p:nvSpPr>
            <p:cNvPr id="228" name="矩形 12"/>
            <p:cNvSpPr/>
            <p:nvPr/>
          </p:nvSpPr>
          <p:spPr>
            <a:xfrm>
              <a:off x="5864400" y="1401840"/>
              <a:ext cx="2047680" cy="34880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  <a:effectLst>
              <a:outerShdw dist="330197" dir="4861837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矩形 14" descr=""/>
            <p:cNvPicPr/>
            <p:nvPr/>
          </p:nvPicPr>
          <p:blipFill>
            <a:blip r:embed="rId7"/>
            <a:stretch/>
          </p:blipFill>
          <p:spPr>
            <a:xfrm>
              <a:off x="6120360" y="3143520"/>
              <a:ext cx="56664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矩形 15" descr=""/>
            <p:cNvPicPr/>
            <p:nvPr/>
          </p:nvPicPr>
          <p:blipFill>
            <a:blip r:embed="rId8"/>
            <a:stretch/>
          </p:blipFill>
          <p:spPr>
            <a:xfrm>
              <a:off x="6736320" y="2100600"/>
              <a:ext cx="566640" cy="32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矩形 19" descr=""/>
            <p:cNvPicPr/>
            <p:nvPr/>
          </p:nvPicPr>
          <p:blipFill>
            <a:blip r:embed="rId9"/>
            <a:stretch/>
          </p:blipFill>
          <p:spPr>
            <a:xfrm>
              <a:off x="7272720" y="3777840"/>
              <a:ext cx="5666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矩形 40"/>
            <p:cNvSpPr/>
            <p:nvPr/>
          </p:nvSpPr>
          <p:spPr>
            <a:xfrm>
              <a:off x="6550560" y="4381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矩形 43"/>
            <p:cNvSpPr/>
            <p:nvPr/>
          </p:nvSpPr>
          <p:spPr>
            <a:xfrm>
              <a:off x="6222600" y="2844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矩形 46"/>
            <p:cNvSpPr/>
            <p:nvPr/>
          </p:nvSpPr>
          <p:spPr>
            <a:xfrm>
              <a:off x="6822000" y="17478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矩形 47"/>
            <p:cNvSpPr/>
            <p:nvPr/>
          </p:nvSpPr>
          <p:spPr>
            <a:xfrm>
              <a:off x="7311240" y="40147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-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400560" y="1401840"/>
            <a:ext cx="2047680" cy="3956040"/>
            <a:chOff x="3400560" y="1401840"/>
            <a:chExt cx="2047680" cy="3956040"/>
          </a:xfrm>
        </p:grpSpPr>
        <p:sp>
          <p:nvSpPr>
            <p:cNvPr id="237" name="矩形 3"/>
            <p:cNvSpPr/>
            <p:nvPr/>
          </p:nvSpPr>
          <p:spPr>
            <a:xfrm>
              <a:off x="3400560" y="1401840"/>
              <a:ext cx="2047680" cy="383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  <a:effectLst>
              <a:outerShdw dist="330197" dir="4861837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8" name="矩形 5" descr=""/>
            <p:cNvPicPr/>
            <p:nvPr/>
          </p:nvPicPr>
          <p:blipFill>
            <a:blip r:embed="rId10"/>
            <a:stretch/>
          </p:blipFill>
          <p:spPr>
            <a:xfrm>
              <a:off x="3499200" y="3507120"/>
              <a:ext cx="56052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矩形 6" descr=""/>
            <p:cNvPicPr/>
            <p:nvPr/>
          </p:nvPicPr>
          <p:blipFill>
            <a:blip r:embed="rId11"/>
            <a:stretch/>
          </p:blipFill>
          <p:spPr>
            <a:xfrm>
              <a:off x="4114800" y="2590560"/>
              <a:ext cx="566640" cy="276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矩形 7" descr=""/>
            <p:cNvPicPr/>
            <p:nvPr/>
          </p:nvPicPr>
          <p:blipFill>
            <a:blip r:embed="rId12"/>
            <a:stretch/>
          </p:blipFill>
          <p:spPr>
            <a:xfrm>
              <a:off x="4700160" y="4015800"/>
              <a:ext cx="56664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矩形 39"/>
            <p:cNvSpPr/>
            <p:nvPr/>
          </p:nvSpPr>
          <p:spPr>
            <a:xfrm>
              <a:off x="4044240" y="4680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42"/>
            <p:cNvSpPr/>
            <p:nvPr/>
          </p:nvSpPr>
          <p:spPr>
            <a:xfrm>
              <a:off x="4212000" y="2187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42"/>
            <p:cNvSpPr/>
            <p:nvPr/>
          </p:nvSpPr>
          <p:spPr>
            <a:xfrm>
              <a:off x="3582720" y="3139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48"/>
            <p:cNvSpPr/>
            <p:nvPr/>
          </p:nvSpPr>
          <p:spPr>
            <a:xfrm>
              <a:off x="4751640" y="42760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-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直接连接符 4"/>
          <p:cNvSpPr/>
          <p:nvPr/>
        </p:nvSpPr>
        <p:spPr>
          <a:xfrm flipV="1">
            <a:off x="874800" y="4054320"/>
            <a:ext cx="7065720" cy="2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E:\PPT资料\素材\地图\世界地图.PNG"/>
          <p:cNvPicPr/>
          <p:nvPr/>
        </p:nvPicPr>
        <p:blipFill>
          <a:blip r:embed="rId1"/>
          <a:stretch/>
        </p:blipFill>
        <p:spPr>
          <a:xfrm>
            <a:off x="676440" y="1719360"/>
            <a:ext cx="7791120" cy="3419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627280" y="2462040"/>
            <a:ext cx="390600" cy="390600"/>
            <a:chOff x="2627280" y="2462040"/>
            <a:chExt cx="390600" cy="390600"/>
          </a:xfrm>
        </p:grpSpPr>
        <p:pic>
          <p:nvPicPr>
            <p:cNvPr id="249" name="椭圆 5" descr=""/>
            <p:cNvPicPr/>
            <p:nvPr/>
          </p:nvPicPr>
          <p:blipFill>
            <a:blip r:embed="rId2"/>
            <a:stretch/>
          </p:blipFill>
          <p:spPr>
            <a:xfrm>
              <a:off x="2627280" y="2462040"/>
              <a:ext cx="390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759040" y="2592360"/>
              <a:ext cx="1303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线形标注 2(带强调线) 4"/>
          <p:cNvSpPr/>
          <p:nvPr/>
        </p:nvSpPr>
        <p:spPr>
          <a:xfrm flipH="1">
            <a:off x="676440" y="1557360"/>
            <a:ext cx="1514160" cy="612720"/>
          </a:xfrm>
          <a:noFill/>
          <a:ln w="28440">
            <a:solidFill>
              <a:srgbClr val="789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754520" y="3754440"/>
            <a:ext cx="390600" cy="390600"/>
            <a:chOff x="4754520" y="3754440"/>
            <a:chExt cx="390600" cy="390600"/>
          </a:xfrm>
        </p:grpSpPr>
        <p:pic>
          <p:nvPicPr>
            <p:cNvPr id="253" name="椭圆 6" descr=""/>
            <p:cNvPicPr/>
            <p:nvPr/>
          </p:nvPicPr>
          <p:blipFill>
            <a:blip r:embed="rId3"/>
            <a:stretch/>
          </p:blipFill>
          <p:spPr>
            <a:xfrm>
              <a:off x="4754520" y="3754440"/>
              <a:ext cx="390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886280" y="3887640"/>
              <a:ext cx="1303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线形标注 2(带强调线) 9"/>
          <p:cNvSpPr/>
          <p:nvPr/>
        </p:nvSpPr>
        <p:spPr>
          <a:xfrm flipH="1">
            <a:off x="2898000" y="5159520"/>
            <a:ext cx="1515960" cy="612720"/>
          </a:xfrm>
          <a:noFill/>
          <a:ln w="38160">
            <a:solidFill>
              <a:srgbClr val="4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486480" y="2749680"/>
            <a:ext cx="390600" cy="390240"/>
            <a:chOff x="6486480" y="2749680"/>
            <a:chExt cx="390600" cy="390240"/>
          </a:xfrm>
        </p:grpSpPr>
        <p:pic>
          <p:nvPicPr>
            <p:cNvPr id="257" name="椭圆 2" descr=""/>
            <p:cNvPicPr/>
            <p:nvPr/>
          </p:nvPicPr>
          <p:blipFill>
            <a:blip r:embed="rId4"/>
            <a:stretch/>
          </p:blipFill>
          <p:spPr>
            <a:xfrm>
              <a:off x="6486480" y="2749680"/>
              <a:ext cx="39060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615000" y="2879640"/>
              <a:ext cx="12852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线形标注 2(带强调线) 10"/>
          <p:cNvSpPr/>
          <p:nvPr/>
        </p:nvSpPr>
        <p:spPr>
          <a:xfrm>
            <a:off x="7318440" y="1557360"/>
            <a:ext cx="1276200" cy="612720"/>
          </a:xfrm>
          <a:noFill/>
          <a:ln w="38160">
            <a:solidFill>
              <a:srgbClr val="d9b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流程图: 对照 2" descr=""/>
          <p:cNvPicPr/>
          <p:nvPr/>
        </p:nvPicPr>
        <p:blipFill>
          <a:blip r:embed="rId1"/>
          <a:stretch/>
        </p:blipFill>
        <p:spPr>
          <a:xfrm>
            <a:off x="2762280" y="2419200"/>
            <a:ext cx="3619440" cy="40737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2771640" y="31464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994280" y="31464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5280" y="4245120"/>
            <a:ext cx="2160720" cy="1487520"/>
            <a:chOff x="395280" y="4245120"/>
            <a:chExt cx="2160720" cy="1487520"/>
          </a:xfrm>
        </p:grpSpPr>
        <p:pic>
          <p:nvPicPr>
            <p:cNvPr id="265" name="五边形 5" descr=""/>
            <p:cNvPicPr/>
            <p:nvPr/>
          </p:nvPicPr>
          <p:blipFill>
            <a:blip r:embed="rId2"/>
            <a:stretch/>
          </p:blipFill>
          <p:spPr>
            <a:xfrm>
              <a:off x="395280" y="4245120"/>
              <a:ext cx="2160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6"/>
            <p:cNvSpPr/>
            <p:nvPr/>
          </p:nvSpPr>
          <p:spPr>
            <a:xfrm>
              <a:off x="870120" y="4556880"/>
              <a:ext cx="1318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95280" y="3276720"/>
            <a:ext cx="2109960" cy="1530360"/>
            <a:chOff x="395280" y="3276720"/>
            <a:chExt cx="2109960" cy="1530360"/>
          </a:xfrm>
        </p:grpSpPr>
        <p:pic>
          <p:nvPicPr>
            <p:cNvPr id="268" name="燕尾形 6" descr=""/>
            <p:cNvPicPr/>
            <p:nvPr/>
          </p:nvPicPr>
          <p:blipFill>
            <a:blip r:embed="rId3"/>
            <a:stretch/>
          </p:blipFill>
          <p:spPr>
            <a:xfrm>
              <a:off x="395280" y="3276720"/>
              <a:ext cx="21099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6"/>
            <p:cNvSpPr/>
            <p:nvPr/>
          </p:nvSpPr>
          <p:spPr>
            <a:xfrm>
              <a:off x="869400" y="3398400"/>
              <a:ext cx="1317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95280" y="2309760"/>
            <a:ext cx="2109960" cy="1528920"/>
            <a:chOff x="395280" y="2309760"/>
            <a:chExt cx="2109960" cy="1528920"/>
          </a:xfrm>
        </p:grpSpPr>
        <p:pic>
          <p:nvPicPr>
            <p:cNvPr id="271" name="燕尾形 7" descr=""/>
            <p:cNvPicPr/>
            <p:nvPr/>
          </p:nvPicPr>
          <p:blipFill>
            <a:blip r:embed="rId4"/>
            <a:stretch/>
          </p:blipFill>
          <p:spPr>
            <a:xfrm>
              <a:off x="395280" y="2309760"/>
              <a:ext cx="21099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6"/>
            <p:cNvSpPr/>
            <p:nvPr/>
          </p:nvSpPr>
          <p:spPr>
            <a:xfrm>
              <a:off x="869400" y="2447280"/>
              <a:ext cx="1317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5280" y="1341360"/>
            <a:ext cx="2109960" cy="1528920"/>
            <a:chOff x="395280" y="1341360"/>
            <a:chExt cx="2109960" cy="1528920"/>
          </a:xfrm>
        </p:grpSpPr>
        <p:pic>
          <p:nvPicPr>
            <p:cNvPr id="274" name="燕尾形 8" descr=""/>
            <p:cNvPicPr/>
            <p:nvPr/>
          </p:nvPicPr>
          <p:blipFill>
            <a:blip r:embed="rId5"/>
            <a:stretch/>
          </p:blipFill>
          <p:spPr>
            <a:xfrm>
              <a:off x="395280" y="1341360"/>
              <a:ext cx="21099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6"/>
            <p:cNvSpPr/>
            <p:nvPr/>
          </p:nvSpPr>
          <p:spPr>
            <a:xfrm>
              <a:off x="961560" y="1496880"/>
              <a:ext cx="1317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659640" y="1341360"/>
            <a:ext cx="2111400" cy="1528920"/>
            <a:chOff x="6659640" y="1341360"/>
            <a:chExt cx="2111400" cy="1528920"/>
          </a:xfrm>
        </p:grpSpPr>
        <p:pic>
          <p:nvPicPr>
            <p:cNvPr id="277" name="燕尾形 12" descr=""/>
            <p:cNvPicPr/>
            <p:nvPr/>
          </p:nvPicPr>
          <p:blipFill>
            <a:blip r:embed="rId6"/>
            <a:stretch/>
          </p:blipFill>
          <p:spPr>
            <a:xfrm>
              <a:off x="6659640" y="1341360"/>
              <a:ext cx="211140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6"/>
            <p:cNvSpPr/>
            <p:nvPr/>
          </p:nvSpPr>
          <p:spPr>
            <a:xfrm>
              <a:off x="7132320" y="1496880"/>
              <a:ext cx="1318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659640" y="2309760"/>
            <a:ext cx="2111400" cy="1528920"/>
            <a:chOff x="6659640" y="2309760"/>
            <a:chExt cx="2111400" cy="1528920"/>
          </a:xfrm>
        </p:grpSpPr>
        <p:pic>
          <p:nvPicPr>
            <p:cNvPr id="280" name="燕尾形 11" descr=""/>
            <p:cNvPicPr/>
            <p:nvPr/>
          </p:nvPicPr>
          <p:blipFill>
            <a:blip r:embed="rId7"/>
            <a:stretch/>
          </p:blipFill>
          <p:spPr>
            <a:xfrm>
              <a:off x="6659640" y="2309760"/>
              <a:ext cx="211140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6"/>
            <p:cNvSpPr/>
            <p:nvPr/>
          </p:nvSpPr>
          <p:spPr>
            <a:xfrm>
              <a:off x="7132320" y="2436120"/>
              <a:ext cx="1318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659640" y="3276720"/>
            <a:ext cx="2111400" cy="1530360"/>
            <a:chOff x="6659640" y="3276720"/>
            <a:chExt cx="2111400" cy="1530360"/>
          </a:xfrm>
        </p:grpSpPr>
        <p:pic>
          <p:nvPicPr>
            <p:cNvPr id="283" name="燕尾形 10" descr=""/>
            <p:cNvPicPr/>
            <p:nvPr/>
          </p:nvPicPr>
          <p:blipFill>
            <a:blip r:embed="rId8"/>
            <a:stretch/>
          </p:blipFill>
          <p:spPr>
            <a:xfrm>
              <a:off x="6659640" y="3276720"/>
              <a:ext cx="2111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6"/>
            <p:cNvSpPr/>
            <p:nvPr/>
          </p:nvSpPr>
          <p:spPr>
            <a:xfrm>
              <a:off x="7132320" y="3400920"/>
              <a:ext cx="1318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659640" y="4245120"/>
            <a:ext cx="2160360" cy="1487520"/>
            <a:chOff x="6659640" y="4245120"/>
            <a:chExt cx="2160360" cy="1487520"/>
          </a:xfrm>
        </p:grpSpPr>
        <p:pic>
          <p:nvPicPr>
            <p:cNvPr id="286" name="五边形 9" descr=""/>
            <p:cNvPicPr/>
            <p:nvPr/>
          </p:nvPicPr>
          <p:blipFill>
            <a:blip r:embed="rId9"/>
            <a:stretch/>
          </p:blipFill>
          <p:spPr>
            <a:xfrm>
              <a:off x="6659640" y="4245120"/>
              <a:ext cx="216036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7132320" y="4556880"/>
              <a:ext cx="1318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右箭头 4" descr=""/>
          <p:cNvPicPr/>
          <p:nvPr/>
        </p:nvPicPr>
        <p:blipFill>
          <a:blip r:embed="rId1"/>
          <a:stretch/>
        </p:blipFill>
        <p:spPr>
          <a:xfrm>
            <a:off x="1974960" y="1504800"/>
            <a:ext cx="6638760" cy="9133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椭圆 13" descr=""/>
          <p:cNvPicPr/>
          <p:nvPr/>
        </p:nvPicPr>
        <p:blipFill>
          <a:blip r:embed="rId2"/>
          <a:stretch/>
        </p:blipFill>
        <p:spPr>
          <a:xfrm>
            <a:off x="6864480" y="4883040"/>
            <a:ext cx="1090440" cy="2146320"/>
          </a:xfrm>
          <a:prstGeom prst="rect">
            <a:avLst/>
          </a:prstGeom>
          <a:ln w="0">
            <a:noFill/>
          </a:ln>
        </p:spPr>
      </p:pic>
      <p:pic>
        <p:nvPicPr>
          <p:cNvPr id="291" name="椭圆 14" descr=""/>
          <p:cNvPicPr/>
          <p:nvPr/>
        </p:nvPicPr>
        <p:blipFill>
          <a:blip r:embed="rId3"/>
          <a:stretch/>
        </p:blipFill>
        <p:spPr>
          <a:xfrm>
            <a:off x="6864480" y="3730680"/>
            <a:ext cx="1090440" cy="2146320"/>
          </a:xfrm>
          <a:prstGeom prst="rect">
            <a:avLst/>
          </a:prstGeom>
          <a:ln w="0">
            <a:noFill/>
          </a:ln>
        </p:spPr>
      </p:pic>
      <p:pic>
        <p:nvPicPr>
          <p:cNvPr id="292" name="椭圆 15" descr=""/>
          <p:cNvPicPr/>
          <p:nvPr/>
        </p:nvPicPr>
        <p:blipFill>
          <a:blip r:embed="rId4"/>
          <a:stretch/>
        </p:blipFill>
        <p:spPr>
          <a:xfrm>
            <a:off x="6864480" y="2577960"/>
            <a:ext cx="1090440" cy="2146320"/>
          </a:xfrm>
          <a:prstGeom prst="rect">
            <a:avLst/>
          </a:prstGeom>
          <a:ln w="0">
            <a:noFill/>
          </a:ln>
        </p:spPr>
      </p:pic>
      <p:pic>
        <p:nvPicPr>
          <p:cNvPr id="293" name="椭圆 16" descr=""/>
          <p:cNvPicPr/>
          <p:nvPr/>
        </p:nvPicPr>
        <p:blipFill>
          <a:blip r:embed="rId5"/>
          <a:stretch/>
        </p:blipFill>
        <p:spPr>
          <a:xfrm>
            <a:off x="6864480" y="1427040"/>
            <a:ext cx="1090440" cy="215748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2114640" y="2627280"/>
            <a:ext cx="4724280" cy="2255760"/>
            <a:chOff x="2114640" y="2627280"/>
            <a:chExt cx="4724280" cy="2255760"/>
          </a:xfrm>
        </p:grpSpPr>
        <p:pic>
          <p:nvPicPr>
            <p:cNvPr id="295" name="等腰三角形 34" descr=""/>
            <p:cNvPicPr/>
            <p:nvPr/>
          </p:nvPicPr>
          <p:blipFill>
            <a:blip r:embed="rId6"/>
            <a:stretch/>
          </p:blipFill>
          <p:spPr>
            <a:xfrm>
              <a:off x="2114640" y="2627280"/>
              <a:ext cx="4724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5400000">
              <a:off x="2732400" y="2561760"/>
              <a:ext cx="1126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7" name="椭圆 3" descr=""/>
          <p:cNvPicPr/>
          <p:nvPr/>
        </p:nvPicPr>
        <p:blipFill>
          <a:blip r:embed="rId7"/>
          <a:stretch/>
        </p:blipFill>
        <p:spPr>
          <a:xfrm>
            <a:off x="957240" y="2639880"/>
            <a:ext cx="2309760" cy="4632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5:42:51Z</dcterms:created>
  <dc:creator>inky_he</dc:creator>
  <dc:description/>
  <dc:language>en-US</dc:language>
  <cp:lastModifiedBy>inky_he</cp:lastModifiedBy>
  <dcterms:modified xsi:type="dcterms:W3CDTF">2015-01-07T14:53:06Z</dcterms:modified>
  <cp:revision>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