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26AB-9044-470E-8F69-14EAE4F46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94ED-D376-41ED-ACB1-F4492A8E0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EE3E-DBAC-4670-AFBD-91D810180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CD51-8B9A-40E4-8015-AF027FC24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306000"/>
            <a:ext cx="79311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860B-6153-47E4-A00F-A9ED3ECBD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27B0-B73B-4152-A564-12DB100B5E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68000" y="306000"/>
            <a:ext cx="79311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7CD4-FB5F-4912-A4C0-AF87DF23E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B580-9298-4219-906B-DC61D923E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06000"/>
            <a:ext cx="79311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F5B0-E0E2-4977-920D-234DA8C50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3549-3E05-4D22-A7E6-B71B1872E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59D0-6893-483B-B688-0D6FF1124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3214-06E0-4526-9CB6-13B292833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3240"/>
            <a:ext cx="917100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63BEF4B-0DB4-4DBF-B077-21449C01E67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7920" y="-3240"/>
            <a:ext cx="9171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360" y="431964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>
            <a:hlinkClick r:id="rId5"/>
          </p:cNvPr>
          <p:cNvSpPr/>
          <p:nvPr/>
        </p:nvSpPr>
        <p:spPr>
          <a:xfrm>
            <a:off x="2368800" y="422028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88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中国专业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10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34908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25440" y="4455720"/>
            <a:ext cx="5651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欢乐圣诞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74920" y="553536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6080" y="6165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306000"/>
            <a:ext cx="79311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4120" y="1337760"/>
            <a:ext cx="76662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E142-6237-4DB5-A516-44A51753000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920" y="-3240"/>
            <a:ext cx="9171000" cy="6875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3624120" y="4233960"/>
            <a:ext cx="505152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8B81-BEEF-448A-8F3C-C24AF2E6F5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18D6-FD18-4108-9719-B03473906D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07T17:10:44Z</dcterms:modified>
  <cp:revision>1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