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8FF50-F7B7-479C-98C9-A69A0C19C9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919C9-2EFE-4DF0-8634-A01D16959F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522E3-EB35-4030-ADA5-48E5251A7F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D70FB-F69F-4044-BC3C-5D4D84DF77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B1D8-5668-4584-B91C-B858052D2D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3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DEE1-6B85-48A3-9E5A-16253625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9D1F-5093-487A-A802-2821CFAA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79DB-53F0-4131-9941-7D823EA4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FC41-B3C8-4F4F-82AC-4A9C81E84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38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AF2F-7922-41CF-A7E2-5DB1CB680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EAB1-52B9-4230-B819-2633533D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3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CB745-8309-4DAA-8F6C-17B40D3AC7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631C-3823-4803-A314-BBE70D70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962C-BB00-47C5-95A8-ECE7E743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3EC5-2048-47AE-A99B-ED8346C7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3934-2CE0-41C7-8BF3-17A66463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AD0F-9CDF-4966-8294-CFD8DFAFF6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3E491-1B0B-47C9-A3D3-0A1C281D85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1AEF7-7F8E-4131-BC20-2642DD51BD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05260-5C5D-40AA-B67C-F6573E68DD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38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65E4E-7286-47C6-8AF3-B262AF547E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1226B-C605-44B4-9E89-F0C2A59BF4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AB15C-406B-4459-8FF2-68A6547F1B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217EF-29EF-4BC3-8C5F-F3AE43CE31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225360">
              <a:spcBef>
                <a:spcPts val="638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79280"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2160" indent="-179640">
              <a:spcBef>
                <a:spcPts val="638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3960" indent="-179280">
              <a:spcBef>
                <a:spcPts val="638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3960" indent="-179280">
              <a:spcBef>
                <a:spcPts val="638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3960" indent="-179280">
              <a:spcBef>
                <a:spcPts val="638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9836A9-0F5D-489D-8E46-0EBE43132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84280" indent="-225360">
              <a:spcBef>
                <a:spcPts val="638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00000" indent="-179280"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62160" indent="-179640">
              <a:spcBef>
                <a:spcPts val="638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23960" indent="-179280">
              <a:spcBef>
                <a:spcPts val="638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23960" indent="-179280">
              <a:spcBef>
                <a:spcPts val="638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23960" indent="-179280">
              <a:spcBef>
                <a:spcPts val="638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011-10-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301D3AC-9838-4304-AB24-3F8A2BA5E3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2.png"/><Relationship Id="rId6" Type="http://schemas.openxmlformats.org/officeDocument/2006/relationships/image" Target="../media/image3.wmf"/><Relationship Id="rId7" Type="http://schemas.openxmlformats.org/officeDocument/2006/relationships/image" Target="../media/image2.png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57360"/>
            <a:ext cx="9144000" cy="3384360"/>
          </a:xfrm>
          <a:prstGeom prst="rect">
            <a:avLst/>
          </a:prstGeom>
          <a:solidFill>
            <a:srgbClr val="1895d3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62360" y="324000"/>
            <a:ext cx="790560" cy="790560"/>
          </a:xfrm>
          <a:prstGeom prst="ellipse">
            <a:avLst/>
          </a:prstGeom>
          <a:solidFill>
            <a:srgbClr val="dfe6eb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rot="5640000">
            <a:off x="3279960" y="332280"/>
            <a:ext cx="395280" cy="403560"/>
          </a:xfrm>
          <a:prstGeom prst="pie">
            <a:avLst/>
          </a:prstGeom>
          <a:solidFill>
            <a:srgbClr val="287d9d">
              <a:alpha val="89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60400" y="4352760"/>
            <a:ext cx="358920" cy="36036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360360"/>
              <a:gd name="textAreaBottom" fmla="*/ 343080 h 360360"/>
            </a:gdLst>
            <a:ahLst/>
            <a:rect l="textAreaLeft" t="textAreaTop" r="textAreaRight" b="textAreaBottom"/>
            <a:pathLst>
              <a:path w="21600" h="21687">
                <a:moveTo>
                  <a:pt x="3600" y="0"/>
                </a:moveTo>
                <a:arcTo wR="3600" hR="3600" stAng="16200000" swAng="-5400000"/>
                <a:lnTo>
                  <a:pt x="0" y="18087"/>
                </a:lnTo>
                <a:arcTo wR="3600" hR="3600" stAng="10800000" swAng="-5400000"/>
                <a:lnTo>
                  <a:pt x="18000" y="216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ab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66840" y="4352760"/>
            <a:ext cx="361800" cy="360360"/>
          </a:xfrm>
          <a:prstGeom prst="roundRect">
            <a:avLst>
              <a:gd name="adj" fmla="val 16667"/>
            </a:avLst>
          </a:prstGeom>
          <a:solidFill>
            <a:srgbClr val="5ab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44760" y="4352760"/>
            <a:ext cx="1727280" cy="432000"/>
          </a:xfrm>
          <a:prstGeom prst="roundRect">
            <a:avLst>
              <a:gd name="adj" fmla="val 16667"/>
            </a:avLst>
          </a:prstGeom>
          <a:solidFill>
            <a:srgbClr val="73c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2060640"/>
            <a:ext cx="900000" cy="900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9c2e6">
                  <a:alpha val="3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/>
          <p:nvPr/>
        </p:nvCxnSpPr>
        <p:spPr>
          <a:xfrm>
            <a:off x="5579640" y="2204640"/>
            <a:ext cx="3960" cy="2377080"/>
          </a:xfrm>
          <a:prstGeom prst="straightConnector1">
            <a:avLst/>
          </a:prstGeom>
          <a:ln w="19080">
            <a:solidFill>
              <a:srgbClr val="1391d3"/>
            </a:solidFill>
            <a:miter/>
          </a:ln>
        </p:spPr>
      </p:cxnSp>
      <p:sp>
        <p:nvSpPr>
          <p:cNvPr id="90" name=""/>
          <p:cNvSpPr/>
          <p:nvPr/>
        </p:nvSpPr>
        <p:spPr>
          <a:xfrm>
            <a:off x="108000" y="3141720"/>
            <a:ext cx="431640" cy="43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9c2e6">
                  <a:alpha val="3803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4005360"/>
            <a:ext cx="71928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9c2e6">
                  <a:alpha val="6117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0680" y="3692520"/>
            <a:ext cx="576360" cy="574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9c2e6">
                  <a:alpha val="3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92360" y="4352760"/>
            <a:ext cx="358560" cy="36036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360360"/>
              <a:gd name="textAreaBottom" fmla="*/ 343080 h 360360"/>
            </a:gdLst>
            <a:ahLst/>
            <a:rect l="textAreaLeft" t="textAreaTop" r="textAreaRight" b="textAreaBottom"/>
            <a:pathLst>
              <a:path w="21600" h="21708">
                <a:moveTo>
                  <a:pt x="3600" y="0"/>
                </a:moveTo>
                <a:arcTo wR="3600" hR="3600" stAng="16200000" swAng="-5400000"/>
                <a:lnTo>
                  <a:pt x="0" y="18108"/>
                </a:lnTo>
                <a:arcTo wR="3600" hR="3600" stAng="10800000" swAng="-5400000"/>
                <a:lnTo>
                  <a:pt x="18000" y="217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ab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476280"/>
            <a:ext cx="33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2400" spc="-1" strike="noStrike">
                <a:solidFill>
                  <a:srgbClr val="67a4c4"/>
                </a:solidFill>
                <a:latin typeface="Century Gothic"/>
                <a:ea typeface="方正粗倩简体"/>
              </a:rPr>
              <a:t>海蓝色</a:t>
            </a:r>
            <a:r>
              <a:rPr b="0" lang="en-US" sz="2400" spc="-1" strike="noStrike">
                <a:solidFill>
                  <a:srgbClr val="67a4c4"/>
                </a:solidFill>
                <a:latin typeface="Century Gothic"/>
                <a:ea typeface="方正粗倩简体"/>
              </a:rPr>
              <a:t>ppt</a:t>
            </a:r>
            <a:r>
              <a:rPr b="0" lang="zh-CN" sz="2400" spc="-1" strike="noStrike">
                <a:solidFill>
                  <a:srgbClr val="67a4c4"/>
                </a:solidFill>
                <a:latin typeface="Century Gothic"/>
                <a:ea typeface="方正粗倩简体"/>
              </a:rPr>
              <a:t>模板下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1773360"/>
            <a:ext cx="43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Your slogan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320" y="428004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c6deea"/>
                </a:solidFill>
                <a:latin typeface="Microsoft Tai 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4352760"/>
            <a:ext cx="4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c6deea"/>
                </a:solidFill>
                <a:latin typeface="Microsoft Tai Le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24040" y="435276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c6deea"/>
                </a:solidFill>
                <a:latin typeface="Microsoft Tai Le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16000" y="2205000"/>
            <a:ext cx="1260360" cy="12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9c2e6">
                  <a:alpha val="3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95640" y="2421000"/>
            <a:ext cx="57600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9c2e6">
                  <a:alpha val="3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56000" y="4437000"/>
            <a:ext cx="146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c6deea"/>
                </a:solidFill>
                <a:latin typeface="Vrinda"/>
              </a:rPr>
              <a:t>CONTACT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24000" y="4005360"/>
            <a:ext cx="971640" cy="97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9c2e6">
                  <a:alpha val="27058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11400" y="3549600"/>
            <a:ext cx="431640" cy="43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9c2e6">
                  <a:alpha val="3803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38560" y="3621240"/>
            <a:ext cx="576000" cy="57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9c2e6">
                  <a:alpha val="3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99040" y="3352680"/>
            <a:ext cx="971280" cy="9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9c2e6">
                  <a:alpha val="27058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95640" y="3645000"/>
            <a:ext cx="576360" cy="57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9c2e6">
                  <a:alpha val="3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0360" y="3502080"/>
            <a:ext cx="971640" cy="9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9c2e6">
                  <a:alpha val="3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88000" y="2781360"/>
            <a:ext cx="718920" cy="718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9c2e6">
                  <a:alpha val="4235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00720" y="4005360"/>
            <a:ext cx="432000" cy="43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9c2e6">
                  <a:alpha val="3803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05600" y="2859120"/>
            <a:ext cx="431640" cy="43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9c2e6">
                  <a:alpha val="3803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73840" y="3108240"/>
            <a:ext cx="57636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9c2e6">
                  <a:alpha val="3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04000" y="3573360"/>
            <a:ext cx="57636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9c2e6">
                  <a:alpha val="3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89960" y="2782800"/>
            <a:ext cx="720720" cy="719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9c2e6">
                  <a:alpha val="3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553600" y="2389320"/>
            <a:ext cx="576000" cy="57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9c2e6">
                  <a:alpha val="3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854840" y="2013120"/>
            <a:ext cx="432000" cy="43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9c2e6">
                  <a:alpha val="3803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659800" y="4172040"/>
            <a:ext cx="576360" cy="574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9c2e6">
                  <a:alpha val="3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885080" y="4510080"/>
            <a:ext cx="719280" cy="719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9c2e6">
                  <a:alpha val="3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07400" y="3790800"/>
            <a:ext cx="971280" cy="9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9c2e6">
                  <a:alpha val="27058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156360" y="2205000"/>
            <a:ext cx="2425680" cy="1788840"/>
            <a:chOff x="6156360" y="2205000"/>
            <a:chExt cx="2425680" cy="1788840"/>
          </a:xfrm>
        </p:grpSpPr>
        <p:sp>
          <p:nvSpPr>
            <p:cNvPr id="120" name=""/>
            <p:cNvSpPr/>
            <p:nvPr/>
          </p:nvSpPr>
          <p:spPr>
            <a:xfrm>
              <a:off x="6183000" y="2205000"/>
              <a:ext cx="2373480" cy="945000"/>
            </a:xfrm>
            <a:prstGeom prst="rect">
              <a:avLst/>
            </a:prstGeom>
            <a:solidFill>
              <a:srgbClr val="bbe0e3">
                <a:alpha val="59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S PGothic"/>
                  <a:ea typeface="MS PGothic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56360" y="3512160"/>
              <a:ext cx="2425680" cy="4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200" spc="-1" strike="noStrike">
                  <a:solidFill>
                    <a:srgbClr val="bbe0e3"/>
                  </a:solidFill>
                  <a:latin typeface="Calibri"/>
                </a:rPr>
                <a:t>Lorem Ipsum is simply dummy text of the printing and typesetting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156360" y="3304080"/>
              <a:ext cx="2425680" cy="3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bbe0e3"/>
                  </a:solidFill>
                  <a:latin typeface="Calibri"/>
                </a:rPr>
                <a:t>Mr. Nobod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828720" y="2492280"/>
            <a:ext cx="4680000" cy="1441440"/>
          </a:xfrm>
          <a:prstGeom prst="roundRect">
            <a:avLst>
              <a:gd name="adj" fmla="val 8273"/>
            </a:avLst>
          </a:prstGeom>
          <a:gradFill rotWithShape="0">
            <a:gsLst>
              <a:gs pos="0">
                <a:srgbClr val="d1eaec"/>
              </a:gs>
              <a:gs pos="100000">
                <a:srgbClr val="bbe0e3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00000" y="2565360"/>
            <a:ext cx="244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80480" y="644508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 fill="hold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09480" y="3860640"/>
            <a:ext cx="2643480" cy="2644920"/>
          </a:xfrm>
          <a:prstGeom prst="pie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05080" y="1859040"/>
            <a:ext cx="6553080" cy="4308480"/>
          </a:xfrm>
          <a:prstGeom prst="roundRect">
            <a:avLst>
              <a:gd name="adj" fmla="val 4343"/>
            </a:avLst>
          </a:prstGeom>
          <a:solidFill>
            <a:srgbClr val="00b0f0">
              <a:alpha val="27000"/>
            </a:srgbClr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62200" y="1771560"/>
            <a:ext cx="5811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011240"/>
            <a:ext cx="9139320" cy="252360"/>
          </a:xfrm>
          <a:prstGeom prst="rect">
            <a:avLst/>
          </a:prstGeom>
          <a:solidFill>
            <a:srgbClr val="77c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24000" y="1011240"/>
            <a:ext cx="2232000" cy="252360"/>
          </a:xfrm>
          <a:prstGeom prst="rect">
            <a:avLst/>
          </a:prstGeom>
          <a:solidFill>
            <a:srgbClr val="77c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08400" y="990720"/>
            <a:ext cx="21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40" y="981000"/>
            <a:ext cx="1690920" cy="2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6600" y="99072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34" name=""/>
          <p:cNvCxnSpPr/>
          <p:nvPr/>
        </p:nvCxnSpPr>
        <p:spPr>
          <a:xfrm>
            <a:off x="5579640" y="3428640"/>
            <a:ext cx="3960" cy="2377080"/>
          </a:xfrm>
          <a:prstGeom prst="straightConnector1">
            <a:avLst/>
          </a:prstGeom>
          <a:ln w="19080">
            <a:solidFill>
              <a:srgbClr val="808080"/>
            </a:solidFill>
            <a:miter/>
          </a:ln>
        </p:spPr>
      </p:cxn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796000" y="3430440"/>
            <a:ext cx="3192480" cy="23590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902200" y="2349360"/>
            <a:ext cx="294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itle 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18120" y="3408480"/>
            <a:ext cx="31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1.  Course 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37920" y="4016520"/>
            <a:ext cx="31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2.  Course 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42600" y="4622760"/>
            <a:ext cx="31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3.  Course 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37920" y="5229360"/>
            <a:ext cx="31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4.  Course 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011240"/>
            <a:ext cx="9139320" cy="252360"/>
          </a:xfrm>
          <a:prstGeom prst="rect">
            <a:avLst/>
          </a:prstGeom>
          <a:solidFill>
            <a:srgbClr val="77c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124000" y="1011240"/>
            <a:ext cx="2232000" cy="252360"/>
          </a:xfrm>
          <a:prstGeom prst="rect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08400" y="990720"/>
            <a:ext cx="21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2720" y="990720"/>
            <a:ext cx="6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857160" y="760320"/>
            <a:ext cx="408240" cy="331560"/>
            <a:chOff x="857160" y="760320"/>
            <a:chExt cx="408240" cy="331560"/>
          </a:xfrm>
        </p:grpSpPr>
        <p:sp>
          <p:nvSpPr>
            <p:cNvPr id="146" name=""/>
            <p:cNvSpPr/>
            <p:nvPr/>
          </p:nvSpPr>
          <p:spPr>
            <a:xfrm>
              <a:off x="857160" y="760320"/>
              <a:ext cx="408240" cy="194040"/>
            </a:xfrm>
            <a:prstGeom prst="roundRect">
              <a:avLst>
                <a:gd name="adj" fmla="val 819"/>
              </a:avLst>
            </a:prstGeom>
            <a:solidFill>
              <a:srgbClr val="38b8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14040" y="804240"/>
              <a:ext cx="292680" cy="287640"/>
            </a:xfrm>
            <a:prstGeom prst="roundRect">
              <a:avLst>
                <a:gd name="adj" fmla="val 546"/>
              </a:avLst>
            </a:prstGeom>
            <a:solidFill>
              <a:srgbClr val="38b8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1787400" y="760320"/>
            <a:ext cx="408240" cy="382680"/>
          </a:xfrm>
          <a:prstGeom prst="roundRect">
            <a:avLst>
              <a:gd name="adj" fmla="val 41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662280" y="696960"/>
            <a:ext cx="381240" cy="380520"/>
            <a:chOff x="3662280" y="696960"/>
            <a:chExt cx="381240" cy="380520"/>
          </a:xfrm>
        </p:grpSpPr>
        <p:sp>
          <p:nvSpPr>
            <p:cNvPr id="150" name=""/>
            <p:cNvSpPr/>
            <p:nvPr/>
          </p:nvSpPr>
          <p:spPr>
            <a:xfrm>
              <a:off x="3746160" y="696960"/>
              <a:ext cx="213120" cy="172080"/>
            </a:xfrm>
            <a:prstGeom prst="roundRect">
              <a:avLst>
                <a:gd name="adj" fmla="val 926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62280" y="886320"/>
              <a:ext cx="381240" cy="191160"/>
            </a:xfrm>
            <a:prstGeom prst="roundRect">
              <a:avLst>
                <a:gd name="adj" fmla="val 833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4527720" y="760320"/>
            <a:ext cx="473040" cy="319320"/>
          </a:xfrm>
          <a:prstGeom prst="roundRect">
            <a:avLst>
              <a:gd name="adj" fmla="val 5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770200" y="696960"/>
            <a:ext cx="301680" cy="380520"/>
            <a:chOff x="2770200" y="696960"/>
            <a:chExt cx="301680" cy="380520"/>
          </a:xfrm>
        </p:grpSpPr>
        <p:sp>
          <p:nvSpPr>
            <p:cNvPr id="154" name=""/>
            <p:cNvSpPr/>
            <p:nvPr/>
          </p:nvSpPr>
          <p:spPr>
            <a:xfrm>
              <a:off x="2770200" y="847080"/>
              <a:ext cx="301680" cy="230400"/>
            </a:xfrm>
            <a:prstGeom prst="roundRect">
              <a:avLst>
                <a:gd name="adj" fmla="val 681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88920" y="696960"/>
              <a:ext cx="262080" cy="131040"/>
            </a:xfrm>
            <a:prstGeom prst="roundRect">
              <a:avLst>
                <a:gd name="adj" fmla="val 1218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170000" y="1490760"/>
            <a:ext cx="6259680" cy="666720"/>
          </a:xfrm>
          <a:prstGeom prst="roundRect">
            <a:avLst>
              <a:gd name="adj" fmla="val 16667"/>
            </a:avLst>
          </a:prstGeom>
          <a:solidFill>
            <a:srgbClr val="00b0f0">
              <a:alpha val="27000"/>
            </a:srgbClr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70000" y="2604960"/>
            <a:ext cx="6259680" cy="666720"/>
          </a:xfrm>
          <a:prstGeom prst="roundRect">
            <a:avLst>
              <a:gd name="adj" fmla="val 16667"/>
            </a:avLst>
          </a:prstGeom>
          <a:solidFill>
            <a:srgbClr val="00b0f0">
              <a:alpha val="27000"/>
            </a:srgbClr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0000" y="3699000"/>
            <a:ext cx="6259680" cy="666720"/>
          </a:xfrm>
          <a:prstGeom prst="roundRect">
            <a:avLst>
              <a:gd name="adj" fmla="val 16667"/>
            </a:avLst>
          </a:prstGeom>
          <a:solidFill>
            <a:srgbClr val="00b0f0">
              <a:alpha val="27000"/>
            </a:srgbClr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70000" y="4792680"/>
            <a:ext cx="6259680" cy="666720"/>
          </a:xfrm>
          <a:prstGeom prst="roundRect">
            <a:avLst>
              <a:gd name="adj" fmla="val 16667"/>
            </a:avLst>
          </a:prstGeom>
          <a:solidFill>
            <a:srgbClr val="00b0f0">
              <a:alpha val="27000"/>
            </a:srgbClr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915240" y="1424160"/>
            <a:ext cx="823680" cy="801360"/>
            <a:chOff x="6915240" y="1424160"/>
            <a:chExt cx="823680" cy="801360"/>
          </a:xfrm>
        </p:grpSpPr>
        <p:grpSp>
          <p:nvGrpSpPr>
            <p:cNvPr id="161" name=""/>
            <p:cNvGrpSpPr/>
            <p:nvPr/>
          </p:nvGrpSpPr>
          <p:grpSpPr>
            <a:xfrm>
              <a:off x="6915240" y="1424160"/>
              <a:ext cx="823680" cy="801360"/>
              <a:chOff x="6915240" y="1424160"/>
              <a:chExt cx="823680" cy="801360"/>
            </a:xfrm>
          </p:grpSpPr>
          <p:grpSp>
            <p:nvGrpSpPr>
              <p:cNvPr id="162" name=""/>
              <p:cNvGrpSpPr/>
              <p:nvPr/>
            </p:nvGrpSpPr>
            <p:grpSpPr>
              <a:xfrm>
                <a:off x="6915240" y="1424160"/>
                <a:ext cx="823680" cy="801360"/>
                <a:chOff x="6915240" y="1424160"/>
                <a:chExt cx="823680" cy="801360"/>
              </a:xfrm>
            </p:grpSpPr>
            <p:pic>
              <p:nvPicPr>
                <p:cNvPr id="163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915240" y="1424160"/>
                  <a:ext cx="823680" cy="79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" name=""/>
                <p:cNvSpPr/>
                <p:nvPr/>
              </p:nvSpPr>
              <p:spPr>
                <a:xfrm>
                  <a:off x="6915240" y="1424160"/>
                  <a:ext cx="817200" cy="801360"/>
                </a:xfrm>
                <a:prstGeom prst="ellipse">
                  <a:avLst/>
                </a:prstGeom>
                <a:solidFill>
                  <a:srgbClr val="1391d3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6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997320" y="1431720"/>
                <a:ext cx="650520" cy="28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6" name=""/>
            <p:cNvSpPr txBox="1"/>
            <p:nvPr/>
          </p:nvSpPr>
          <p:spPr>
            <a:xfrm>
              <a:off x="7196040" y="1639800"/>
              <a:ext cx="185040" cy="3232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1</a:t>
              </a:r>
              <a:endPara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915240" y="2538360"/>
            <a:ext cx="823680" cy="801720"/>
            <a:chOff x="6915240" y="2538360"/>
            <a:chExt cx="823680" cy="801720"/>
          </a:xfrm>
        </p:grpSpPr>
        <p:grpSp>
          <p:nvGrpSpPr>
            <p:cNvPr id="168" name=""/>
            <p:cNvGrpSpPr/>
            <p:nvPr/>
          </p:nvGrpSpPr>
          <p:grpSpPr>
            <a:xfrm>
              <a:off x="6915240" y="2538360"/>
              <a:ext cx="823680" cy="801720"/>
              <a:chOff x="6915240" y="2538360"/>
              <a:chExt cx="823680" cy="80172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6915240" y="2538360"/>
                <a:ext cx="823680" cy="801720"/>
                <a:chOff x="6915240" y="2538360"/>
                <a:chExt cx="823680" cy="801720"/>
              </a:xfrm>
            </p:grpSpPr>
            <p:pic>
              <p:nvPicPr>
                <p:cNvPr id="17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915240" y="2538360"/>
                  <a:ext cx="823680" cy="798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" name=""/>
                <p:cNvSpPr/>
                <p:nvPr/>
              </p:nvSpPr>
              <p:spPr>
                <a:xfrm>
                  <a:off x="6915240" y="2538360"/>
                  <a:ext cx="819000" cy="801720"/>
                </a:xfrm>
                <a:prstGeom prst="ellipse">
                  <a:avLst/>
                </a:prstGeom>
                <a:solidFill>
                  <a:srgbClr val="1391d3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7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997320" y="2546280"/>
                <a:ext cx="652320" cy="28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3" name=""/>
            <p:cNvSpPr txBox="1"/>
            <p:nvPr/>
          </p:nvSpPr>
          <p:spPr>
            <a:xfrm>
              <a:off x="7222680" y="2754360"/>
              <a:ext cx="228240" cy="3236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2</a:t>
              </a:r>
              <a:endPara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915240" y="3630600"/>
            <a:ext cx="823680" cy="801720"/>
            <a:chOff x="6915240" y="3630600"/>
            <a:chExt cx="823680" cy="801720"/>
          </a:xfrm>
        </p:grpSpPr>
        <p:grpSp>
          <p:nvGrpSpPr>
            <p:cNvPr id="175" name=""/>
            <p:cNvGrpSpPr/>
            <p:nvPr/>
          </p:nvGrpSpPr>
          <p:grpSpPr>
            <a:xfrm>
              <a:off x="6915240" y="3630600"/>
              <a:ext cx="823680" cy="801720"/>
              <a:chOff x="6915240" y="3630600"/>
              <a:chExt cx="823680" cy="801720"/>
            </a:xfrm>
          </p:grpSpPr>
          <p:grpSp>
            <p:nvGrpSpPr>
              <p:cNvPr id="176" name=""/>
              <p:cNvGrpSpPr/>
              <p:nvPr/>
            </p:nvGrpSpPr>
            <p:grpSpPr>
              <a:xfrm>
                <a:off x="6915240" y="3630600"/>
                <a:ext cx="823680" cy="801720"/>
                <a:chOff x="6915240" y="3630600"/>
                <a:chExt cx="823680" cy="801720"/>
              </a:xfrm>
            </p:grpSpPr>
            <p:pic>
              <p:nvPicPr>
                <p:cNvPr id="177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915240" y="3630600"/>
                  <a:ext cx="823680" cy="798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8" name=""/>
                <p:cNvSpPr/>
                <p:nvPr/>
              </p:nvSpPr>
              <p:spPr>
                <a:xfrm>
                  <a:off x="6915240" y="3630600"/>
                  <a:ext cx="819000" cy="801720"/>
                </a:xfrm>
                <a:prstGeom prst="ellipse">
                  <a:avLst/>
                </a:prstGeom>
                <a:solidFill>
                  <a:srgbClr val="1391d3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7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997320" y="3638520"/>
                <a:ext cx="652320" cy="28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0" name=""/>
            <p:cNvSpPr txBox="1"/>
            <p:nvPr/>
          </p:nvSpPr>
          <p:spPr>
            <a:xfrm>
              <a:off x="7222680" y="3846600"/>
              <a:ext cx="228240" cy="3236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3</a:t>
              </a:r>
              <a:endPara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6915240" y="4713120"/>
            <a:ext cx="823680" cy="801720"/>
            <a:chOff x="6915240" y="4713120"/>
            <a:chExt cx="823680" cy="801720"/>
          </a:xfrm>
        </p:grpSpPr>
        <p:grpSp>
          <p:nvGrpSpPr>
            <p:cNvPr id="182" name=""/>
            <p:cNvGrpSpPr/>
            <p:nvPr/>
          </p:nvGrpSpPr>
          <p:grpSpPr>
            <a:xfrm>
              <a:off x="6915240" y="4713120"/>
              <a:ext cx="823680" cy="801720"/>
              <a:chOff x="6915240" y="4713120"/>
              <a:chExt cx="823680" cy="801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915240" y="4713120"/>
                <a:ext cx="823680" cy="801720"/>
                <a:chOff x="6915240" y="4713120"/>
                <a:chExt cx="823680" cy="801720"/>
              </a:xfrm>
            </p:grpSpPr>
            <p:pic>
              <p:nvPicPr>
                <p:cNvPr id="184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915240" y="4713120"/>
                  <a:ext cx="823680" cy="798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5" name=""/>
                <p:cNvSpPr/>
                <p:nvPr/>
              </p:nvSpPr>
              <p:spPr>
                <a:xfrm>
                  <a:off x="6915240" y="4713120"/>
                  <a:ext cx="819000" cy="801720"/>
                </a:xfrm>
                <a:prstGeom prst="ellipse">
                  <a:avLst/>
                </a:prstGeom>
                <a:solidFill>
                  <a:srgbClr val="1391d3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8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997320" y="4721040"/>
                <a:ext cx="652320" cy="28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7" name=""/>
            <p:cNvSpPr txBox="1"/>
            <p:nvPr/>
          </p:nvSpPr>
          <p:spPr>
            <a:xfrm>
              <a:off x="7184880" y="4929120"/>
              <a:ext cx="266040" cy="3236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4</a:t>
              </a:r>
              <a:endPara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7080480" y="6489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24000" y="1917720"/>
            <a:ext cx="8712000" cy="4390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8360" y="5946840"/>
            <a:ext cx="2592360" cy="21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2705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5280" y="2708280"/>
            <a:ext cx="2735280" cy="647640"/>
          </a:xfrm>
          <a:prstGeom prst="roundRect">
            <a:avLst>
              <a:gd name="adj" fmla="val 16667"/>
            </a:avLst>
          </a:prstGeom>
          <a:solidFill>
            <a:srgbClr val="139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68360" y="3355920"/>
            <a:ext cx="2590920" cy="2590920"/>
          </a:xfrm>
          <a:prstGeom prst="rect">
            <a:avLst/>
          </a:prstGeom>
          <a:solidFill>
            <a:srgbClr val="c6de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3355920"/>
            <a:ext cx="2448000" cy="25210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2708280"/>
            <a:ext cx="2735280" cy="21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2a7dd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67080" y="5946840"/>
            <a:ext cx="2592360" cy="21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2705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94000" y="2708280"/>
            <a:ext cx="2735280" cy="647640"/>
          </a:xfrm>
          <a:prstGeom prst="roundRect">
            <a:avLst>
              <a:gd name="adj" fmla="val 16667"/>
            </a:avLst>
          </a:prstGeom>
          <a:solidFill>
            <a:srgbClr val="139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67080" y="3355920"/>
            <a:ext cx="2590920" cy="2590920"/>
          </a:xfrm>
          <a:prstGeom prst="rect">
            <a:avLst/>
          </a:prstGeom>
          <a:solidFill>
            <a:srgbClr val="c6de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38360" y="3355920"/>
            <a:ext cx="2448000" cy="25210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94000" y="2708280"/>
            <a:ext cx="2735280" cy="21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2a7dd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310440" y="5946840"/>
            <a:ext cx="2592360" cy="21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2705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237360" y="2708280"/>
            <a:ext cx="2735280" cy="647640"/>
          </a:xfrm>
          <a:prstGeom prst="roundRect">
            <a:avLst>
              <a:gd name="adj" fmla="val 16667"/>
            </a:avLst>
          </a:prstGeom>
          <a:solidFill>
            <a:srgbClr val="139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10440" y="3355920"/>
            <a:ext cx="2590560" cy="2590920"/>
          </a:xfrm>
          <a:prstGeom prst="rect">
            <a:avLst/>
          </a:prstGeom>
          <a:solidFill>
            <a:srgbClr val="c6de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381720" y="3355920"/>
            <a:ext cx="2448000" cy="25210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37360" y="2708280"/>
            <a:ext cx="2735280" cy="21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2a7dd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348000" y="1987560"/>
            <a:ext cx="2592360" cy="21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2705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74920" y="1339920"/>
            <a:ext cx="2737080" cy="647640"/>
          </a:xfrm>
          <a:prstGeom prst="roundRect">
            <a:avLst>
              <a:gd name="adj" fmla="val 16667"/>
            </a:avLst>
          </a:prstGeom>
          <a:solidFill>
            <a:srgbClr val="1391d3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74920" y="1339920"/>
            <a:ext cx="2737080" cy="21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2a7dd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83080" y="1457280"/>
            <a:ext cx="20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for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28640" y="280044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635280" y="2851200"/>
            <a:ext cx="222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mer Bene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00960" y="2800440"/>
            <a:ext cx="20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mer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857160" y="760320"/>
            <a:ext cx="408240" cy="331560"/>
            <a:chOff x="857160" y="760320"/>
            <a:chExt cx="408240" cy="331560"/>
          </a:xfrm>
        </p:grpSpPr>
        <p:sp>
          <p:nvSpPr>
            <p:cNvPr id="213" name=""/>
            <p:cNvSpPr/>
            <p:nvPr/>
          </p:nvSpPr>
          <p:spPr>
            <a:xfrm>
              <a:off x="857160" y="760320"/>
              <a:ext cx="408240" cy="194040"/>
            </a:xfrm>
            <a:prstGeom prst="roundRect">
              <a:avLst>
                <a:gd name="adj" fmla="val 819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914040" y="804240"/>
              <a:ext cx="292680" cy="287640"/>
            </a:xfrm>
            <a:prstGeom prst="roundRect">
              <a:avLst>
                <a:gd name="adj" fmla="val 546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1787400" y="760320"/>
            <a:ext cx="408240" cy="382680"/>
          </a:xfrm>
          <a:prstGeom prst="roundRect">
            <a:avLst>
              <a:gd name="adj" fmla="val 417"/>
            </a:avLst>
          </a:prstGeom>
          <a:solidFill>
            <a:srgbClr val="38b8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662280" y="696960"/>
            <a:ext cx="381240" cy="380520"/>
            <a:chOff x="3662280" y="696960"/>
            <a:chExt cx="381240" cy="380520"/>
          </a:xfrm>
        </p:grpSpPr>
        <p:sp>
          <p:nvSpPr>
            <p:cNvPr id="217" name=""/>
            <p:cNvSpPr/>
            <p:nvPr/>
          </p:nvSpPr>
          <p:spPr>
            <a:xfrm>
              <a:off x="3746160" y="696960"/>
              <a:ext cx="213120" cy="172080"/>
            </a:xfrm>
            <a:prstGeom prst="roundRect">
              <a:avLst>
                <a:gd name="adj" fmla="val 926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662280" y="886320"/>
              <a:ext cx="381240" cy="191160"/>
            </a:xfrm>
            <a:prstGeom prst="roundRect">
              <a:avLst>
                <a:gd name="adj" fmla="val 833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4527720" y="760320"/>
            <a:ext cx="473040" cy="319320"/>
          </a:xfrm>
          <a:prstGeom prst="roundRect">
            <a:avLst>
              <a:gd name="adj" fmla="val 5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770200" y="696960"/>
            <a:ext cx="301680" cy="380520"/>
            <a:chOff x="2770200" y="696960"/>
            <a:chExt cx="301680" cy="380520"/>
          </a:xfrm>
        </p:grpSpPr>
        <p:sp>
          <p:nvSpPr>
            <p:cNvPr id="221" name=""/>
            <p:cNvSpPr/>
            <p:nvPr/>
          </p:nvSpPr>
          <p:spPr>
            <a:xfrm>
              <a:off x="2770200" y="847080"/>
              <a:ext cx="301680" cy="230400"/>
            </a:xfrm>
            <a:prstGeom prst="roundRect">
              <a:avLst>
                <a:gd name="adj" fmla="val 681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788920" y="696960"/>
              <a:ext cx="262080" cy="131040"/>
            </a:xfrm>
            <a:prstGeom prst="roundRect">
              <a:avLst>
                <a:gd name="adj" fmla="val 1218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 flipV="1" rot="10800000">
            <a:off x="2209680" y="4730760"/>
            <a:ext cx="4422960" cy="434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29080" y="1557360"/>
            <a:ext cx="1720800" cy="2570040"/>
          </a:xfrm>
          <a:prstGeom prst="pie">
            <a:avLst/>
          </a:prstGeom>
          <a:solidFill>
            <a:srgbClr val="79c2e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930400" y="3276720"/>
            <a:ext cx="2981520" cy="1708200"/>
          </a:xfrm>
          <a:prstGeom prst="pie">
            <a:avLst/>
          </a:prstGeom>
          <a:solidFill>
            <a:srgbClr val="79c2e6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695680" y="1558800"/>
            <a:ext cx="1730160" cy="2570400"/>
          </a:xfrm>
          <a:prstGeom prst="pie">
            <a:avLst/>
          </a:prstGeom>
          <a:solidFill>
            <a:srgbClr val="79c2e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6300000">
            <a:off x="2990520" y="3782880"/>
            <a:ext cx="388800" cy="39204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13500000">
            <a:off x="4232880" y="1656360"/>
            <a:ext cx="393840" cy="38916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20700000">
            <a:off x="5470200" y="3790800"/>
            <a:ext cx="390600" cy="3924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833200" y="1672200"/>
            <a:ext cx="3207240" cy="3204000"/>
            <a:chOff x="2833200" y="1672200"/>
            <a:chExt cx="3207240" cy="3204000"/>
          </a:xfrm>
        </p:grpSpPr>
        <p:sp>
          <p:nvSpPr>
            <p:cNvPr id="231" name=""/>
            <p:cNvSpPr/>
            <p:nvPr/>
          </p:nvSpPr>
          <p:spPr>
            <a:xfrm rot="660000">
              <a:off x="3068640" y="1908000"/>
              <a:ext cx="2736360" cy="27320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3500000"/>
            </a:gradFill>
            <a:ln w="9360">
              <a:solidFill>
                <a:srgbClr val="1391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660000">
              <a:off x="3222720" y="2056320"/>
              <a:ext cx="2427840" cy="2432880"/>
            </a:xfrm>
            <a:prstGeom prst="ellipse">
              <a:avLst/>
            </a:prstGeom>
            <a:solidFill>
              <a:srgbClr val="79c2e6"/>
            </a:solidFill>
            <a:ln w="9360">
              <a:solidFill>
                <a:srgbClr val="1391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857160" y="760320"/>
            <a:ext cx="408240" cy="331560"/>
            <a:chOff x="857160" y="760320"/>
            <a:chExt cx="408240" cy="331560"/>
          </a:xfrm>
        </p:grpSpPr>
        <p:sp>
          <p:nvSpPr>
            <p:cNvPr id="234" name=""/>
            <p:cNvSpPr/>
            <p:nvPr/>
          </p:nvSpPr>
          <p:spPr>
            <a:xfrm>
              <a:off x="857160" y="760320"/>
              <a:ext cx="408240" cy="194040"/>
            </a:xfrm>
            <a:prstGeom prst="roundRect">
              <a:avLst>
                <a:gd name="adj" fmla="val 819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914040" y="804240"/>
              <a:ext cx="292680" cy="287640"/>
            </a:xfrm>
            <a:prstGeom prst="roundRect">
              <a:avLst>
                <a:gd name="adj" fmla="val 546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1787400" y="760320"/>
            <a:ext cx="408240" cy="382680"/>
          </a:xfrm>
          <a:prstGeom prst="roundRect">
            <a:avLst>
              <a:gd name="adj" fmla="val 41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662280" y="696960"/>
            <a:ext cx="381240" cy="380520"/>
            <a:chOff x="3662280" y="696960"/>
            <a:chExt cx="381240" cy="380520"/>
          </a:xfrm>
        </p:grpSpPr>
        <p:sp>
          <p:nvSpPr>
            <p:cNvPr id="238" name=""/>
            <p:cNvSpPr/>
            <p:nvPr/>
          </p:nvSpPr>
          <p:spPr>
            <a:xfrm>
              <a:off x="3746160" y="696960"/>
              <a:ext cx="213120" cy="172080"/>
            </a:xfrm>
            <a:prstGeom prst="roundRect">
              <a:avLst>
                <a:gd name="adj" fmla="val 926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62280" y="886320"/>
              <a:ext cx="381240" cy="191160"/>
            </a:xfrm>
            <a:prstGeom prst="roundRect">
              <a:avLst>
                <a:gd name="adj" fmla="val 833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4527720" y="760320"/>
            <a:ext cx="473040" cy="319320"/>
          </a:xfrm>
          <a:prstGeom prst="roundRect">
            <a:avLst>
              <a:gd name="adj" fmla="val 5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2770200" y="696960"/>
            <a:ext cx="301680" cy="380520"/>
            <a:chOff x="2770200" y="696960"/>
            <a:chExt cx="301680" cy="380520"/>
          </a:xfrm>
        </p:grpSpPr>
        <p:sp>
          <p:nvSpPr>
            <p:cNvPr id="242" name=""/>
            <p:cNvSpPr/>
            <p:nvPr/>
          </p:nvSpPr>
          <p:spPr>
            <a:xfrm>
              <a:off x="2770200" y="847080"/>
              <a:ext cx="301680" cy="230400"/>
            </a:xfrm>
            <a:prstGeom prst="roundRect">
              <a:avLst>
                <a:gd name="adj" fmla="val 681"/>
              </a:avLst>
            </a:prstGeom>
            <a:solidFill>
              <a:srgbClr val="38b8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88920" y="696960"/>
              <a:ext cx="262080" cy="131040"/>
            </a:xfrm>
            <a:prstGeom prst="roundRect">
              <a:avLst>
                <a:gd name="adj" fmla="val 1218"/>
              </a:avLst>
            </a:prstGeom>
            <a:solidFill>
              <a:srgbClr val="38b8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793800" y="3067200"/>
            <a:ext cx="2952720" cy="577800"/>
          </a:xfrm>
          <a:prstGeom prst="roundRect">
            <a:avLst>
              <a:gd name="adj" fmla="val 34889"/>
            </a:avLst>
          </a:prstGeom>
          <a:solidFill>
            <a:srgbClr val="139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66880" y="3067200"/>
            <a:ext cx="2797200" cy="57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009800" y="3139920"/>
            <a:ext cx="2574720" cy="482760"/>
          </a:xfrm>
          <a:prstGeom prst="roundRect">
            <a:avLst>
              <a:gd name="adj" fmla="val 16667"/>
            </a:avLst>
          </a:prstGeom>
          <a:solidFill>
            <a:srgbClr val="79c2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39960" y="3067200"/>
            <a:ext cx="149040" cy="95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66880" y="3139920"/>
            <a:ext cx="2695320" cy="9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0000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160" y="6381720"/>
            <a:ext cx="1514520" cy="7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2705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1240" y="4870440"/>
            <a:ext cx="1368360" cy="151128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1511280"/>
              <a:gd name="textAreaBottom" fmla="*/ 1444680 h 1511280"/>
            </a:gdLst>
            <a:ahLst/>
            <a:rect l="textAreaLeft" t="textAreaTop" r="textAreaRight" b="textAreaBottom"/>
            <a:pathLst>
              <a:path w="21600" h="23855">
                <a:moveTo>
                  <a:pt x="3600" y="0"/>
                </a:moveTo>
                <a:arcTo wR="3600" hR="3600" stAng="16200000" swAng="-5400000"/>
                <a:lnTo>
                  <a:pt x="0" y="20255"/>
                </a:lnTo>
                <a:arcTo wR="3600" hR="3600" stAng="10800000" swAng="-5400000"/>
                <a:lnTo>
                  <a:pt x="18000" y="238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1391d3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81080" y="4940280"/>
            <a:ext cx="1222200" cy="1371600"/>
          </a:xfrm>
          <a:custGeom>
            <a:avLst/>
            <a:gdLst>
              <a:gd name="textAreaLeft" fmla="*/ 59400 w 1222200"/>
              <a:gd name="textAreaRight" fmla="*/ 1162800 w 1222200"/>
              <a:gd name="textAreaTop" fmla="*/ 59400 h 1371600"/>
              <a:gd name="textAreaBottom" fmla="*/ 1312200 h 1371600"/>
            </a:gdLst>
            <a:ahLst/>
            <a:rect l="textAreaLeft" t="textAreaTop" r="textAreaRight" b="textAreaBottom"/>
            <a:pathLst>
              <a:path w="21600" h="24240">
                <a:moveTo>
                  <a:pt x="3600" y="0"/>
                </a:moveTo>
                <a:arcTo wR="3600" hR="3600" stAng="16200000" swAng="-5400000"/>
                <a:lnTo>
                  <a:pt x="0" y="20640"/>
                </a:lnTo>
                <a:arcTo wR="3600" hR="3600" stAng="10800000" swAng="-5400000"/>
                <a:lnTo>
                  <a:pt x="18000" y="242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11240" y="4365720"/>
            <a:ext cx="1365120" cy="504720"/>
          </a:xfrm>
          <a:prstGeom prst="roundRect">
            <a:avLst>
              <a:gd name="adj" fmla="val 16667"/>
            </a:avLst>
          </a:prstGeom>
          <a:solidFill>
            <a:srgbClr val="1391d3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1240" y="4365720"/>
            <a:ext cx="1368360" cy="14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2a7dd0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479600" y="6381720"/>
            <a:ext cx="1511280" cy="7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2705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49440" y="4870440"/>
            <a:ext cx="1368360" cy="151128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1511280"/>
              <a:gd name="textAreaBottom" fmla="*/ 1444680 h 1511280"/>
            </a:gdLst>
            <a:ahLst/>
            <a:rect l="textAreaLeft" t="textAreaTop" r="textAreaRight" b="textAreaBottom"/>
            <a:pathLst>
              <a:path w="21600" h="23855">
                <a:moveTo>
                  <a:pt x="3600" y="0"/>
                </a:moveTo>
                <a:arcTo wR="3600" hR="3600" stAng="16200000" swAng="-5400000"/>
                <a:lnTo>
                  <a:pt x="0" y="20255"/>
                </a:lnTo>
                <a:arcTo wR="3600" hR="3600" stAng="10800000" swAng="-5400000"/>
                <a:lnTo>
                  <a:pt x="18000" y="238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1391d3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622520" y="4940280"/>
            <a:ext cx="1222200" cy="1371600"/>
          </a:xfrm>
          <a:custGeom>
            <a:avLst/>
            <a:gdLst>
              <a:gd name="textAreaLeft" fmla="*/ 59400 w 1222200"/>
              <a:gd name="textAreaRight" fmla="*/ 1162800 w 1222200"/>
              <a:gd name="textAreaTop" fmla="*/ 59400 h 1371600"/>
              <a:gd name="textAreaBottom" fmla="*/ 1312200 h 1371600"/>
            </a:gdLst>
            <a:ahLst/>
            <a:rect l="textAreaLeft" t="textAreaTop" r="textAreaRight" b="textAreaBottom"/>
            <a:pathLst>
              <a:path w="21600" h="24240">
                <a:moveTo>
                  <a:pt x="3600" y="0"/>
                </a:moveTo>
                <a:arcTo wR="3600" hR="3600" stAng="16200000" swAng="-5400000"/>
                <a:lnTo>
                  <a:pt x="0" y="20640"/>
                </a:lnTo>
                <a:arcTo wR="3600" hR="3600" stAng="10800000" swAng="-5400000"/>
                <a:lnTo>
                  <a:pt x="18000" y="242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49440" y="436572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1391d3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549440" y="4365720"/>
            <a:ext cx="1368360" cy="14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2a7dd0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82880" y="6381720"/>
            <a:ext cx="1511280" cy="7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2705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25800" y="4870440"/>
            <a:ext cx="1368360" cy="151128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1511280"/>
              <a:gd name="textAreaBottom" fmla="*/ 1444680 h 1511280"/>
            </a:gdLst>
            <a:ahLst/>
            <a:rect l="textAreaLeft" t="textAreaTop" r="textAreaRight" b="textAreaBottom"/>
            <a:pathLst>
              <a:path w="21600" h="23855">
                <a:moveTo>
                  <a:pt x="3600" y="0"/>
                </a:moveTo>
                <a:arcTo wR="3600" hR="3600" stAng="16200000" swAng="-5400000"/>
                <a:lnTo>
                  <a:pt x="0" y="20255"/>
                </a:lnTo>
                <a:arcTo wR="3600" hR="3600" stAng="10800000" swAng="-5400000"/>
                <a:lnTo>
                  <a:pt x="18000" y="238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1391d3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98880" y="4940280"/>
            <a:ext cx="1222200" cy="1371600"/>
          </a:xfrm>
          <a:custGeom>
            <a:avLst/>
            <a:gdLst>
              <a:gd name="textAreaLeft" fmla="*/ 59400 w 1222200"/>
              <a:gd name="textAreaRight" fmla="*/ 1162800 w 1222200"/>
              <a:gd name="textAreaTop" fmla="*/ 59400 h 1371600"/>
              <a:gd name="textAreaBottom" fmla="*/ 1312200 h 1371600"/>
            </a:gdLst>
            <a:ahLst/>
            <a:rect l="textAreaLeft" t="textAreaTop" r="textAreaRight" b="textAreaBottom"/>
            <a:pathLst>
              <a:path w="21600" h="24240">
                <a:moveTo>
                  <a:pt x="3600" y="0"/>
                </a:moveTo>
                <a:arcTo wR="3600" hR="3600" stAng="16200000" swAng="-5400000"/>
                <a:lnTo>
                  <a:pt x="0" y="20640"/>
                </a:lnTo>
                <a:arcTo wR="3600" hR="3600" stAng="10800000" swAng="-5400000"/>
                <a:lnTo>
                  <a:pt x="18000" y="242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25800" y="436572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1391d3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25800" y="4365720"/>
            <a:ext cx="1368360" cy="14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2a7dd0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718160" y="6381720"/>
            <a:ext cx="1511280" cy="7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2705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788000" y="4870440"/>
            <a:ext cx="1368360" cy="151128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1511280"/>
              <a:gd name="textAreaBottom" fmla="*/ 1444680 h 1511280"/>
            </a:gdLst>
            <a:ahLst/>
            <a:rect l="textAreaLeft" t="textAreaTop" r="textAreaRight" b="textAreaBottom"/>
            <a:pathLst>
              <a:path w="21600" h="23855">
                <a:moveTo>
                  <a:pt x="3600" y="0"/>
                </a:moveTo>
                <a:arcTo wR="3600" hR="3600" stAng="16200000" swAng="-5400000"/>
                <a:lnTo>
                  <a:pt x="0" y="20255"/>
                </a:lnTo>
                <a:arcTo wR="3600" hR="3600" stAng="10800000" swAng="-5400000"/>
                <a:lnTo>
                  <a:pt x="18000" y="238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1391d3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861080" y="4940280"/>
            <a:ext cx="1222200" cy="1371600"/>
          </a:xfrm>
          <a:custGeom>
            <a:avLst/>
            <a:gdLst>
              <a:gd name="textAreaLeft" fmla="*/ 59400 w 1222200"/>
              <a:gd name="textAreaRight" fmla="*/ 1162800 w 1222200"/>
              <a:gd name="textAreaTop" fmla="*/ 59400 h 1371600"/>
              <a:gd name="textAreaBottom" fmla="*/ 1312200 h 1371600"/>
            </a:gdLst>
            <a:ahLst/>
            <a:rect l="textAreaLeft" t="textAreaTop" r="textAreaRight" b="textAreaBottom"/>
            <a:pathLst>
              <a:path w="21600" h="24240">
                <a:moveTo>
                  <a:pt x="3600" y="0"/>
                </a:moveTo>
                <a:arcTo wR="3600" hR="3600" stAng="16200000" swAng="-5400000"/>
                <a:lnTo>
                  <a:pt x="0" y="20640"/>
                </a:lnTo>
                <a:arcTo wR="3600" hR="3600" stAng="10800000" swAng="-5400000"/>
                <a:lnTo>
                  <a:pt x="18000" y="242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788000" y="436572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1391d3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88000" y="4365720"/>
            <a:ext cx="1368360" cy="14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2a7dd0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156360" y="6381720"/>
            <a:ext cx="1514520" cy="7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2705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229440" y="4870440"/>
            <a:ext cx="1368360" cy="151128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1511280"/>
              <a:gd name="textAreaBottom" fmla="*/ 1444680 h 1511280"/>
            </a:gdLst>
            <a:ahLst/>
            <a:rect l="textAreaLeft" t="textAreaTop" r="textAreaRight" b="textAreaBottom"/>
            <a:pathLst>
              <a:path w="21600" h="23855">
                <a:moveTo>
                  <a:pt x="3600" y="0"/>
                </a:moveTo>
                <a:arcTo wR="3600" hR="3600" stAng="16200000" swAng="-5400000"/>
                <a:lnTo>
                  <a:pt x="0" y="20255"/>
                </a:lnTo>
                <a:arcTo wR="3600" hR="3600" stAng="10800000" swAng="-5400000"/>
                <a:lnTo>
                  <a:pt x="18000" y="238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1391d3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299280" y="4940280"/>
            <a:ext cx="1222200" cy="1371600"/>
          </a:xfrm>
          <a:custGeom>
            <a:avLst/>
            <a:gdLst>
              <a:gd name="textAreaLeft" fmla="*/ 59400 w 1222200"/>
              <a:gd name="textAreaRight" fmla="*/ 1162800 w 1222200"/>
              <a:gd name="textAreaTop" fmla="*/ 59400 h 1371600"/>
              <a:gd name="textAreaBottom" fmla="*/ 1312200 h 1371600"/>
            </a:gdLst>
            <a:ahLst/>
            <a:rect l="textAreaLeft" t="textAreaTop" r="textAreaRight" b="textAreaBottom"/>
            <a:pathLst>
              <a:path w="21600" h="24240">
                <a:moveTo>
                  <a:pt x="3600" y="0"/>
                </a:moveTo>
                <a:arcTo wR="3600" hR="3600" stAng="16200000" swAng="-5400000"/>
                <a:lnTo>
                  <a:pt x="0" y="20640"/>
                </a:lnTo>
                <a:arcTo wR="3600" hR="3600" stAng="10800000" swAng="-5400000"/>
                <a:lnTo>
                  <a:pt x="18000" y="242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229440" y="4365720"/>
            <a:ext cx="1365120" cy="504720"/>
          </a:xfrm>
          <a:prstGeom prst="roundRect">
            <a:avLst>
              <a:gd name="adj" fmla="val 16667"/>
            </a:avLst>
          </a:prstGeom>
          <a:solidFill>
            <a:srgbClr val="1391d3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229440" y="4365720"/>
            <a:ext cx="1368360" cy="14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2a7dd0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631280" y="5734080"/>
            <a:ext cx="1512720" cy="7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2705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635960" y="4870440"/>
            <a:ext cx="1368360" cy="151128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1511280"/>
              <a:gd name="textAreaBottom" fmla="*/ 1444680 h 1511280"/>
            </a:gdLst>
            <a:ahLst/>
            <a:rect l="textAreaLeft" t="textAreaTop" r="textAreaRight" b="textAreaBottom"/>
            <a:pathLst>
              <a:path w="21600" h="23855">
                <a:moveTo>
                  <a:pt x="3600" y="0"/>
                </a:moveTo>
                <a:arcTo wR="3600" hR="3600" stAng="16200000" swAng="-5400000"/>
                <a:lnTo>
                  <a:pt x="0" y="20255"/>
                </a:lnTo>
                <a:arcTo wR="3600" hR="3600" stAng="10800000" swAng="-5400000"/>
                <a:lnTo>
                  <a:pt x="18000" y="238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1391d3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705800" y="4940280"/>
            <a:ext cx="1222200" cy="1371600"/>
          </a:xfrm>
          <a:custGeom>
            <a:avLst/>
            <a:gdLst>
              <a:gd name="textAreaLeft" fmla="*/ 59400 w 1222200"/>
              <a:gd name="textAreaRight" fmla="*/ 1162800 w 1222200"/>
              <a:gd name="textAreaTop" fmla="*/ 59400 h 1371600"/>
              <a:gd name="textAreaBottom" fmla="*/ 1312200 h 1371600"/>
            </a:gdLst>
            <a:ahLst/>
            <a:rect l="textAreaLeft" t="textAreaTop" r="textAreaRight" b="textAreaBottom"/>
            <a:pathLst>
              <a:path w="21600" h="24240">
                <a:moveTo>
                  <a:pt x="3600" y="0"/>
                </a:moveTo>
                <a:arcTo wR="3600" hR="3600" stAng="16200000" swAng="-5400000"/>
                <a:lnTo>
                  <a:pt x="0" y="20640"/>
                </a:lnTo>
                <a:arcTo wR="3600" hR="3600" stAng="10800000" swAng="-5400000"/>
                <a:lnTo>
                  <a:pt x="18000" y="242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635960" y="4365720"/>
            <a:ext cx="1365120" cy="504720"/>
          </a:xfrm>
          <a:prstGeom prst="roundRect">
            <a:avLst>
              <a:gd name="adj" fmla="val 16667"/>
            </a:avLst>
          </a:prstGeom>
          <a:solidFill>
            <a:srgbClr val="1391d3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635960" y="4365720"/>
            <a:ext cx="1368360" cy="14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2a7dd0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330880" y="3067200"/>
            <a:ext cx="2952720" cy="577800"/>
          </a:xfrm>
          <a:prstGeom prst="roundRect">
            <a:avLst>
              <a:gd name="adj" fmla="val 34889"/>
            </a:avLst>
          </a:prstGeom>
          <a:solidFill>
            <a:srgbClr val="1391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403960" y="3067200"/>
            <a:ext cx="2797200" cy="57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3139920"/>
            <a:ext cx="2574720" cy="482760"/>
          </a:xfrm>
          <a:prstGeom prst="roundRect">
            <a:avLst>
              <a:gd name="adj" fmla="val 16667"/>
            </a:avLst>
          </a:prstGeom>
          <a:solidFill>
            <a:srgbClr val="79c2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477040" y="3067200"/>
            <a:ext cx="149040" cy="95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403960" y="3139920"/>
            <a:ext cx="2695320" cy="9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0000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171960" y="1628640"/>
            <a:ext cx="2952720" cy="578160"/>
          </a:xfrm>
          <a:prstGeom prst="roundRect">
            <a:avLst>
              <a:gd name="adj" fmla="val 34889"/>
            </a:avLst>
          </a:prstGeom>
          <a:solidFill>
            <a:srgbClr val="1391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241800" y="1628640"/>
            <a:ext cx="280008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387600" y="1701720"/>
            <a:ext cx="2571840" cy="479520"/>
          </a:xfrm>
          <a:prstGeom prst="roundRect">
            <a:avLst>
              <a:gd name="adj" fmla="val 16667"/>
            </a:avLst>
          </a:prstGeom>
          <a:solidFill>
            <a:srgbClr val="79c2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314880" y="1628640"/>
            <a:ext cx="152280" cy="95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41800" y="1701720"/>
            <a:ext cx="2698560" cy="9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0000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2158920" y="1844640"/>
            <a:ext cx="1015920" cy="180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162160" y="1844640"/>
            <a:ext cx="1440" cy="122544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162160" y="3645000"/>
            <a:ext cx="1440" cy="72072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93800" y="4149720"/>
            <a:ext cx="1440" cy="21600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93800" y="4149720"/>
            <a:ext cx="2952720" cy="144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746520" y="4149720"/>
            <a:ext cx="1440" cy="21600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124680" y="1844640"/>
            <a:ext cx="933480" cy="180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058160" y="1844640"/>
            <a:ext cx="1440" cy="122544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058160" y="3645000"/>
            <a:ext cx="1440" cy="72072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546880" y="4146480"/>
            <a:ext cx="1440" cy="22248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546880" y="4149720"/>
            <a:ext cx="2879640" cy="144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426520" y="4149720"/>
            <a:ext cx="1440" cy="21600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489480" y="1739880"/>
            <a:ext cx="23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Brand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219320" y="3232080"/>
            <a:ext cx="20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nd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924520" y="3219480"/>
            <a:ext cx="17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nd Na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244680" y="2206800"/>
            <a:ext cx="2806920" cy="142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2705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66880" y="3648240"/>
            <a:ext cx="2736720" cy="142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2705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477040" y="3648240"/>
            <a:ext cx="2736720" cy="21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2705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857160" y="760320"/>
            <a:ext cx="408240" cy="331560"/>
            <a:chOff x="857160" y="760320"/>
            <a:chExt cx="408240" cy="331560"/>
          </a:xfrm>
        </p:grpSpPr>
        <p:sp>
          <p:nvSpPr>
            <p:cNvPr id="308" name=""/>
            <p:cNvSpPr/>
            <p:nvPr/>
          </p:nvSpPr>
          <p:spPr>
            <a:xfrm>
              <a:off x="857160" y="760320"/>
              <a:ext cx="408240" cy="194040"/>
            </a:xfrm>
            <a:prstGeom prst="roundRect">
              <a:avLst>
                <a:gd name="adj" fmla="val 819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14040" y="804240"/>
              <a:ext cx="292680" cy="287640"/>
            </a:xfrm>
            <a:prstGeom prst="roundRect">
              <a:avLst>
                <a:gd name="adj" fmla="val 546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1787400" y="760320"/>
            <a:ext cx="408240" cy="382680"/>
          </a:xfrm>
          <a:prstGeom prst="roundRect">
            <a:avLst>
              <a:gd name="adj" fmla="val 41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3662280" y="696960"/>
            <a:ext cx="381240" cy="380520"/>
            <a:chOff x="3662280" y="696960"/>
            <a:chExt cx="381240" cy="380520"/>
          </a:xfrm>
        </p:grpSpPr>
        <p:sp>
          <p:nvSpPr>
            <p:cNvPr id="312" name=""/>
            <p:cNvSpPr/>
            <p:nvPr/>
          </p:nvSpPr>
          <p:spPr>
            <a:xfrm>
              <a:off x="3746160" y="696960"/>
              <a:ext cx="213120" cy="172080"/>
            </a:xfrm>
            <a:prstGeom prst="roundRect">
              <a:avLst>
                <a:gd name="adj" fmla="val 926"/>
              </a:avLst>
            </a:prstGeom>
            <a:solidFill>
              <a:srgbClr val="38b8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62280" y="886320"/>
              <a:ext cx="381240" cy="191160"/>
            </a:xfrm>
            <a:prstGeom prst="roundRect">
              <a:avLst>
                <a:gd name="adj" fmla="val 833"/>
              </a:avLst>
            </a:prstGeom>
            <a:solidFill>
              <a:srgbClr val="38b8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4527720" y="760320"/>
            <a:ext cx="473040" cy="319320"/>
          </a:xfrm>
          <a:prstGeom prst="roundRect">
            <a:avLst>
              <a:gd name="adj" fmla="val 5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2770200" y="696960"/>
            <a:ext cx="301680" cy="380520"/>
            <a:chOff x="2770200" y="696960"/>
            <a:chExt cx="301680" cy="380520"/>
          </a:xfrm>
        </p:grpSpPr>
        <p:sp>
          <p:nvSpPr>
            <p:cNvPr id="316" name=""/>
            <p:cNvSpPr/>
            <p:nvPr/>
          </p:nvSpPr>
          <p:spPr>
            <a:xfrm>
              <a:off x="2770200" y="847080"/>
              <a:ext cx="301680" cy="230400"/>
            </a:xfrm>
            <a:prstGeom prst="roundRect">
              <a:avLst>
                <a:gd name="adj" fmla="val 681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88920" y="696960"/>
              <a:ext cx="262080" cy="131040"/>
            </a:xfrm>
            <a:prstGeom prst="roundRect">
              <a:avLst>
                <a:gd name="adj" fmla="val 1218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7034400" y="644508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857160" y="760320"/>
            <a:ext cx="408240" cy="331560"/>
            <a:chOff x="857160" y="760320"/>
            <a:chExt cx="408240" cy="331560"/>
          </a:xfrm>
        </p:grpSpPr>
        <p:sp>
          <p:nvSpPr>
            <p:cNvPr id="320" name=""/>
            <p:cNvSpPr/>
            <p:nvPr/>
          </p:nvSpPr>
          <p:spPr>
            <a:xfrm>
              <a:off x="857160" y="760320"/>
              <a:ext cx="408240" cy="194040"/>
            </a:xfrm>
            <a:prstGeom prst="roundRect">
              <a:avLst>
                <a:gd name="adj" fmla="val 819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914040" y="804240"/>
              <a:ext cx="292680" cy="287640"/>
            </a:xfrm>
            <a:prstGeom prst="roundRect">
              <a:avLst>
                <a:gd name="adj" fmla="val 546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1787400" y="760320"/>
            <a:ext cx="408240" cy="382680"/>
          </a:xfrm>
          <a:prstGeom prst="roundRect">
            <a:avLst>
              <a:gd name="adj" fmla="val 41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3662280" y="696960"/>
            <a:ext cx="381240" cy="380520"/>
            <a:chOff x="3662280" y="696960"/>
            <a:chExt cx="381240" cy="380520"/>
          </a:xfrm>
        </p:grpSpPr>
        <p:sp>
          <p:nvSpPr>
            <p:cNvPr id="324" name=""/>
            <p:cNvSpPr/>
            <p:nvPr/>
          </p:nvSpPr>
          <p:spPr>
            <a:xfrm>
              <a:off x="3746160" y="696960"/>
              <a:ext cx="213120" cy="172080"/>
            </a:xfrm>
            <a:prstGeom prst="roundRect">
              <a:avLst>
                <a:gd name="adj" fmla="val 926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662280" y="886320"/>
              <a:ext cx="381240" cy="191160"/>
            </a:xfrm>
            <a:prstGeom prst="roundRect">
              <a:avLst>
                <a:gd name="adj" fmla="val 833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4527720" y="760320"/>
            <a:ext cx="473040" cy="319320"/>
          </a:xfrm>
          <a:prstGeom prst="roundRect">
            <a:avLst>
              <a:gd name="adj" fmla="val 500"/>
            </a:avLst>
          </a:prstGeom>
          <a:solidFill>
            <a:srgbClr val="38b8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2770200" y="696960"/>
            <a:ext cx="301680" cy="380520"/>
            <a:chOff x="2770200" y="696960"/>
            <a:chExt cx="301680" cy="380520"/>
          </a:xfrm>
        </p:grpSpPr>
        <p:sp>
          <p:nvSpPr>
            <p:cNvPr id="328" name=""/>
            <p:cNvSpPr/>
            <p:nvPr/>
          </p:nvSpPr>
          <p:spPr>
            <a:xfrm>
              <a:off x="2770200" y="847080"/>
              <a:ext cx="301680" cy="230400"/>
            </a:xfrm>
            <a:prstGeom prst="roundRect">
              <a:avLst>
                <a:gd name="adj" fmla="val 681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88920" y="696960"/>
              <a:ext cx="262080" cy="131040"/>
            </a:xfrm>
            <a:prstGeom prst="roundRect">
              <a:avLst>
                <a:gd name="adj" fmla="val 1218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2124000" y="2709720"/>
            <a:ext cx="5256360" cy="2667240"/>
          </a:xfrm>
          <a:prstGeom prst="roundRect">
            <a:avLst>
              <a:gd name="adj" fmla="val 787"/>
            </a:avLst>
          </a:prstGeom>
          <a:gradFill rotWithShape="0">
            <a:gsLst>
              <a:gs pos="0">
                <a:srgbClr val="3c3c3c"/>
              </a:gs>
              <a:gs pos="100000">
                <a:srgbClr val="141414"/>
              </a:gs>
            </a:gsLst>
            <a:lin ang="54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692360" y="2709720"/>
            <a:ext cx="360360" cy="266724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2667240"/>
              <a:gd name="textAreaBottom" fmla="*/ 2649960 h 2667240"/>
            </a:gdLst>
            <a:ahLst/>
            <a:rect l="textAreaLeft" t="textAreaTop" r="textAreaRight" b="textAreaBottom"/>
            <a:pathLst>
              <a:path w="21600" h="159737">
                <a:moveTo>
                  <a:pt x="3600" y="0"/>
                </a:moveTo>
                <a:arcTo wR="3600" hR="3600" stAng="16200000" swAng="-5400000"/>
                <a:lnTo>
                  <a:pt x="0" y="156137"/>
                </a:lnTo>
                <a:arcTo wR="3600" hR="3600" stAng="10800000" swAng="-5400000"/>
                <a:lnTo>
                  <a:pt x="18000" y="1597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3c3c3c"/>
              </a:gs>
              <a:gs pos="100000">
                <a:srgbClr val="141414"/>
              </a:gs>
            </a:gsLst>
            <a:lin ang="54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835280" y="2782800"/>
            <a:ext cx="75960" cy="2521080"/>
          </a:xfrm>
          <a:custGeom>
            <a:avLst/>
            <a:gdLst>
              <a:gd name="textAreaLeft" fmla="*/ 3600 w 75960"/>
              <a:gd name="textAreaRight" fmla="*/ 72360 w 75960"/>
              <a:gd name="textAreaTop" fmla="*/ 3600 h 2521080"/>
              <a:gd name="textAreaBottom" fmla="*/ 2517480 h 2521080"/>
            </a:gdLst>
            <a:ahLst/>
            <a:rect l="textAreaLeft" t="textAreaTop" r="textAreaRight" b="textAreaBottom"/>
            <a:pathLst>
              <a:path w="21600" h="713615">
                <a:moveTo>
                  <a:pt x="3600" y="0"/>
                </a:moveTo>
                <a:arcTo wR="3600" hR="3600" stAng="16200000" swAng="-5400000"/>
                <a:lnTo>
                  <a:pt x="0" y="710015"/>
                </a:lnTo>
                <a:arcTo wR="3600" hR="3600" stAng="10800000" swAng="-5400000"/>
                <a:lnTo>
                  <a:pt x="18000" y="7136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340000" y="2998800"/>
            <a:ext cx="4537080" cy="863640"/>
          </a:xfrm>
          <a:prstGeom prst="roundRect">
            <a:avLst>
              <a:gd name="adj" fmla="val 77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2335320" y="2992320"/>
            <a:ext cx="4545000" cy="876240"/>
            <a:chOff x="2335320" y="2992320"/>
            <a:chExt cx="4545000" cy="876240"/>
          </a:xfrm>
        </p:grpSpPr>
        <p:pic>
          <p:nvPicPr>
            <p:cNvPr id="335" name="" descr=""/>
            <p:cNvPicPr/>
            <p:nvPr/>
          </p:nvPicPr>
          <p:blipFill>
            <a:blip r:embed="rId1"/>
            <a:stretch/>
          </p:blipFill>
          <p:spPr>
            <a:xfrm>
              <a:off x="2335320" y="2992320"/>
              <a:ext cx="4545000" cy="8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2360520" y="3015720"/>
              <a:ext cx="4497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2340000" y="4799160"/>
            <a:ext cx="3889440" cy="361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e1e1e"/>
              </a:gs>
              <a:gs pos="100000">
                <a:srgbClr val="272727"/>
              </a:gs>
            </a:gsLst>
            <a:lin ang="5400000"/>
          </a:gradFill>
          <a:ln w="19080">
            <a:solidFill>
              <a:srgbClr val="3030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372360" y="4799160"/>
            <a:ext cx="792000" cy="361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64646"/>
              </a:gs>
              <a:gs pos="50000">
                <a:srgbClr val="393939"/>
              </a:gs>
              <a:gs pos="100000">
                <a:srgbClr val="464646"/>
              </a:gs>
            </a:gsLst>
            <a:lin ang="10800000"/>
          </a:gradFill>
          <a:ln w="12600">
            <a:solidFill>
              <a:srgbClr val="6565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1030320" y="2620800"/>
            <a:ext cx="650880" cy="322560"/>
            <a:chOff x="1030320" y="2620800"/>
            <a:chExt cx="650880" cy="322560"/>
          </a:xfrm>
        </p:grpSpPr>
        <p:pic>
          <p:nvPicPr>
            <p:cNvPr id="340" name="" descr=""/>
            <p:cNvPicPr/>
            <p:nvPr/>
          </p:nvPicPr>
          <p:blipFill>
            <a:blip r:embed="rId2"/>
            <a:stretch/>
          </p:blipFill>
          <p:spPr>
            <a:xfrm>
              <a:off x="1030320" y="2620800"/>
              <a:ext cx="650880" cy="3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 rot="16140000">
              <a:off x="1152720" y="2548080"/>
              <a:ext cx="260640" cy="4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1044720" y="2639880"/>
            <a:ext cx="504720" cy="289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>
                  <a:alpha val="1725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044720" y="2639880"/>
            <a:ext cx="7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52800" y="1566720"/>
            <a:ext cx="31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ontac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374920" y="3049560"/>
            <a:ext cx="428616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CT 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995560" y="404964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welcome to visit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544840" y="4827600"/>
            <a:ext cx="3539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410160" y="4840200"/>
            <a:ext cx="75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UBM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213080" y="2062080"/>
            <a:ext cx="18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your slogan goes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956120" y="587700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333440" y="5815080"/>
            <a:ext cx="62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GB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GB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3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7T15:57:43Z</dcterms:created>
  <dc:creator>闃胯揪娓</dc:creator>
  <dc:description/>
  <dc:language>en-US</dc:language>
  <cp:lastModifiedBy>闆ㄦ灄鏈ㄩ</cp:lastModifiedBy>
  <dcterms:modified xsi:type="dcterms:W3CDTF">2015-01-07T17:14:24Z</dcterms:modified>
  <cp:revision>2</cp:revision>
  <dc:subject/>
  <dc:title>钃濊壊闆呰嚧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