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926B2-5E0D-4115-BDF6-557EFE596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2634E-C285-4E4B-8B53-558EA0D89C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04361-C6E8-44CB-89D4-6BD24F690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0189E-21FE-473D-B0D5-828594AF26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315720"/>
            <a:ext cx="67676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1AF81-CF25-483A-B8AF-45A0BACB6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821760"/>
            <a:ext cx="26424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06568-7D6B-48CF-97FE-D83148ADB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602B5-A609-4E6F-BB9B-30BEDCFEB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6D12F-175A-4B4D-91ED-9B71337B8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315720"/>
            <a:ext cx="6767640" cy="208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98A11-4B65-4BB0-9552-17A9498193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CF744-9494-43C1-9746-C241BFC46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82176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5FE47-6738-4892-B4E6-F467B3024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21760"/>
            <a:ext cx="82072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7AFE9-BB28-431F-873A-E4939248D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507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22480" cy="2071800"/>
          </a:xfrm>
          <a:prstGeom prst="rect">
            <a:avLst/>
          </a:prstGeom>
          <a:ln w="0">
            <a:noFill/>
          </a:ln>
        </p:spPr>
      </p:pic>
      <p:sp>
        <p:nvSpPr>
          <p:cNvPr id="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468000" y="6453360"/>
            <a:ext cx="143964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CADCC4C-E6FB-462A-8F8B-FAFC98D7CB16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68000" y="315720"/>
            <a:ext cx="6767640" cy="4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468360" y="3240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76360" y="4149360"/>
            <a:ext cx="5398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0517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76360" y="4149360"/>
            <a:ext cx="5398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灰色通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76720" y="522900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7708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49480"/>
            <a:ext cx="67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76360" y="4149360"/>
            <a:ext cx="5398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276720" y="522900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3a0004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0:24:27Z</dcterms:created>
  <dc:creator/>
  <dc:description/>
  <dc:language>en-US</dc:language>
  <cp:lastModifiedBy/>
  <dcterms:modified xsi:type="dcterms:W3CDTF">2015-01-08T04:54:2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