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7F1-6CC5-4CB9-92DD-2360D6F2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70B-3D7D-4AF4-9CEE-73EB42B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1AE-33FA-4F39-938E-60E867F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964-A36D-4820-A588-0E843A25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562-8C83-4E5D-84D2-2D38A84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720" y="306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F6A-2A44-422C-BA14-061BDB2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320-66A3-415C-9909-56F3EC5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A00-585A-41BC-8201-0724DCD5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1BD-1472-46C7-8212-D698B15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B55-7FF5-407C-AF37-B150808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D4C-78B4-49FB-838D-FC95E62C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A35-8BEB-4873-B483-EDB71F8F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303E-3340-4684-B8D1-8C023818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A0DA-13A0-418D-8FF2-1CECD91B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3258-2E8A-46C8-9639-4F72489B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8F1A-7400-4D85-B992-99F4E00E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5954-81BD-40D1-8529-0B324E09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720" y="306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8779-0B69-4DB1-BC80-9C2245D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9185-C8C4-4369-BAD7-2D693EF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4EF7-E391-4937-AD53-5A21467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99B-3E21-4CC5-947E-1305205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8A72-3658-4A85-A257-0A9FC6F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267C-B4B8-4925-84A3-11CFB988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2FD-3143-484E-9114-34213EA1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6720" y="306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E88-4CA2-40C8-BAFC-441EA152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306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DB3-5CA5-405C-A5D7-C7627D89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95640" y="1844640"/>
            <a:ext cx="881280" cy="870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9440" y="2421000"/>
            <a:ext cx="3884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黑天鹅电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812000" y="3284640"/>
            <a:ext cx="1216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453440" y="260280"/>
            <a:ext cx="1388880" cy="31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谢谢观赏！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820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9:58:26Z</dcterms:created>
  <dc:creator/>
  <dc:description/>
  <dc:language>en-US</dc:language>
  <cp:lastModifiedBy/>
  <dcterms:modified xsi:type="dcterms:W3CDTF">2015-01-09T03:51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