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A80-BEAF-456A-8296-B58998D3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B81-49E5-4EFD-98E6-604C8AA6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68A-DD44-4BC2-BFD4-5062D865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0318-15BF-4937-841F-F8296C8C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A64D-7919-47F7-BA87-F2FF8979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4C8F-2DFE-4734-A6D5-E991BFF9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5D67-9E53-4737-AC6A-0D71F83D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6F0F-9FC6-4C6B-9707-429B6FA8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FE37-0A2A-48D6-AB58-AE57137F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5816-D958-4E45-AEEF-670D6673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0D0D-BB91-4EC3-A5AE-FB67E68F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434-3AF8-45B7-A10D-00F0DB00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913A-3971-4503-A70A-37BF9100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EE4C-E09A-4C60-8D84-B2E35B5D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D0F0-974E-41B0-AB53-65FCAB34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6314-895D-434E-963C-3FE333D3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D9A4-4272-485E-9202-8FCA1114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808-E4A5-481C-9FC1-9B113F3D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039-01D7-42F9-BECB-A0374F98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58F-1EA9-43A2-919E-0A7BCD17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E8D-FFC1-4BE9-964A-438DA386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AAF-AA0F-4E1C-B2CE-8CF73B76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8A9-977E-4B8B-9776-94297E5F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F69-A5A5-4FC0-B861-CB9B38AC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C73D-056E-4903-AC7C-C5A2DE9A4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7049-78FC-41C3-8B75-C1888AF48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街边的自行车风景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80" y="645336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08:20Z</dcterms:created>
  <dc:creator/>
  <dc:description/>
  <dc:language>en-US</dc:language>
  <cp:lastModifiedBy>imagedemo</cp:lastModifiedBy>
  <dcterms:modified xsi:type="dcterms:W3CDTF">2015-01-08T07:05:5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