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CB8-3E97-4E83-9683-5E9E8B63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6720" y="377208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824-35D3-484F-BE3A-E775D634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44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8D9-A009-4354-A6CD-CD9A869D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968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0264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9672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968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0264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3B5-ABA1-45A8-9A6C-1166745B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82C7-6E82-41DE-90B8-95435055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B59-58BB-440B-AB6D-7F6F360D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C386-0B43-40D7-9370-DAA78B65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E813-0F38-4C1F-BFFA-6258228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E40F-6D51-469F-9510-17D7F3B6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96360" y="43920"/>
            <a:ext cx="66265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515D-1689-4565-9658-9FFAFF1D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A1EE-2B8C-40EA-8DE3-36F46035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76F-20AA-4B6D-A376-CE06323B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ACC7-4B3D-4CD0-8E08-5188907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3CDA-EA6C-433E-B09C-3BEFFA1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720" y="377208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C262-4396-46FD-B296-D2320491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E750-A29B-4E49-88FB-3118FB21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9968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02640" y="119700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9672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9968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02640" y="3772080"/>
            <a:ext cx="2669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6A55-B62E-4D4F-9117-07275979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5B1-88EF-46D1-BD1E-6B5AD4F6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B29-174E-4798-90E8-D3754B7B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73A-EFA1-41F3-985D-BDE735A8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96360" y="43920"/>
            <a:ext cx="66265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ED6-3B00-42A4-AD3B-7FB84245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2D5-3C76-46C2-9B73-770B1B9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44720" y="377208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D2E-5320-48CA-A55E-7299DF6E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4720" y="1197000"/>
            <a:ext cx="404532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772080"/>
            <a:ext cx="82900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8A1-29DD-4DFA-A4D5-90935490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0"/>
            <a:ext cx="9140760" cy="6858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BA20-8AB6-4DE1-8E0B-801DF8ED04E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0" t="0" r="0" b="42"/>
          <a:stretch/>
        </p:blipFill>
        <p:spPr>
          <a:xfrm>
            <a:off x="7667640" y="4851360"/>
            <a:ext cx="1444680" cy="2016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549360"/>
            <a:ext cx="8633880" cy="533160"/>
            <a:chOff x="0" y="549360"/>
            <a:chExt cx="8633880" cy="533160"/>
          </a:xfrm>
        </p:grpSpPr>
        <p:sp>
          <p:nvSpPr>
            <p:cNvPr id="8" name=""/>
            <p:cNvSpPr/>
            <p:nvPr/>
          </p:nvSpPr>
          <p:spPr>
            <a:xfrm>
              <a:off x="0" y="693000"/>
              <a:ext cx="7774560" cy="36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7775280" y="549360"/>
              <a:ext cx="8586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213"/>
                  </a:moveTo>
                  <a:cubicBezTo>
                    <a:pt x="1341" y="7859"/>
                    <a:pt x="6481" y="21600"/>
                    <a:pt x="8062" y="21112"/>
                  </a:cubicBezTo>
                  <a:cubicBezTo>
                    <a:pt x="9642" y="20624"/>
                    <a:pt x="7263" y="4520"/>
                    <a:pt x="9514" y="2260"/>
                  </a:cubicBezTo>
                  <a:cubicBezTo>
                    <a:pt x="11765" y="0"/>
                    <a:pt x="19588" y="6677"/>
                    <a:pt x="21600" y="7551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50920" y="1054080"/>
            <a:ext cx="856908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821800" y="1054080"/>
            <a:ext cx="1440" cy="518472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250560" y="6237360"/>
            <a:ext cx="8569080" cy="144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V="1">
            <a:off x="250920" y="1054080"/>
            <a:ext cx="0" cy="518328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D0D9-E993-45D0-9A33-0BEA2629B2A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631960" y="3407760"/>
            <a:ext cx="1157400" cy="114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078440" y="2417760"/>
            <a:ext cx="1157040" cy="1144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38400" y="4387680"/>
            <a:ext cx="1158840" cy="11448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25560" y="1270080"/>
            <a:ext cx="7045200" cy="431640"/>
            <a:chOff x="-25560" y="1270080"/>
            <a:chExt cx="7045200" cy="431640"/>
          </a:xfrm>
        </p:grpSpPr>
        <p:sp>
          <p:nvSpPr>
            <p:cNvPr id="59" name=""/>
            <p:cNvSpPr/>
            <p:nvPr/>
          </p:nvSpPr>
          <p:spPr>
            <a:xfrm>
              <a:off x="-25560" y="1386360"/>
              <a:ext cx="6344280" cy="36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6319080" y="1270080"/>
              <a:ext cx="70056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213"/>
                  </a:moveTo>
                  <a:cubicBezTo>
                    <a:pt x="1341" y="7859"/>
                    <a:pt x="6481" y="21600"/>
                    <a:pt x="8062" y="21112"/>
                  </a:cubicBezTo>
                  <a:cubicBezTo>
                    <a:pt x="9642" y="20624"/>
                    <a:pt x="7263" y="4520"/>
                    <a:pt x="9514" y="2260"/>
                  </a:cubicBezTo>
                  <a:cubicBezTo>
                    <a:pt x="11765" y="0"/>
                    <a:pt x="19588" y="6677"/>
                    <a:pt x="21600" y="7551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-25560" y="2276640"/>
            <a:ext cx="5749560" cy="431640"/>
            <a:chOff x="-25560" y="2276640"/>
            <a:chExt cx="5749560" cy="431640"/>
          </a:xfrm>
        </p:grpSpPr>
        <p:sp>
          <p:nvSpPr>
            <p:cNvPr id="62" name=""/>
            <p:cNvSpPr/>
            <p:nvPr/>
          </p:nvSpPr>
          <p:spPr>
            <a:xfrm>
              <a:off x="-25560" y="2392920"/>
              <a:ext cx="5177520" cy="360"/>
            </a:xfrm>
            <a:prstGeom prst="line">
              <a:avLst/>
            </a:prstGeom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5152320" y="2276640"/>
              <a:ext cx="571680" cy="43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213"/>
                  </a:moveTo>
                  <a:cubicBezTo>
                    <a:pt x="1341" y="7859"/>
                    <a:pt x="6481" y="21600"/>
                    <a:pt x="8062" y="21112"/>
                  </a:cubicBezTo>
                  <a:cubicBezTo>
                    <a:pt x="9642" y="20624"/>
                    <a:pt x="7263" y="4520"/>
                    <a:pt x="9514" y="2260"/>
                  </a:cubicBezTo>
                  <a:cubicBezTo>
                    <a:pt x="11765" y="0"/>
                    <a:pt x="19588" y="6677"/>
                    <a:pt x="21600" y="7551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"/>
              </a:rPr>
              <a:t>基础会计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84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章  成本计算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成本计算完整例题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某企业生产两种产品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份的相关资料如下：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）材料情况（采用先进先出法）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结存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，单价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元；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生产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产品领用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；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购进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，单价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1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元；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购进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，单价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115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元；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日，生产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产品领用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件。</a:t>
            </a:r>
            <a:endParaRPr b="1" lang="en-US" sz="2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成本计算完整例题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月份工资情况：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生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工人工资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2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生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工人工资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8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车间管理人员工资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设备使用情况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计提设备（既可以生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也可以生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）折旧费用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成本计算完整例题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工时情况：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工时，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工时；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完工情况：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期初在产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本月投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本月完工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在产品平均完工程度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期初在产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本月投产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本月完工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件，在产品平均完工程度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0%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；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期初在产品情况：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期初在产品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0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；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期初在产品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0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元。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材料的会计处理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原材料        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原材料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银行存款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原材料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银行存款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4 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原材料           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64 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832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工资及设备折旧的会计处理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2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             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8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制造费用         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应付职工薪酬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制造费用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累计折旧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 000  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 2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              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7 8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制造费用          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3 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产品成本计算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期初在产品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60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本期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10000+12000+5200=272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生产费用合计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872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期末在产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约当产量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00+400-5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×50%=5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完工产品单位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87200÷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0+5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59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完工产品总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500×159=79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产品成本计算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期初在产品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500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本期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64500+8000+7800=803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生产费用合计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1303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期末在产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约当产量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+300-20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×30%=6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完工产品单位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130300÷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200+60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）≈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501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完工产品总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=200×501=1002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6360" y="43920"/>
            <a:ext cx="6626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产品完工入库的会计处理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6720" y="1197000"/>
            <a:ext cx="82900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借：库存商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79 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              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 200 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贷：生产成本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79 500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                            ——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产品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100 200 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4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22:52:48Z</dcterms:created>
  <dc:creator/>
  <dc:description/>
  <dc:language>en-US</dc:language>
  <cp:lastModifiedBy>island</cp:lastModifiedBy>
  <cp:lastPrinted>1899-12-30T00:00:00Z</cp:lastPrinted>
  <dcterms:modified xsi:type="dcterms:W3CDTF">2014-05-29T06:38:00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