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09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9250-1099-4993-9C1B-5005D75E4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18960" y="339624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5B35-6C57-4778-B559-314065D9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3600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E945-27F1-4198-B34E-BA20F29A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0140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8384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1896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0140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8384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5053-F301-4ED0-8F40-780A0D57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2613-2AF1-497B-85E6-8386BD7B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9277-0BE4-42AB-86BD-44F3160D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DF0B-14EB-4E61-B0D2-3A644C68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0C85-5B6F-4D67-BD65-87FE56E4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9382-BAFC-4048-B1EA-A3A97900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1625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B95B-74A7-4D31-9A86-F7DD82BD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419C-1635-439A-857B-447317D6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4F60-3527-4DCE-ADA9-19C6F808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3600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5814-811F-404F-A119-13AFDDE4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DF88-F9BC-4E3C-8453-D7C03193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60" y="339624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A7B0-BB11-49A1-9CEA-AA223562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3600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1982-DC7D-4239-B071-D14BD456F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0140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88384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1896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0140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88384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AC2A-B88C-4193-A9CB-8D2333685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2F928-7F22-4F8A-A095-F8DB14F3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3BF51-D770-4842-9A36-F74DDC1A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42FFD-060A-41B5-BE53-395F3BE1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900BB-4CBA-4D35-AEFC-B70E8E06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63AE3-0786-4EA6-BDC7-4D8B44AD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7A45-A987-4BD0-BECE-4E604F51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1625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FABE7-C67F-40C2-B92B-64C3A411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7614C-5943-472D-A598-25A1957B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3600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EFC06-1C5E-4A1C-A4EC-410BDBCB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F424B-913F-425F-8D0C-9FD8F27D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8960" y="339624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65623-AAE0-4743-A378-974130B4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3600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54737-3102-4BBE-8B70-DDCD02083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0140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88384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1896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0140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88384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42FC5-B1EF-4DC9-B54F-40C43BBAB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4384E-CE79-45BC-A560-24781494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EB5B6-7206-424E-944C-DA3AB011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59632-287D-4716-B5B1-35D7127D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DA92-1EDE-4990-97B9-608E0474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B18EC-9D11-48A2-B0ED-2A9E1881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7A6B0-9BDF-4BC5-BED4-BCFCD615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1625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AE7A4-A56E-4CE9-9C6D-0CC18BF3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DFC57-2AD5-4331-BFBB-56765567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3600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10534-D0E5-4E1B-B6AD-39B3D0AA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EBACD-B387-4A2A-B1A3-FF8126E1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18960" y="339624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2BC37-9381-4C97-9417-5747A6A4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3600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85D23-DF59-4333-84BB-D68EE04F5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10140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88384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1896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10140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88384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928A7-533D-4E87-A41F-8554FE82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BB3B-6565-4910-AD4A-804CF40E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1625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56A4-249B-46B4-9CB0-310B02DC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AB76-19C3-4223-B11B-D821052C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3600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E175-D747-4796-B7D9-EFC47C2A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D8EF-1873-4C5D-995D-ACC5AFF9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5791320"/>
            <a:ext cx="2133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5791320"/>
            <a:ext cx="289584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5791320"/>
            <a:ext cx="2133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CF76-5B4E-4BB6-A731-8889731B3D1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20" descr="png-1835"/>
          <p:cNvPicPr/>
          <p:nvPr/>
        </p:nvPicPr>
        <p:blipFill>
          <a:blip r:embed="rId3"/>
          <a:stretch/>
        </p:blipFill>
        <p:spPr>
          <a:xfrm>
            <a:off x="7797960" y="763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2" descr="92"/>
          <p:cNvPicPr/>
          <p:nvPr/>
        </p:nvPicPr>
        <p:blipFill>
          <a:blip r:embed="rId4"/>
          <a:srcRect l="26151" t="28126" r="42945" b="55469"/>
          <a:stretch/>
        </p:blipFill>
        <p:spPr>
          <a:xfrm>
            <a:off x="-69840" y="-31680"/>
            <a:ext cx="1974960" cy="15937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8" descr="8"/>
          <p:cNvPicPr/>
          <p:nvPr/>
        </p:nvPicPr>
        <p:blipFill>
          <a:blip r:embed="rId5"/>
          <a:stretch/>
        </p:blipFill>
        <p:spPr>
          <a:xfrm>
            <a:off x="7115040" y="3352680"/>
            <a:ext cx="2028960" cy="274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5791320"/>
            <a:ext cx="2133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5791320"/>
            <a:ext cx="289584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5791320"/>
            <a:ext cx="2133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F564-E917-4A69-B577-6AA26785DC0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0" descr="png-1823"/>
          <p:cNvPicPr/>
          <p:nvPr/>
        </p:nvPicPr>
        <p:blipFill>
          <a:blip r:embed="rId3"/>
          <a:stretch/>
        </p:blipFill>
        <p:spPr>
          <a:xfrm>
            <a:off x="7899480" y="21600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92"/>
          <p:cNvPicPr/>
          <p:nvPr/>
        </p:nvPicPr>
        <p:blipFill>
          <a:blip r:embed="rId4"/>
          <a:srcRect l="26151" t="28126" r="42945" b="55469"/>
          <a:stretch/>
        </p:blipFill>
        <p:spPr>
          <a:xfrm>
            <a:off x="-69840" y="-69840"/>
            <a:ext cx="1974960" cy="1593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8"/>
          <p:cNvPicPr/>
          <p:nvPr/>
        </p:nvPicPr>
        <p:blipFill>
          <a:blip r:embed="rId5"/>
          <a:stretch/>
        </p:blipFill>
        <p:spPr>
          <a:xfrm>
            <a:off x="7115040" y="3352680"/>
            <a:ext cx="2028960" cy="274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5791320"/>
            <a:ext cx="2133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5791320"/>
            <a:ext cx="289584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5791320"/>
            <a:ext cx="2133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533E-66D0-48AB-B9F3-808854D3BD6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0" descr="92"/>
          <p:cNvPicPr/>
          <p:nvPr/>
        </p:nvPicPr>
        <p:blipFill>
          <a:blip r:embed="rId3"/>
          <a:srcRect l="26151" t="28126" r="42945" b="55469"/>
          <a:stretch/>
        </p:blipFill>
        <p:spPr>
          <a:xfrm>
            <a:off x="-69840" y="-69840"/>
            <a:ext cx="1974960" cy="1593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中国风图标下载50"/>
          <p:cNvPicPr/>
          <p:nvPr/>
        </p:nvPicPr>
        <p:blipFill>
          <a:blip r:embed="rId4"/>
          <a:stretch/>
        </p:blipFill>
        <p:spPr>
          <a:xfrm rot="850200">
            <a:off x="7608960" y="289080"/>
            <a:ext cx="1305000" cy="1304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8"/>
          <p:cNvPicPr/>
          <p:nvPr/>
        </p:nvPicPr>
        <p:blipFill>
          <a:blip r:embed="rId5"/>
          <a:stretch/>
        </p:blipFill>
        <p:spPr>
          <a:xfrm>
            <a:off x="7115040" y="3352680"/>
            <a:ext cx="2028960" cy="274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QQ截图未命名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0958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56840" y="555120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5551200"/>
            <a:ext cx="28958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552720" y="555120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B977-5F28-42EB-8949-AAA52FA69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57150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   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 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 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   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6386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   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30680" y="556272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68120"/>
            <a:ext cx="82072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224000"/>
            <a:ext cx="8424720" cy="42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zh-TW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zh-TW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7286760" y="297000"/>
            <a:ext cx="1388880" cy="309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4"/>
          <p:cNvSpPr/>
          <p:nvPr/>
        </p:nvSpPr>
        <p:spPr>
          <a:xfrm>
            <a:off x="541440" y="3753000"/>
            <a:ext cx="8281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1T14:07:31Z</dcterms:created>
  <dc:creator>Rhea</dc:creator>
  <dc:description>www.nordridesign.cn</dc:description>
  <dc:language>en-US</dc:language>
  <cp:lastModifiedBy>User</cp:lastModifiedBy>
  <dcterms:modified xsi:type="dcterms:W3CDTF">2015-01-08T06:51:27Z</dcterms:modified>
  <cp:revision>37</cp:revision>
  <dc:subject/>
  <dc:title>PowerPoint Presentation Chinese Sty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