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EE6-DA48-4A1B-8736-99AB94C7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755-A7FE-4652-87E2-EF9CFE93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695-EE1F-4DEF-96E4-08176D97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BDB-2D50-491F-99E8-F0618783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3BC-9BEA-478F-9EC3-61B69D60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D18-06D5-4B04-8480-F07FAB20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03F-2DFE-4E14-BAFF-DC41FC77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45A-E975-478F-A0CC-DCE0F584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3D1-6EAE-4796-A4A0-ED3FFAC8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A9B-DBCF-4E52-9B93-9F8B407D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4D2-D835-4BDD-93C6-87D3D0AE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59F-38F5-40D0-BC39-A0CAEB0D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C502-B2C5-47EB-BCEB-1A585256B6D6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d8601e"/>
                </a:solidFill>
                <a:latin typeface="Calibri"/>
                <a:ea typeface="宋体"/>
              </a:rPr>
              <a:t>金黄色国外</a:t>
            </a:r>
            <a:r>
              <a:rPr b="0" lang="zh-CN" sz="3000" spc="-1" strike="noStrike">
                <a:solidFill>
                  <a:srgbClr val="d8601e"/>
                </a:solidFill>
                <a:latin typeface="Calibri"/>
                <a:ea typeface="宋体"/>
              </a:rPr>
              <a:t>PPT</a:t>
            </a:r>
            <a:r>
              <a:rPr b="0" lang="fr-CA" sz="3000" spc="-1" strike="noStrike">
                <a:solidFill>
                  <a:srgbClr val="d8601e"/>
                </a:solidFill>
                <a:latin typeface="Calibri"/>
                <a:ea typeface="宋体"/>
              </a:rPr>
              <a:t>模板下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541a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541a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541a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541a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c5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bc541a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95840" y="6381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1:44:35Z</dcterms:created>
  <dc:creator/>
  <dc:description/>
  <dc:language>en-US</dc:language>
  <cp:lastModifiedBy>微软用户</cp:lastModifiedBy>
  <dcterms:modified xsi:type="dcterms:W3CDTF">2015-01-08T07:02:0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